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B2C-9261-4E05-80D5-72A06E36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D90-EF79-47C2-ADC2-8FA4D11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DB2-B02B-47E7-8B20-8602A56F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CCC-5CBE-482E-AB35-F4B9DE02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060-4851-416E-AC36-DE88AF50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425-2AAE-48DD-B772-92120AAC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D16-7A1A-46C0-A7F6-E1803A52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0D6-6636-4893-B8CA-1D3E73C7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0A9-6678-464A-AE02-DFA04F66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741-0803-4B42-8039-D4B9781A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036-C8F1-4803-B86F-E15F14A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406-4EB9-4BE4-AEF3-1F84241F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78B2-7164-4979-9A5C-726029275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Documents%20and%20Settings/new/Desktop/UBD%2011/12/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Documents%20and%20Settings/new/Desktop/UBD%2011/12/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26:12Z</dcterms:modified>
  <cp:revision>11</cp:revision>
  <dc:subject/>
  <dc:title>February 21, 2008</dc:title>
</cp:coreProperties>
</file>