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ED5-9332-410C-90AA-EC950799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843-35E0-4D2F-B13B-B514148F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A2C-69B9-4CE3-99EA-3B28D815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A45-D2A6-4614-AF38-BF2F5DE8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34C-7A36-417D-A8BB-28710960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254-C891-45A5-BD1B-FDB7F81F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7AD-DE21-4743-A3B6-BFA8201D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8BF-7AD2-41A0-92F9-288A40D3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B9E-F027-4085-A68A-A7C69A76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86A-BCA0-4C49-A1B0-36817C3F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C11-4788-4E23-9DD9-5A3B5E24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CFA-4F12-4994-A6D7-1B7B99E0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A6E6-7DF5-45C3-BEFF-C77AC86C7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Documents%20and%20Settings/new/Desktop/UBD%2011/12/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Documents%20and%20Settings/new/Desktop/UBD%2011/12/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81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84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7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ake your lesson and put it in 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ghlight the MU’s/expectations that you think would be in that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ainstorm evidence of learning for those MU’s/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ketch lesson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lections on lessons – place on discussion (wiki..wiki..wiki)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ass reflection (t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et UBD handouts and look over what is expected – complete UBD cover sheet draft for nex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6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6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6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Monica Daigler</cp:lastModifiedBy>
  <dcterms:modified xsi:type="dcterms:W3CDTF">2009-03-11T15:26:12Z</dcterms:modified>
  <cp:revision>11</cp:revision>
  <dc:subject/>
  <dc:title>February 21, 2008</dc:title>
</cp:coreProperties>
</file>