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FEE-6555-4440-A2A3-694741BE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C3A-143E-48D2-9206-002E4671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8CEB-3532-41A5-AF9F-78B598CB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AEAA-919D-4451-86DC-AA603E5D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85BD-6D94-401A-91E6-75A5877F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A8AB-9B25-43C5-B5F6-5A0EBAA2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D8E-F5EC-4BD9-A8B9-44EA9A9C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4D1-972B-41FC-A6D9-317B55AE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A0D-EA50-43FB-8A50-BCE29CE2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396-EFD1-4294-9760-F8F778E9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66E-3A04-4BD4-92B0-B85C0EAF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8F7-24B7-4F45-B3AD-DA76E11F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F81B-0A59-4825-B060-746E8EE28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Documents%20and%20Settings/new/Desktop/UBD%2011/12/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Documents%20and%20Settings/new/Desktop/UBD%2011/12/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ake out your lesson plan and any other materials you might hav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lf-assess based on rubric passed out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eer assess based on same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t UBD handouts and look over what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ick date to teach lesson (30-45 minutes) – 5/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nacks??  Beverage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rgu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rgue abou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t the heart of the su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cur - in professional work, adult life, as well as in classroom inqui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– provoking and sustaining engaged inqui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raise important conceptual or philosophical iss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organizing purpose for meaningful &amp; connected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my true friends - and how do I know for 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“rational” is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 good read differ from a ‘great book’? Why are some books fads, and others classic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at extent is geography destin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n axiom be obviou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fferent is a scientific theory from a plausible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government’s proper r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81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917640" y="2978280"/>
            <a:ext cx="7616880" cy="1462320"/>
            <a:chOff x="917640" y="2978280"/>
            <a:chExt cx="7616880" cy="1462320"/>
          </a:xfrm>
        </p:grpSpPr>
        <p:sp>
          <p:nvSpPr>
            <p:cNvPr id="84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17640" y="3254400"/>
              <a:ext cx="7616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87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616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 –  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 fields ask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key complex performance tasks indicative of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ther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collected to build the case for understanding, knowledge, and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ubrics will be used to assess complex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53280" y="29718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29600" y="4572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5334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785960" cy="1898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id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should be credible &amp; help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ications: the assessments should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grounded in real-world application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lemented as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more traditional schoo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useful feedback to the learner, be transparent, and minimize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valid, reliable - aligned with the desired results of Stage 1 (and f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37400" y="304920"/>
            <a:ext cx="143028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Understanding via the 6 fac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stand when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or adapt it to nove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its author/speaker s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Reliability &amp; Sufficienc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Variety of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d types, over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tasks an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exam questions, prompts,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 and test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checks for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elf-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 – Plan Learning Experiences &amp;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7440" y="1447920"/>
            <a:ext cx="79866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cus on engaging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learning, “designed i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learning experiences and instruction will promote the desired understanding, knowledge and skill of Stage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the design ensure that all students are maximally engaged and effective at meeting the go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2286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f your obligations v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. H. E. R. E. T. 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34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re are we headed?”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Q!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w will the student be ‘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oked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opportunities will there be to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ipped, and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erienc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lore key ide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will provide opportunities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think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hearse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fin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i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student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aluate thei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ilored to individual needs, interests, sty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ganized for maximal engagement and effectiv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680" y="1447560"/>
            <a:ext cx="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057040"/>
            <a:ext cx="58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2680" y="26665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2680" y="41587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33523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1960" y="4719240"/>
            <a:ext cx="4993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2320" y="5333760"/>
            <a:ext cx="557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ake your lesson and put it in a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ghlight the MU’s/expectations that you think would be in that un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rainstorm evidence of learning for those MU’s/expec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ketch lesson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Look at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e PLE Form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4956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Lessons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lf-Assess (5-1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er– Assess (3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flections on lessons – place on discussion (wiki..wiki..wiki)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ass reflection (t-b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et UBD handouts and look over what is expected – complete UBD cover sheet draft for next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Plann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BD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look at unit cov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2133720"/>
            <a:ext cx="838440" cy="4038480"/>
          </a:xfrm>
          <a:custGeom>
            <a:avLst/>
            <a:gdLst>
              <a:gd name="textAreaLeft" fmla="*/ 112320 w 838440"/>
              <a:gd name="textAreaRight" fmla="*/ 726120 w 83844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8001000" y="1905120"/>
            <a:ext cx="838080" cy="4038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 Ale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k i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doesn’t matter where you start as long as the final design is coherent (all elements align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ing one element or Stage often forces changes to an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o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“blueprint” is logical but the process is non-linear (think: home improveme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56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76040" y="2000160"/>
            <a:ext cx="93898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03040" y="4114800"/>
            <a:ext cx="9423360" cy="447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You’ve got to g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below the surfac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533520" y="1828800"/>
            <a:ext cx="6476400" cy="914040"/>
            <a:chOff x="533520" y="1828800"/>
            <a:chExt cx="6476400" cy="914040"/>
          </a:xfrm>
        </p:grpSpPr>
        <p:sp>
          <p:nvSpPr>
            <p:cNvPr id="64" name=""/>
            <p:cNvSpPr/>
            <p:nvPr/>
          </p:nvSpPr>
          <p:spPr>
            <a:xfrm>
              <a:off x="533520" y="1828800"/>
              <a:ext cx="6385680" cy="914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7520" y="1893240"/>
              <a:ext cx="6242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69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, elab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21:59:14Z</dcterms:created>
  <dc:creator>Monica Burgio</dc:creator>
  <dc:description/>
  <dc:language>en-US</dc:language>
  <cp:lastModifiedBy>Monica Daigler</cp:lastModifiedBy>
  <dcterms:modified xsi:type="dcterms:W3CDTF">2009-03-11T15:26:12Z</dcterms:modified>
  <cp:revision>11</cp:revision>
  <dc:subject/>
  <dc:title>February 21, 2008</dc:title>
</cp:coreProperties>
</file>