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53F-9B87-4981-9E19-AD4F2B01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A07-28B3-40E1-BDF6-9D859B57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9B1-7D45-419B-8A3C-A02762D3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2EA-29FA-4E48-BC4D-F4AE1A53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508-695A-4DE6-B7D4-DB601049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9D9-7667-4E8B-8899-46CA0EB3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F0E-DC7C-4172-9929-AF35CF2D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694-83EF-45CA-87A2-014FA026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7AA-9086-4D97-A2AE-FB391131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C5B-6C01-4913-9B96-9AF68530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D8B-0199-4465-8F87-2A1173C7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408-0EC9-44D0-A2D0-D623FEB6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96FC-1C52-42DB-9903-0A92761F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Documents%20and%20Settings/new/Desktop/UBD%2011/12/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Documents%20and%20Settings/new/Desktop/UBD%2011/12/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26:12Z</dcterms:modified>
  <cp:revision>11</cp:revision>
  <dc:subject/>
  <dc:title>February 21, 2008</dc:title>
</cp:coreProperties>
</file>