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2C422-5025-4F3E-8F8F-189D8C67B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07ED1-5593-4162-A1F7-5EF65270D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315DC-EE1D-40E4-ADE0-204C72D77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01ADD-E6E8-4E19-8E8C-388C05FCA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7F033-564B-4B93-816D-B90F94DF4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9484C-F718-438A-909A-40982E2D4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8EA2-8FE8-4DD1-9817-53EFBA7ED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800A2-E743-44F2-B094-6EEC93152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F667C-1DC7-49E6-9B62-BFC5A5CFB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38F2-396C-4BAE-AF07-26C0A0A9C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7098-1323-4D8A-99BF-0112DC11A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B583-04B1-4FF0-8AED-03942D248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A462-7571-445F-A1EC-E0FFA93D9D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before April 16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class (video tapes needed) reflections due by May 4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Daigler</cp:lastModifiedBy>
  <dcterms:modified xsi:type="dcterms:W3CDTF">2009-03-24T23:25:52Z</dcterms:modified>
  <cp:revision>32</cp:revision>
  <dc:subject/>
  <dc:title>Slide 1</dc:title>
</cp:coreProperties>
</file>