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D63-FF45-470A-9345-20E71115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5E6-58C7-45B8-B720-FD04B75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345-B793-49FD-BD75-13829E72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355-90BA-4E58-8A3B-5BF05572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483-4075-40CE-895A-15E0AF0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CAA-5F90-421F-BC1E-4692A2A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ED0-36CC-406B-B47C-5B744FF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594-546F-4830-82BC-47106D35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3C6-E86D-4C4F-B74C-6E9F73C8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740-761C-42F6-A3B0-6A79D93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9BD-FB82-49A0-9372-629D6D9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A15-E982-4C3D-BA38-2D8D9CB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CC4-9652-4468-8FF2-2186F2C3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75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0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92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95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98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4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Erie 1 Staff-Mobile Labs</cp:lastModifiedBy>
  <dcterms:modified xsi:type="dcterms:W3CDTF">2008-09-25T15:54:31Z</dcterms:modified>
  <cp:revision>8</cp:revision>
  <dc:subject/>
  <dc:title>February 21, 2008</dc:title>
</cp:coreProperties>
</file>