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969-1161-422A-A00A-0A610D19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2CD-6ED0-47DB-AAEA-E22488E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064-9A5D-41F0-8A1D-E3EBD4AE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16A-4336-4100-B982-8B95D7A9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BF2-C381-4213-ACA8-8F2447DE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7D2-DDBC-4300-B8A6-16FA562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1C5-A3FD-460A-B25F-D43668F9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3F8-562C-4F01-8C93-2676C88E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344-0E63-4CBE-AE28-F49EB69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8D5-BFCB-4ED9-BFC8-2E02D83E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8B2-6522-4065-9E85-AA2B428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B12-262E-44D3-86A6-36E5B33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481C-3276-4F7A-A08D-EBBB883F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75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0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92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95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98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Erie 1 Staff-Mobile Labs</cp:lastModifiedBy>
  <dcterms:modified xsi:type="dcterms:W3CDTF">2008-09-25T15:54:31Z</dcterms:modified>
  <cp:revision>8</cp:revision>
  <dc:subject/>
  <dc:title>February 21, 2008</dc:title>
</cp:coreProperties>
</file>