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DE40-A558-4554-8641-DF0BF75A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0CC-871A-40BD-94D5-E7BF6B12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FD0-9DA1-45A5-8CD2-B16706D0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ECE9-9788-483E-B0CD-2C258BD1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6069-F802-4570-AD46-EA863DFA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FB6-1D93-4DED-8E7B-A89A804D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D51-B1CE-438D-9491-19735103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9AA9-9A38-4A11-B200-2D02C87E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632E-6C12-4F16-ABEB-0BE8BD2E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395-1FA7-4288-A554-24CE5B63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FE8-5735-4A26-B353-5ED92E08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26B-ACC9-46E3-BD8F-45797BC1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4869-4764-4804-839C-AEE4D2BF9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ake out your lesson plan and any other materials you might hav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lf-assess based on rubric passed out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eer assess based on same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et UBD handouts and look over what i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ick date to teach lesson (30-45 minutes) – 5/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nacks??  Beverage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533520" y="1828800"/>
            <a:ext cx="6476400" cy="914040"/>
            <a:chOff x="533520" y="1828800"/>
            <a:chExt cx="6476400" cy="914040"/>
          </a:xfrm>
        </p:grpSpPr>
        <p:sp>
          <p:nvSpPr>
            <p:cNvPr id="75" name=""/>
            <p:cNvSpPr/>
            <p:nvPr/>
          </p:nvSpPr>
          <p:spPr>
            <a:xfrm>
              <a:off x="533520" y="1828800"/>
              <a:ext cx="6385680" cy="9140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7520" y="1893240"/>
              <a:ext cx="6242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1. Identify desired resu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73160" y="2978280"/>
            <a:ext cx="7378560" cy="105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7640" y="3254400"/>
            <a:ext cx="76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2. Determine acceptable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80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, elab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5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rgu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rgue abou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t the heart of the su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cur - in professional work, adult life, as well as in classroom inqui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s – provoking and sustaining engaged inqui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raise important conceptual or philosophical iss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vide organizing purpose for meaningful &amp; connected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my true friends - and how do I know for 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“rational” is the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a good read differ from a ‘great book’? Why are some books fads, and others classic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hat extent is geography destin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an axiom be obvious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fferent is a scientific theory from a plausible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government’s proper r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9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533520" y="1828800"/>
            <a:ext cx="6324480" cy="762120"/>
            <a:chOff x="533520" y="1828800"/>
            <a:chExt cx="6324480" cy="762120"/>
          </a:xfrm>
        </p:grpSpPr>
        <p:sp>
          <p:nvSpPr>
            <p:cNvPr id="92" name=""/>
            <p:cNvSpPr/>
            <p:nvPr/>
          </p:nvSpPr>
          <p:spPr>
            <a:xfrm>
              <a:off x="533520" y="1828800"/>
              <a:ext cx="6235560" cy="762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20" y="1882800"/>
              <a:ext cx="6095880" cy="576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1. Identify desired resul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917640" y="2978280"/>
            <a:ext cx="7616880" cy="1462320"/>
            <a:chOff x="917640" y="2978280"/>
            <a:chExt cx="7616880" cy="1462320"/>
          </a:xfrm>
        </p:grpSpPr>
        <p:sp>
          <p:nvSpPr>
            <p:cNvPr id="95" name=""/>
            <p:cNvSpPr/>
            <p:nvPr/>
          </p:nvSpPr>
          <p:spPr>
            <a:xfrm>
              <a:off x="1073160" y="2978280"/>
              <a:ext cx="7378560" cy="1054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17640" y="3254400"/>
              <a:ext cx="7616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2. Determine acceptable eviden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98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6168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 –  Assessment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7560" y="1447920"/>
            <a:ext cx="798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late fields ask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key complex performance tasks indicative of understa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ther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collected to build the case for understanding, knowledge, and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ubrics will be used to assess complex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153280" y="29718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29600" y="4572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29600" y="5334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785960" cy="1898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id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should be credible &amp; helpf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ications: the assessments should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grounded in real-world application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pplemented as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more traditional schoo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useful feedback to the learner, be transparent, and minimize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valid, reliable - aligned with the desired results of Stage 1 (and f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37400" y="304920"/>
            <a:ext cx="1430280" cy="914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of Understanding via the 6 fac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stand when you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, connect, systematize, predi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ts meaning,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or adapt it to nove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one plausible perspective among others, question it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its author/speaker sa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nd point out common misconceptions, biases, or simplistic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798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Reliability &amp; Sufficienc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 Variety of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98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ed types, over ti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 tasks an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exam questions, prompts,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zes and test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checks for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self-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t’s Look at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e PLE Form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4956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Lessons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lf-Assess (5-1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eer– Assess (3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Planning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BD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look at unit cover 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2133720"/>
            <a:ext cx="838440" cy="4038480"/>
          </a:xfrm>
          <a:custGeom>
            <a:avLst/>
            <a:gdLst>
              <a:gd name="textAreaLeft" fmla="*/ 112320 w 838440"/>
              <a:gd name="textAreaRight" fmla="*/ 726120 w 83844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8001000" y="1905120"/>
            <a:ext cx="838080" cy="4038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onception Ale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k i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doesn’t matter where you start as long as the final design is coherent (all elements aligne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ing one element or Stage often forces changes to an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o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“blueprint” is logical but the process is non-linear (think: home improvemen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162920" y="152280"/>
            <a:ext cx="1371600" cy="1524960"/>
            <a:chOff x="7162920" y="152280"/>
            <a:chExt cx="1371600" cy="1524960"/>
          </a:xfrm>
        </p:grpSpPr>
        <p:sp>
          <p:nvSpPr>
            <p:cNvPr id="54" name=""/>
            <p:cNvSpPr/>
            <p:nvPr/>
          </p:nvSpPr>
          <p:spPr>
            <a:xfrm>
              <a:off x="7162920" y="152280"/>
              <a:ext cx="1371600" cy="129528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10760" y="242640"/>
              <a:ext cx="480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Garamond Bold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3 – Plan Learning Experiences &amp;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7440" y="1447920"/>
            <a:ext cx="79866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cus on engaging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learning, “designed i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learning experiences and instruction will promote the desired understanding, knowledge and skill of Stage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the design ensure that all students are maximally engaged and effective at meeting the go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1880" y="2286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f your obligations v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. H. E. R. E. T. 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834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re are we headed?”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(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’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Q!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w will the student be ‘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oked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opportunities will there be to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ipped, and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erienc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lore key ide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will provide opportunities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think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hearse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fin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vi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student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aluate thei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ilored to individual needs, interests, styl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ganized for maximal engagement and effectivenes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2680" y="1447560"/>
            <a:ext cx="6440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2320" y="2057040"/>
            <a:ext cx="586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2680" y="26665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2680" y="41587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2680" y="33523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5328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4719240"/>
            <a:ext cx="4993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2320" y="5333760"/>
            <a:ext cx="5572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176040" y="2000160"/>
            <a:ext cx="93898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203040" y="4114800"/>
            <a:ext cx="9423360" cy="447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0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You’ve got to g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below the surface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to uncover th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really ‘big ideas.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21:59:14Z</dcterms:created>
  <dc:creator>Monica Burgio</dc:creator>
  <dc:description/>
  <dc:language>en-US</dc:language>
  <cp:lastModifiedBy>Erie 1 Staff-Mobile Labs</cp:lastModifiedBy>
  <dcterms:modified xsi:type="dcterms:W3CDTF">2008-09-25T15:54:31Z</dcterms:modified>
  <cp:revision>8</cp:revision>
  <dc:subject/>
  <dc:title>February 21, 2008</dc:title>
</cp:coreProperties>
</file>