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1EF-A626-43DF-9684-6B249F9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782-C819-49EE-80F9-3B9FDB6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6C2-FD07-4A5C-B369-854192A7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AD4-365D-4EF6-A9AA-D12057DA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04C-0A06-414A-85DF-DE983767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D2F-7655-4C71-BEC3-3F1D060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13A-6D17-4DF0-A0B3-695C176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9DF-6CCF-41ED-BF4A-DD83F54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EB6-0E13-447C-9C4C-B98132A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C0A-0BF3-4B79-81F3-220F9D6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C40-2844-4F12-A21C-C554944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92B-DD9E-4D53-80B3-F58C98D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BE6-73EB-481E-98E9-2EF1E8E4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75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0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92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95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98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Erie 1 Staff-Mobile Labs</cp:lastModifiedBy>
  <dcterms:modified xsi:type="dcterms:W3CDTF">2008-09-25T15:54:31Z</dcterms:modified>
  <cp:revision>8</cp:revision>
  <dc:subject/>
  <dc:title>February 21, 2008</dc:title>
</cp:coreProperties>
</file>