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C1613-2AD8-4260-8563-C90C32CA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C78D-E773-449E-B2DC-D15FF2721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45C3D-B033-4439-AB29-E108F9296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1CD4-84EC-4047-9287-7C9D6AEB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6F06-26BB-49FA-813E-F7A4F6CD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CC35-FA40-4E6E-83CE-977317C00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33D7-92E2-49B0-B639-DBEFE050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DEFA4-4C52-4767-95B5-D83995AB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94E6D-2B48-4398-A3D7-F67826EA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E73E-AE8B-4D3F-A6EB-6B0FF5BF0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0B2A-4DC9-4905-AF1A-C8E492274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CE52-99D4-4BAD-A5CE-8863FA24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2D26-45E7-4565-9781-6FE35DECC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November 13</a:t>
            </a:r>
            <a:r>
              <a:rPr b="0" lang="en-US" sz="3200" spc="-1" strike="noStrike" baseline="30000">
                <a:solidFill>
                  <a:srgbClr val="000000"/>
                </a:solidFill>
                <a:latin typeface="Arial"/>
              </a:rPr>
              <a:t>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in class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two classes (video tapes needed) reflections due by December 11</a:t>
            </a:r>
            <a:r>
              <a:rPr b="0" lang="en-US" sz="3200" spc="-1" strike="noStrike" baseline="30000">
                <a:solidFill>
                  <a:srgbClr val="000000"/>
                </a:solidFill>
                <a:latin typeface="Arial"/>
              </a:rPr>
              <a:t>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Burgio</cp:lastModifiedBy>
  <dcterms:modified xsi:type="dcterms:W3CDTF">2008-10-28T21:05:08Z</dcterms:modified>
  <cp:revision>31</cp:revision>
  <dc:subject/>
  <dc:title>Slide 1</dc:title>
</cp:coreProperties>
</file>