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3CABA-7643-412E-B718-A10E76FC0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5222F-41C4-48CF-BCFF-A85BBEB69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A7CD6-7252-412C-9751-424FD4031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54557-1E90-44A7-B2EF-AF39E4BC6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91128-DEAB-4CE2-A3F5-38D9D7D0A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0B0F-A4F7-4F1F-9E8C-52D1179E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6CD99-E4F2-4606-A8DB-C83110F4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8E75-A833-4D1B-8103-834B7F358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02B4-1827-473D-8BA6-9D1E2739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C870-FF07-4E0C-A21D-E26AFE29B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107A-C7C0-45AD-809A-8A193720D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C68B-CD77-4BC6-9523-991FDA43F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1AA5-2BB0-49C8-A29F-0F962FC6A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November 13</a:t>
            </a:r>
            <a:r>
              <a:rPr b="0" lang="en-US" sz="3200" spc="-1" strike="noStrike" baseline="30000">
                <a:solidFill>
                  <a:srgbClr val="000000"/>
                </a:solidFill>
                <a:latin typeface="Arial"/>
              </a:rPr>
              <a:t>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in class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two classes (video tapes needed) reflections due by December 11</a:t>
            </a:r>
            <a:r>
              <a:rPr b="0" lang="en-US" sz="3200" spc="-1" strike="noStrike" baseline="30000">
                <a:solidFill>
                  <a:srgbClr val="000000"/>
                </a:solidFill>
                <a:latin typeface="Arial"/>
              </a:rPr>
              <a:t>t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Burgio</cp:lastModifiedBy>
  <dcterms:modified xsi:type="dcterms:W3CDTF">2008-10-28T21:05:08Z</dcterms:modified>
  <cp:revision>31</cp:revision>
  <dc:subject/>
  <dc:title>Slide 1</dc:title>
</cp:coreProperties>
</file>