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2F4-844B-4532-A6E5-EE5EAD3F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B2C-21C8-4CDB-8C97-B8CA924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21C-1670-44F5-9AFA-8E9A939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3F5-035A-403E-B545-4676918A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1F8-FE28-48D2-AB5E-F14990BB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FDC-DF8E-4741-849F-8AF5A5C9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7C0-612F-41B5-8379-8C0CE4B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11C-CA4C-4AAE-A638-640DC11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99B-B8E8-40DB-95C9-D4EB054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DB5-34D6-4FD6-B152-1B4811F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390-D746-4564-8FFD-2616886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91F-437E-4463-8883-13B57FE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8AE3-999E-464A-A7EB-D2C32F9E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1:38Z</dcterms:modified>
  <cp:revision>11</cp:revision>
  <dc:subject/>
  <dc:title>February 21, 2008</dc:title>
</cp:coreProperties>
</file>