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EF30-9E3E-4BB4-AA58-72F98C77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6CE7-6C2C-4A78-AD5C-C9E13EFF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0390-82EC-405E-BE37-EAE433C6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6378-DF4C-4ECA-99E0-4DB112E9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DCD9-8560-4D0F-91DE-E86DCF55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E7FB-A90A-42C3-82E7-8D9CB8E3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05F4-DBF3-4A1E-BBA2-FD7EEE1C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58EE-9969-49E9-9354-ACFD68FE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507-1A18-4C06-AA89-543AC9DA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1AB8-1E0C-481E-B22B-E97D00BB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1D2-74CE-4433-BBFE-3C59B766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D692-B1BE-4506-8DAB-438A1CA2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3E34-BD4C-403C-9BFC-5B55D2C81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../UBD%2011%2F12%2F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../UBD%2011%2F12%2F99/Portfolios%2099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ake out your lesson plan and any other materials you might hav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lf-assess based on rubric passed out b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eer assess based on same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et UBD handouts and look over what is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ick date to teach lesson (30-45 minutes) – 5/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nacks??  Beverage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5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rgu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rgue abou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t the heart of the su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 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cur - in professional work, adult life, as well as in classroom inqui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stions – provoking and sustaining engaged inqui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raise important conceptual or philosophical iss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ovide organizing purpose for meaningful &amp; connected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Essential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re my true friends - and how do I know for 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“rational” is the mar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a good read differ from a ‘great book’? Why are some books fads, and others classic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hat extent is geography destin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an axiom be obvious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fferent is a scientific theory from a plausible bel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government’s proper r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7732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533520" y="1828800"/>
            <a:ext cx="6324480" cy="762120"/>
            <a:chOff x="533520" y="1828800"/>
            <a:chExt cx="6324480" cy="762120"/>
          </a:xfrm>
        </p:grpSpPr>
        <p:sp>
          <p:nvSpPr>
            <p:cNvPr id="81" name=""/>
            <p:cNvSpPr/>
            <p:nvPr/>
          </p:nvSpPr>
          <p:spPr>
            <a:xfrm>
              <a:off x="533520" y="1828800"/>
              <a:ext cx="6235560" cy="762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120" y="1882800"/>
              <a:ext cx="6095880" cy="576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1. Identify desired resul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917640" y="2978280"/>
            <a:ext cx="7616880" cy="1462320"/>
            <a:chOff x="917640" y="2978280"/>
            <a:chExt cx="7616880" cy="1462320"/>
          </a:xfrm>
        </p:grpSpPr>
        <p:sp>
          <p:nvSpPr>
            <p:cNvPr id="84" name=""/>
            <p:cNvSpPr/>
            <p:nvPr/>
          </p:nvSpPr>
          <p:spPr>
            <a:xfrm>
              <a:off x="1073160" y="2978280"/>
              <a:ext cx="7378560" cy="10540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17640" y="3254400"/>
              <a:ext cx="7616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2. Determine acceptable evidenc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87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6168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2 –  Assessment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7560" y="1447920"/>
            <a:ext cx="798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late fields ask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key complex performance tasks indicative of understan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ther ev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be collected to build the case for understanding, knowledge, and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ubrics will be used to assess complex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53280" y="29718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29600" y="4572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5334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50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1785960" cy="1898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id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St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idence should be credible &amp; helpfu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ications: the assessments should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grounded in real-world application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pplemented as 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more traditional school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useful feedback to the learner, be transparent, and minimize secre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valid, reliable - aligned with the desired results of Stage 1 (and f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37400" y="304920"/>
            <a:ext cx="1430280" cy="914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of Understanding via the 6 fac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stand when you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, connect, systematize, predi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its meaning,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or adapt it to nove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one plausible perspective among others, question its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t as its author/speaker saw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nd point out common misconceptions, biases, or simplistic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7560" y="228240"/>
            <a:ext cx="798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Reliability &amp; Sufficienc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a Variety of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9869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ed types, over ti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 tasks and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exam questions, prompts, 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zes and test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checks for understa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self-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7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5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 3 – Plan Learning Experiences &amp;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7440" y="1447920"/>
            <a:ext cx="79866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cus on engaging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learning, “designed i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learning experiences and instruction will promote the desired understanding, knowledge and skill of Stage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the design ensure that all students are maximally engaged and effective at meeting the go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1880" y="22860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of your obligations v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. H. E. R. E. T. 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834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re are we headed?”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(th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’s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Q!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w will the student be ‘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oked’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opportunities will there be to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uipped, and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erienc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plore key ide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 will provide opportunities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think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hearse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fine and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vi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student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aluate their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ilored to individual needs, interests, styl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w will the work b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ganized for maximal engagement and effectivenes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2680" y="1447560"/>
            <a:ext cx="6440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057040"/>
            <a:ext cx="586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2680" y="26665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2680" y="41587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2680" y="3352320"/>
            <a:ext cx="528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53280" y="76212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1960" y="4719240"/>
            <a:ext cx="4993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2320" y="5333760"/>
            <a:ext cx="5572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ake your lesson and put it in a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ighlight the MU’s/expectations that you think would be in that un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rainstorm evidence of learning for those MU’s/expec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ketch lesson sequ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t’s Look at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e PLE Form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49568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Lessons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lf-Assess (5-1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eer– Assess (30 minu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ek #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eflections on lessons – place on discussion (wiki..wiki..wiki)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ass reflection (t-b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Go through UB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Get UBD handouts and look over what is expected – complete UBD cover sheet draft for next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Planning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BD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t’s look at unit cover sh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2133720"/>
            <a:ext cx="838440" cy="4038480"/>
          </a:xfrm>
          <a:custGeom>
            <a:avLst/>
            <a:gdLst>
              <a:gd name="textAreaLeft" fmla="*/ 112320 w 838440"/>
              <a:gd name="textAreaRight" fmla="*/ 726120 w 83844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8001000" y="1905120"/>
            <a:ext cx="838080" cy="4038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cc3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onception Aler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k i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doesn’t matter where you start as long as the final design is coherent (all elements aligne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ying one element or Stage often forces changes to anoth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or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late “blueprint” is logical but the process is non-linear (think: home improvemen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162920" y="152280"/>
            <a:ext cx="1371600" cy="1524960"/>
            <a:chOff x="7162920" y="152280"/>
            <a:chExt cx="1371600" cy="1524960"/>
          </a:xfrm>
        </p:grpSpPr>
        <p:sp>
          <p:nvSpPr>
            <p:cNvPr id="56" name=""/>
            <p:cNvSpPr/>
            <p:nvPr/>
          </p:nvSpPr>
          <p:spPr>
            <a:xfrm>
              <a:off x="7162920" y="152280"/>
              <a:ext cx="1371600" cy="129528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10760" y="242640"/>
              <a:ext cx="480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Garamond Bold"/>
                </a:rPr>
                <a:t>!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76040" y="2000160"/>
            <a:ext cx="93898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203040" y="4114800"/>
            <a:ext cx="9423360" cy="447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04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You’ve got to g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Book Antiqua"/>
              </a:rPr>
              <a:t>below the surface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to uncover th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really ‘big ideas.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533520" y="1828800"/>
            <a:ext cx="6476400" cy="914040"/>
            <a:chOff x="533520" y="1828800"/>
            <a:chExt cx="6476400" cy="914040"/>
          </a:xfrm>
        </p:grpSpPr>
        <p:sp>
          <p:nvSpPr>
            <p:cNvPr id="64" name=""/>
            <p:cNvSpPr/>
            <p:nvPr/>
          </p:nvSpPr>
          <p:spPr>
            <a:xfrm>
              <a:off x="533520" y="1828800"/>
              <a:ext cx="6385680" cy="91404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7520" y="1893240"/>
              <a:ext cx="6242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ok Antiqua"/>
                </a:rPr>
                <a:t>1. Identify desired resu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073160" y="2978280"/>
            <a:ext cx="7378560" cy="1054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7640" y="3254400"/>
            <a:ext cx="761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777777"/>
                </a:solidFill>
                <a:latin typeface="Book Antiqua"/>
              </a:rPr>
              <a:t>2. Determine acceptable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911240" y="4508640"/>
            <a:ext cx="6769080" cy="1282680"/>
            <a:chOff x="1911240" y="4508640"/>
            <a:chExt cx="6769080" cy="1282680"/>
          </a:xfrm>
        </p:grpSpPr>
        <p:sp>
          <p:nvSpPr>
            <p:cNvPr id="69" name=""/>
            <p:cNvSpPr/>
            <p:nvPr/>
          </p:nvSpPr>
          <p:spPr>
            <a:xfrm>
              <a:off x="1911240" y="4508640"/>
              <a:ext cx="6769080" cy="128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81080" y="4654440"/>
              <a:ext cx="6629400" cy="106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3. Plan learning experienc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  </a:t>
              </a:r>
              <a:r>
                <a:rPr b="1" lang="en-US" sz="3200" spc="-1" strike="noStrike">
                  <a:solidFill>
                    <a:srgbClr val="777777"/>
                  </a:solidFill>
                  <a:latin typeface="Book Antiqua"/>
                </a:rPr>
                <a:t>&amp; instr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Stages of Design, elabo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62920" y="152280"/>
          <a:ext cx="165096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152280"/>
                    <a:ext cx="16509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21:59:14Z</dcterms:created>
  <dc:creator>Monica Burgio</dc:creator>
  <dc:description/>
  <dc:language>en-US</dc:language>
  <cp:lastModifiedBy>Monica Daigler</cp:lastModifiedBy>
  <dcterms:modified xsi:type="dcterms:W3CDTF">2009-03-11T15:21:38Z</dcterms:modified>
  <cp:revision>11</cp:revision>
  <dc:subject/>
  <dc:title>February 21, 2008</dc:title>
</cp:coreProperties>
</file>