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C0A2-6F15-461F-83F1-C6D8F49C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277B-9289-4228-8EE6-ADA0B94E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7525-7FC2-4889-B7E4-5C565D78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4313-8549-40A5-8B78-132F86AE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B066-A28B-48A2-B52B-AE767382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FCD3-9DA8-4D73-B198-47A57C90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2EF3-4D82-47BA-AC25-F5BBEA84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B83B-AEE7-4EF6-986C-C67AAD88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7733-48FB-43FE-A404-47512262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8D38-0454-4198-9CA4-4B4D0085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4E14-F811-4B00-995A-3A27BFE5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3792-46E4-4CB4-BE24-118C7C59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16A6-BC98-44C8-866C-ADBA20A68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../UBD%2011%2F12%2F99/Portfolios%2099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../UBD%2011%2F12%2F99/Portfolios%2099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ek #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ake out your lesson plan and any other materials you might hav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lf-assess based on rubric passed out b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eer assess based on same 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o through UB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et UBD handouts and look over what is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ick date to teach lesson (30-45 minutes) – 5/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nacks??  Beverage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5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question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rgu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rgue abou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t the heart of the su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 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cur - in professional work, adult life, as well as in classroom inqui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stions – provoking and sustaining engaged inqui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raise important conceptual or philosophical iss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rovide organizing purpose for meaningful &amp; connected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Essential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are my true friends - and how do I know for 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“rational” is the mark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a good read differ from a ‘great book’? Why are some books fads, and others classic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hat extent is geography destin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an axiom be obvious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fferent is a scientific theory from a plausible bel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government’s proper ro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9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533520" y="1828800"/>
            <a:ext cx="6324480" cy="762120"/>
            <a:chOff x="533520" y="1828800"/>
            <a:chExt cx="6324480" cy="762120"/>
          </a:xfrm>
        </p:grpSpPr>
        <p:sp>
          <p:nvSpPr>
            <p:cNvPr id="81" name=""/>
            <p:cNvSpPr/>
            <p:nvPr/>
          </p:nvSpPr>
          <p:spPr>
            <a:xfrm>
              <a:off x="533520" y="1828800"/>
              <a:ext cx="6235560" cy="762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120" y="1882800"/>
              <a:ext cx="6095880" cy="576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1. Identify desired resul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917640" y="2978280"/>
            <a:ext cx="7616880" cy="1462320"/>
            <a:chOff x="917640" y="2978280"/>
            <a:chExt cx="7616880" cy="1462320"/>
          </a:xfrm>
        </p:grpSpPr>
        <p:sp>
          <p:nvSpPr>
            <p:cNvPr id="84" name=""/>
            <p:cNvSpPr/>
            <p:nvPr/>
          </p:nvSpPr>
          <p:spPr>
            <a:xfrm>
              <a:off x="1073160" y="2978280"/>
              <a:ext cx="7378560" cy="10540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17640" y="3254400"/>
              <a:ext cx="76168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2. Determine acceptable evidenc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87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6168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ages of Desig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 –  Assessment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7560" y="1447920"/>
            <a:ext cx="7986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late fields ask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key complex performance tasks indicative of understan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ther evi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be collected to build the case for understanding, knowledge, and sk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ubrics will be used to assess complex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53280" y="29718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29600" y="45720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5334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500"/>
                            </p:stCondLst>
                            <p:childTnLst>
                              <p:par>
                                <p:cTn id="30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1785960" cy="1898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id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idence should be credible &amp; helpfu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lications: the assessments should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grounded in real-world application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pplemented as 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more traditional school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useful feedback to the learner, be transparent, and minimize secre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valid, reliable - aligned with the desired results of Stage 1 (and f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37400" y="304920"/>
            <a:ext cx="1430280" cy="914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of Understanding via the 6 fac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erstand when you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, connect, systematize, predic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its meaning,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or adapt it to nove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one plausible perspective among others, question its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its author/speaker saw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and point out common misconceptions, biases, or simplistic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7560" y="228240"/>
            <a:ext cx="798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Reliability &amp; Sufficienc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a Variety of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798696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ed types, over ti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 tasks and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exam questions, prompts, an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zes and test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 checks for understa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self-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7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3 – Plan Learning Experiences &amp;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7440" y="1447920"/>
            <a:ext cx="79866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ocus on engaging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learning, “designed i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learning experiences and instruction will promote the desired understanding, knowledge and skill of Stage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the design ensure that all students are maximally engaged and effective at meeting the goa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1880" y="22860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of your obligations v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. H. E. R. E. T. 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834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ere are we headed?”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(th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’s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Q!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w will the student be ‘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oked’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opportunities will there be to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uipped, and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perience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plore key idea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will provide opportunities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think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hearse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fine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vi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students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valuate their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the work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ilored to individual needs, interests, styl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the work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ganized for maximal engagement and effectivenes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2680" y="1447560"/>
            <a:ext cx="6440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2320" y="2057040"/>
            <a:ext cx="586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2680" y="26665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2680" y="41587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2680" y="33523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5328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1960" y="4719240"/>
            <a:ext cx="4993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2320" y="5333760"/>
            <a:ext cx="5572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5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ake your lesson and put it in a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ighlight the MU’s/expectations that you think would be in that un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rainstorm evidence of learning for those MU’s/expec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ketch lesson sequ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t’s Look at 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e PLE Form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49568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Lessons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elf-Assess (5-10 minu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eer– Assess (30 minu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ek #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Reflections on lessons – place on discussion (wiki..wiki..wiki)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ass reflection (t-b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Go through UB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Get UBD handouts and look over what is expected – complete UBD cover sheet draft for next w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nit Planning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BD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t’s look at unit cover she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2133720"/>
            <a:ext cx="838440" cy="4038480"/>
          </a:xfrm>
          <a:custGeom>
            <a:avLst/>
            <a:gdLst>
              <a:gd name="textAreaLeft" fmla="*/ 112320 w 838440"/>
              <a:gd name="textAreaRight" fmla="*/ 726120 w 83844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8001000" y="1905120"/>
            <a:ext cx="838080" cy="4038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onception Aler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k i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doesn’t matter where you start as long as the final design is coherent (all elements aligne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ying one element or Stage often forces changes to anoth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or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late “blueprint” is logical but the process is non-linear (think: home improvemen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162920" y="152280"/>
            <a:ext cx="1371600" cy="1524960"/>
            <a:chOff x="7162920" y="152280"/>
            <a:chExt cx="1371600" cy="1524960"/>
          </a:xfrm>
        </p:grpSpPr>
        <p:sp>
          <p:nvSpPr>
            <p:cNvPr id="56" name=""/>
            <p:cNvSpPr/>
            <p:nvPr/>
          </p:nvSpPr>
          <p:spPr>
            <a:xfrm>
              <a:off x="7162920" y="152280"/>
              <a:ext cx="1371600" cy="129528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10760" y="242640"/>
              <a:ext cx="480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Garamond Bold"/>
                </a:rPr>
                <a:t>!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76040" y="2000160"/>
            <a:ext cx="93898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203040" y="4114800"/>
            <a:ext cx="9423360" cy="447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04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You’ve got to g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below the surface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to uncover th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really ‘big ideas.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533520" y="1828800"/>
            <a:ext cx="6476400" cy="914040"/>
            <a:chOff x="533520" y="1828800"/>
            <a:chExt cx="6476400" cy="914040"/>
          </a:xfrm>
        </p:grpSpPr>
        <p:sp>
          <p:nvSpPr>
            <p:cNvPr id="64" name=""/>
            <p:cNvSpPr/>
            <p:nvPr/>
          </p:nvSpPr>
          <p:spPr>
            <a:xfrm>
              <a:off x="533520" y="1828800"/>
              <a:ext cx="6385680" cy="91404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7520" y="1893240"/>
              <a:ext cx="6242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1. Identify desired resu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073160" y="2978280"/>
            <a:ext cx="7378560" cy="1054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7640" y="3254400"/>
            <a:ext cx="7616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2. Determine acceptable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69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ages of Design, elabor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21:59:14Z</dcterms:created>
  <dc:creator>Monica Burgio</dc:creator>
  <dc:description/>
  <dc:language>en-US</dc:language>
  <cp:lastModifiedBy>Monica Daigler</cp:lastModifiedBy>
  <dcterms:modified xsi:type="dcterms:W3CDTF">2009-03-11T15:21:38Z</dcterms:modified>
  <cp:revision>11</cp:revision>
  <dc:subject/>
  <dc:title>February 21, 2008</dc:title>
</cp:coreProperties>
</file>