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62A-9C88-43DA-8C5C-E0AC71AF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F30-271C-4B3B-9743-C3F5E68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1C8-B4A4-4BA7-AE95-76EEF246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5AC-2071-43C6-A9EE-C7BB888D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551-A8D1-497C-B442-C39F2D39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76A-510C-413F-BFCD-3548FACD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088-3E94-43FC-9B3E-D676DD95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FA6-91DF-48DC-9746-A05ECF5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411-C61C-4C3C-A0FD-026F348A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0E6-3338-4ADD-BC54-5058417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CA9-C96C-4870-8139-37CF365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E16-F237-4CCA-AAFA-6A9561E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D600-A504-41C3-A6DD-8CB30212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19:29Z</dcterms:modified>
  <cp:revision>11</cp:revision>
  <dc:subject/>
  <dc:title>February 21, 2008</dc:title>
</cp:coreProperties>
</file>