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E8B5-8D25-4C0D-A88A-872F86EC9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D9A1-9080-44CE-AD4E-3FBDFDC8F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5CAC-F436-4948-ACFA-D84859FDD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2010-098B-4FE0-8C9A-A781E69EA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488C-161B-415C-8C45-7F49FD156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FE30-73F9-4344-9E4D-21B503217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3214-9F1F-422D-8263-B31C0DF47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AE36-7E7A-4D75-B25B-F6726D389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A087-DB6F-4057-991A-9245834AD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6C02-1D0B-4171-8302-2300D7D1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BEFB-0499-4A0A-BE83-6B25FD680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C597-2EB9-440C-B5C4-976AF1D3A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5BE85-966F-4140-B970-05059A5947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file:///../UBD%2011%2F12%2F99/Portfolios%2099" TargetMode="External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file:///../UBD%2011%2F12%2F99/Portfolios%2099" TargetMode="External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Week #5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480" y="1218960"/>
            <a:ext cx="78487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Take out your lesson plan and any other materials you might have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Self-assess based on rubric passed out by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Peer assess based on same rub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Go through UBD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Get UBD handouts and look over what is exp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Pick date to teach lesson (30-45 minutes) – 5/da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Snacks??  Beverages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7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77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77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77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" dur="77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77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77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" dur="77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" dur="77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77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77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77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77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" dur="77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" dur="77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77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77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8596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questions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argu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argue abou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at the heart of the subje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ur -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cur - in professional work, adult life, as well as in classroom inquir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se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mo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estions – provoking and sustaining engaged inqui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raise important conceptual or philosophical issu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provide organizing purpose for meaningful &amp; connected learn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077320" y="762120"/>
            <a:ext cx="457200" cy="4572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3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30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45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3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60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750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3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90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500"/>
                            </p:stCondLst>
                            <p:childTnLst>
                              <p:par>
                                <p:cTn id="22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4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Essential Ques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are my true friends - and how do I know for s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“rational” is the mark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es a good read differ from a ‘great book’? Why are some books fads, and others classic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what extent is geography destin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an axiom be obvious?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ifferent is a scientific theory from a plausible belie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government’s proper ro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077320" y="762120"/>
            <a:ext cx="457200" cy="4572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6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30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1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45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6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6000"/>
                            </p:stCondLst>
                            <p:childTnLst>
                              <p:par>
                                <p:cTn id="24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1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750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6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900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1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500"/>
                            </p:stCondLst>
                            <p:childTnLst>
                              <p:par>
                                <p:cTn id="263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7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533520" y="1828800"/>
            <a:ext cx="6324480" cy="762120"/>
            <a:chOff x="533520" y="1828800"/>
            <a:chExt cx="6324480" cy="762120"/>
          </a:xfrm>
        </p:grpSpPr>
        <p:sp>
          <p:nvSpPr>
            <p:cNvPr id="81" name=""/>
            <p:cNvSpPr/>
            <p:nvPr/>
          </p:nvSpPr>
          <p:spPr>
            <a:xfrm>
              <a:off x="533520" y="1828800"/>
              <a:ext cx="6235560" cy="7621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77777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2120" y="1882800"/>
              <a:ext cx="6095880" cy="576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77777"/>
                  </a:solidFill>
                  <a:latin typeface="Book Antiqua"/>
                </a:rPr>
                <a:t>1. Identify desired resul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917640" y="2978280"/>
            <a:ext cx="7616880" cy="1462320"/>
            <a:chOff x="917640" y="2978280"/>
            <a:chExt cx="7616880" cy="1462320"/>
          </a:xfrm>
        </p:grpSpPr>
        <p:sp>
          <p:nvSpPr>
            <p:cNvPr id="84" name=""/>
            <p:cNvSpPr/>
            <p:nvPr/>
          </p:nvSpPr>
          <p:spPr>
            <a:xfrm>
              <a:off x="1073160" y="2978280"/>
              <a:ext cx="7378560" cy="105408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cc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917640" y="3254400"/>
              <a:ext cx="761688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ok Antiqua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Book Antiqua"/>
                </a:rPr>
                <a:t>2. Determine acceptable evidenc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1911240" y="4508640"/>
            <a:ext cx="6769080" cy="1282680"/>
            <a:chOff x="1911240" y="4508640"/>
            <a:chExt cx="6769080" cy="1282680"/>
          </a:xfrm>
        </p:grpSpPr>
        <p:sp>
          <p:nvSpPr>
            <p:cNvPr id="87" name=""/>
            <p:cNvSpPr/>
            <p:nvPr/>
          </p:nvSpPr>
          <p:spPr>
            <a:xfrm>
              <a:off x="1911240" y="4508640"/>
              <a:ext cx="6769080" cy="128268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77777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981080" y="4654440"/>
              <a:ext cx="6629400" cy="10638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77777"/>
                  </a:solidFill>
                  <a:latin typeface="Book Antiqua"/>
                </a:rPr>
                <a:t>3. Plan learning experiences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77777"/>
                  </a:solidFill>
                  <a:latin typeface="Book Antiqua"/>
                </a:rPr>
                <a:t>  </a:t>
              </a:r>
              <a:r>
                <a:rPr b="1" lang="en-US" sz="3200" spc="-1" strike="noStrike">
                  <a:solidFill>
                    <a:srgbClr val="777777"/>
                  </a:solidFill>
                  <a:latin typeface="Book Antiqua"/>
                </a:rPr>
                <a:t>&amp; instruct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61680"/>
            <a:ext cx="82296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Stages of Desig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7162920" y="152280"/>
          <a:ext cx="1650960" cy="10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62920" y="152280"/>
                    <a:ext cx="1650960" cy="10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3" presetSubtype="28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ge 2 –  Assessment 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47560" y="1447920"/>
            <a:ext cx="79869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late fields ask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19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key complex performance tasks indicative of understand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19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ther evid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ll be collected to build the case for understanding, knowledge, and ski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19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rubrics will be used to assess complex performa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153280" y="2971800"/>
            <a:ext cx="457200" cy="4572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229600" y="4572000"/>
            <a:ext cx="457200" cy="4572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O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229600" y="5334120"/>
            <a:ext cx="457200" cy="4572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3000"/>
                            </p:stCondLst>
                            <p:childTnLst>
                              <p:par>
                                <p:cTn id="298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4500"/>
                            </p:stCondLst>
                            <p:childTnLst>
                              <p:par>
                                <p:cTn id="303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086600" y="0"/>
            <a:ext cx="1785960" cy="18986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ig ide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St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915400" cy="42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vidence should be credible &amp; helpfu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mplications: the assessments should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grounded in real-world applications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upplemented as need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more traditional school e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useful feedback to the learner, be transparent, and minimize secre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valid, reliable - aligned with the desired results of Stage 1 (and fai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637400" y="304920"/>
            <a:ext cx="1430280" cy="9144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essment of Understanding via the 6 fac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10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You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al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nderstand when you c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, connect, systematize, predict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its meaning, impor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or adapt it to novel sit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it as one plausible perspective among others, question its assum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it as its author/speaker saw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and point out common misconceptions, biases, or simplistic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500"/>
                            </p:stCondLst>
                            <p:childTnLst>
                              <p:par>
                                <p:cTn id="31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500"/>
                            </p:stCondLst>
                            <p:childTnLst>
                              <p:par>
                                <p:cTn id="32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6000"/>
                            </p:stCondLst>
                            <p:childTnLst>
                              <p:par>
                                <p:cTn id="32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7500"/>
                            </p:stCondLst>
                            <p:childTnLst>
                              <p:par>
                                <p:cTn id="33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9000"/>
                            </p:stCondLst>
                            <p:childTnLst>
                              <p:par>
                                <p:cTn id="33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47560" y="228240"/>
            <a:ext cx="798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Reliability &amp; Sufficiency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a Variety of Assess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47560" y="1600200"/>
            <a:ext cx="798696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aried types, over tim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hentic tasks and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ademic exam questions, prompts, and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zes and test i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l checks for understa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self-assess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50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3000"/>
                            </p:stCondLst>
                            <p:childTnLst>
                              <p:par>
                                <p:cTn id="35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4500"/>
                            </p:stCondLst>
                            <p:childTnLst>
                              <p:par>
                                <p:cTn id="35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6000"/>
                            </p:stCondLst>
                            <p:childTnLst>
                              <p:par>
                                <p:cTn id="35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7500"/>
                            </p:stCondLst>
                            <p:childTnLst>
                              <p:par>
                                <p:cTn id="36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580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ge 3 – Plan Learning Experiences &amp; I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77440" y="1447920"/>
            <a:ext cx="7986600" cy="42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focus on engaging</a:t>
            </a:r>
            <a:r>
              <a:rPr b="0" lang="en-US" sz="3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3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ffective learning, “designed in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38988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learning experiences and instruction will promote the desired understanding, knowledge and skill of Stage 1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8988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ill the design ensure that all students are maximally engaged and effective at meeting the goal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381880" y="2286000"/>
            <a:ext cx="457200" cy="4572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00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k of your obligations vi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. H. E. R. E. T. 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834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2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here are we headed?”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(th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udent’s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Q!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2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ow will the student be ‘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ooked’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2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What opportunities will there be to b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uipped, and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xperience and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xplore key idea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2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What will provide opportunities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think,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hearse,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fine and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vis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2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How will students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valuate their work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2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How will the work b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ilored to individual needs, interests, style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2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How will the work b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ganized for maximal engagement and effectivenes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2680" y="1447560"/>
            <a:ext cx="6440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2320" y="2057040"/>
            <a:ext cx="58608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2680" y="2666520"/>
            <a:ext cx="52812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2680" y="4158720"/>
            <a:ext cx="52812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2680" y="3352320"/>
            <a:ext cx="52812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153280" y="762120"/>
            <a:ext cx="457200" cy="4572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1960" y="4719240"/>
            <a:ext cx="49932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2320" y="5333760"/>
            <a:ext cx="55728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2500"/>
                            </p:stCondLst>
                            <p:childTnLst>
                              <p:par>
                                <p:cTn id="38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400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500"/>
                            </p:stCondLst>
                            <p:childTnLst>
                              <p:par>
                                <p:cTn id="39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7000"/>
                            </p:stCondLst>
                            <p:childTnLst>
                              <p:par>
                                <p:cTn id="39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8500"/>
                            </p:stCondLst>
                            <p:childTnLst>
                              <p:par>
                                <p:cTn id="39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1500"/>
                            </p:stCondLst>
                            <p:childTnLst>
                              <p:par>
                                <p:cTn id="40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3000"/>
                            </p:stCondLst>
                            <p:childTnLst>
                              <p:par>
                                <p:cTn id="41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Take your lesson and put it in a UN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Highlight the MU’s/expectations that you think would be in that un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Brainstorm evidence of learning for those MU’s/expect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Sketch lesson sequ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et’s Look at </a:t>
            </a:r>
            <a:r>
              <a:rPr b="1" i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the PLE Forms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81280" y="449568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Arial"/>
              </a:rPr>
              <a:t>Question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Arial"/>
              </a:rPr>
              <a:t>Lessons.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elf-Assess (5-10 minute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Peer– Assess (30 minute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Week #6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Reflections on lessons – place on discussion (wiki..wiki..wiki)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Class reflection (t-ba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Go through UBD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Get UBD handouts and look over what is expected – complete UBD cover sheet draft for next we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77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77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" dur="77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" dur="77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77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" dur="77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" dur="77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77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" dur="77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" dur="77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" dur="77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77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0" dur="77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2" dur="77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4" dur="77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Unit Planning…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7086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UBD mod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t’s look at unit cover shee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Questions?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52280" y="2133720"/>
            <a:ext cx="838440" cy="4038480"/>
          </a:xfrm>
          <a:custGeom>
            <a:avLst/>
            <a:gdLst>
              <a:gd name="textAreaLeft" fmla="*/ 112320 w 838440"/>
              <a:gd name="textAreaRight" fmla="*/ 726120 w 838440"/>
              <a:gd name="textAreaTop" fmla="*/ 706680 h 4038480"/>
              <a:gd name="textAreaBottom" fmla="*/ 2927880 h 4038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4cc34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8001000" y="1905120"/>
            <a:ext cx="838080" cy="4038480"/>
          </a:xfrm>
          <a:custGeom>
            <a:avLst/>
            <a:gdLst>
              <a:gd name="textAreaLeft" fmla="*/ 112320 w 838080"/>
              <a:gd name="textAreaRight" fmla="*/ 725760 w 838080"/>
              <a:gd name="textAreaTop" fmla="*/ 706680 h 4038480"/>
              <a:gd name="textAreaBottom" fmla="*/ 2927880 h 4038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4cc34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conception Alert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ork i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lin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 doesn’t matter where you start as long as the final design is coherent (all elements aligned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rifying one element or Stage often forces changes to anothe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ment or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emplate “blueprint” is logical but the process is non-linear (think: home improvement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7162920" y="152280"/>
            <a:ext cx="1371600" cy="1524960"/>
            <a:chOff x="7162920" y="152280"/>
            <a:chExt cx="1371600" cy="1524960"/>
          </a:xfrm>
        </p:grpSpPr>
        <p:sp>
          <p:nvSpPr>
            <p:cNvPr id="56" name=""/>
            <p:cNvSpPr/>
            <p:nvPr/>
          </p:nvSpPr>
          <p:spPr>
            <a:xfrm>
              <a:off x="7162920" y="152280"/>
              <a:ext cx="1371600" cy="1295280"/>
            </a:xfrm>
            <a:prstGeom prst="triangle">
              <a:avLst>
                <a:gd name="adj" fmla="val 50000"/>
              </a:avLst>
            </a:prstGeom>
            <a:solidFill>
              <a:srgbClr val="ffff66"/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610760" y="242640"/>
              <a:ext cx="4809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000000"/>
                  </a:solidFill>
                  <a:latin typeface="AGaramond Bold"/>
                </a:rPr>
                <a:t>!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176040" y="2000160"/>
            <a:ext cx="938988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-203040" y="4114800"/>
            <a:ext cx="9423360" cy="447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049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Book Antiqua"/>
              </a:rPr>
              <a:t>You’ve got to g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Book Antiqua"/>
              </a:rPr>
              <a:t>below the surface..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26668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00"/>
                </a:solidFill>
                <a:latin typeface="Book Antiqua"/>
              </a:rPr>
              <a:t>to uncover th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00"/>
                </a:solidFill>
                <a:latin typeface="Book Antiqua"/>
              </a:rPr>
              <a:t>really ‘big ideas.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533520" y="1828800"/>
            <a:ext cx="6476400" cy="914040"/>
            <a:chOff x="533520" y="1828800"/>
            <a:chExt cx="6476400" cy="914040"/>
          </a:xfrm>
        </p:grpSpPr>
        <p:sp>
          <p:nvSpPr>
            <p:cNvPr id="64" name=""/>
            <p:cNvSpPr/>
            <p:nvPr/>
          </p:nvSpPr>
          <p:spPr>
            <a:xfrm>
              <a:off x="533520" y="1828800"/>
              <a:ext cx="6385680" cy="91404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77777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67520" y="1893240"/>
              <a:ext cx="62424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ok Antiqua"/>
                </a:rPr>
                <a:t>1. Identify desired result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073160" y="2978280"/>
            <a:ext cx="7378560" cy="1054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17640" y="3254400"/>
            <a:ext cx="7616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77777"/>
                </a:solidFill>
                <a:latin typeface="Book Antiqua"/>
              </a:rPr>
              <a:t> </a:t>
            </a:r>
            <a:r>
              <a:rPr b="1" lang="en-US" sz="3200" spc="-1" strike="noStrike">
                <a:solidFill>
                  <a:srgbClr val="777777"/>
                </a:solidFill>
                <a:latin typeface="Book Antiqua"/>
              </a:rPr>
              <a:t>2. Determine acceptable e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911240" y="4508640"/>
            <a:ext cx="6769080" cy="1282680"/>
            <a:chOff x="1911240" y="4508640"/>
            <a:chExt cx="6769080" cy="1282680"/>
          </a:xfrm>
        </p:grpSpPr>
        <p:sp>
          <p:nvSpPr>
            <p:cNvPr id="69" name=""/>
            <p:cNvSpPr/>
            <p:nvPr/>
          </p:nvSpPr>
          <p:spPr>
            <a:xfrm>
              <a:off x="1911240" y="4508640"/>
              <a:ext cx="6769080" cy="128268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77777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81080" y="4654440"/>
              <a:ext cx="6629400" cy="10638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77777"/>
                  </a:solidFill>
                  <a:latin typeface="Book Antiqua"/>
                </a:rPr>
                <a:t>3. Plan learning experiences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77777"/>
                  </a:solidFill>
                  <a:latin typeface="Book Antiqua"/>
                </a:rPr>
                <a:t>  </a:t>
              </a:r>
              <a:r>
                <a:rPr b="1" lang="en-US" sz="3200" spc="-1" strike="noStrike">
                  <a:solidFill>
                    <a:srgbClr val="777777"/>
                  </a:solidFill>
                  <a:latin typeface="Book Antiqua"/>
                </a:rPr>
                <a:t>&amp; instruct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Stages of Design, elabora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162920" y="152280"/>
          <a:ext cx="1650960" cy="10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62920" y="152280"/>
                    <a:ext cx="1650960" cy="10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3" presetSubtype="28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21:59:14Z</dcterms:created>
  <dc:creator>Monica Burgio</dc:creator>
  <dc:description/>
  <dc:language>en-US</dc:language>
  <cp:lastModifiedBy>Monica Daigler</cp:lastModifiedBy>
  <dcterms:modified xsi:type="dcterms:W3CDTF">2009-03-11T15:19:29Z</dcterms:modified>
  <cp:revision>11</cp:revision>
  <dc:subject/>
  <dc:title>February 21, 2008</dc:title>
</cp:coreProperties>
</file>