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9D3-C8D0-4418-9983-43EF0055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DA0-6B51-4867-9171-C9A43C29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987-179A-4007-B596-74F8F090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9CA-23D7-4B63-BD6A-9D99779B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4F2-C9EA-4375-A38C-3F9DA2B9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014-36F5-4967-A8A5-2DA72A73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432-51FD-4F6E-A4D5-60F180B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6DC-8E5E-4190-90D7-5D99AE50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4F3-EBDA-490B-BBC2-FF46565D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8BF-4D82-4C36-ACFB-B56D6FFF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FFE-6FBD-4EAF-BC6C-4166C7E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CF9-54AE-4ED3-AB2E-77E33AB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8FD9-620A-4E6F-BFB8-A073BD4BC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19:29Z</dcterms:modified>
  <cp:revision>11</cp:revision>
  <dc:subject/>
  <dc:title>February 21, 2008</dc:title>
</cp:coreProperties>
</file>