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902-C87D-441F-87D1-3FFBF0A7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E19-0505-48A3-BA71-B455D4E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CDA-8040-4B92-9CB9-DB6024A9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85E-02BE-4B80-B5B2-1EAC057F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A78-B7D1-42E5-8BD3-346EA1A6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D10-D183-4CAF-9FB0-9E21D51E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9E8-5095-4491-A416-F664DA46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B63-8DCD-4C9A-8C52-6EE1C505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BAB-7753-442C-9D84-8314DD5C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8C3-A78B-4CC9-BE38-C516316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1C3-A212-4AC2-B118-8EDF9F2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DBE-BC5F-4C3E-B15E-D1B74C7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B067-88B6-42BA-B93F-F2773EAD5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19:29Z</dcterms:modified>
  <cp:revision>11</cp:revision>
  <dc:subject/>
  <dc:title>February 21, 2008</dc:title>
</cp:coreProperties>
</file>