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8F46-4B5B-426B-B46C-9CE7FA717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B604C-6065-40D5-8820-A32CB8396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2179D-6122-4AAC-B599-652211D42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9C195-2E25-4981-9299-0A1364500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8A388-B80D-41AD-9F54-3EFD0547B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343CB-F271-4B09-90FE-19423BFAE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4D93A-07F5-4203-8132-4DB976B09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345FA-8F48-42E7-AFB8-90D1D7A03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9D499-7B1F-4BEB-8F89-3C3A5BE7A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09EC1-4C29-45D6-A165-26C5F6030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39A99-9722-4A0E-90F8-B0C5E7E8B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B85FC-544A-444C-8794-1E548617F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79E61-4667-4019-B092-33E46D67E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5465-1AC2-45AF-A885-E46F96FEF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S Science</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3 Similar Schoo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3 Similar Scho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952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5181480" y="541008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6"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752480"/>
            <a:ext cx="7391520" cy="411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1905120"/>
            <a:ext cx="701028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compared to E1).</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Are we teaching what they need to learn?  Prioritizing?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aught</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ction Plan</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30T12:33:46Z</dcterms:modified>
  <cp:revision>35</cp:revision>
  <dc:subject/>
  <dc:title>Slide 1</dc:title>
</cp:coreProperties>
</file>