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7E7C-C25A-49B5-BB26-BB10D43ED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C7D9E-866B-46EA-B30C-4A63F8573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78B4F-01BE-4410-BE78-265AA7F97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C5D0E-F196-4634-A198-22F98D8DE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43C26-4CAB-4D4B-9F49-6003FBC66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EAF29-C59C-43C4-90CB-3D7CEF6BD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6ADA5-EB60-45EB-A897-956759F63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8F39-3F40-44F2-8CC0-38B9F6684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4ACE4-9E99-4CB3-8B28-2B4EBA871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A711C-0460-4208-AEC9-3849F4211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D185-5CF6-43D7-BBFB-27A283805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224B-9B8A-48AC-B2F8-4B3212AD1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5CA9C-F46B-4B50-A095-5FA89910C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F713-4841-4A06-A682-C5F217A0F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S Scienc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3 Similar Scho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3 Similar Sch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952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5181480" y="541008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752480"/>
            <a:ext cx="739152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1905120"/>
            <a:ext cx="701028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compared to E1).</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Are we teaching what they need to learn?  Prioritizing?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aught</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ction Plan</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30T12:33:46Z</dcterms:modified>
  <cp:revision>35</cp:revision>
  <dc:subject/>
  <dc:title>Slide 1</dc:title>
</cp:coreProperties>
</file>