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67D8-1CCE-4233-965C-A827A5D9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D4F-3B19-4B7A-9A06-F3A1D368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5DA1-126C-4E7E-9CA7-BFB3199A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7CBE-6460-48B7-963D-D7DFB121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F5A7-260F-431D-9D0E-EF478B4C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66A2-55D6-4D78-B032-FC06791F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2F6B-D8C4-4678-857B-679C1396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4F03-FF81-44C6-B66A-2C648C23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C69E-E3A6-46D9-8717-1F80ABC6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CDEC-264F-430B-A061-FC108AC9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A1E8-920E-49A6-ACDC-BC584EB9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C732-4565-4848-91D8-55D06595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8E88-F821-48B3-9F26-D9CB6357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72C1-E362-4582-8A4B-450920E7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1480-2772-41E6-9A35-F66BBB10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D8E6-6E75-4FF2-B44E-090D5F1E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4791-1958-424A-9ED1-9C5AFC70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13FF-C4F2-46B9-900F-56B5CC2A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158D-D6B1-45B7-BC46-4B13C918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649-50B1-4E9A-AD3F-4A5B3CF3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180-AB2F-4686-8EDA-FA5A460B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47D-5F86-4BFB-8930-C8521710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AF8-FF6B-49A1-8B6D-4F94FACC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274-3C8E-476F-AE16-15119360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6685-5353-4986-95AF-D5F76B79A7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1D17-3526-4B38-B3D7-D0FEFA577C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burgio@tona.wnyric.org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nicabd.wikispaces.com/file/view/scienceresmatlab.pdf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Today’s Agenda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143000"/>
            <a:ext cx="838188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ng a Common Vocab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ousal Activity: Educational Philosoph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llabus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 Safety and Lab Requir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 with pa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room management hand-out and discussion (time permitt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2120" y="609480"/>
            <a:ext cx="7467480" cy="545580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Lab requirements: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  Students are required to complete a </a:t>
            </a:r>
            <a:r>
              <a:rPr b="1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MINIMUM of 1200 minutes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 of successful lab time.  All lab reports MUST be completed in full!!  Studen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Kristen ITC"/>
                <a:ea typeface="Times New Roman"/>
              </a:rPr>
              <a:t>will NOT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 be able to sit for the exam if they do not meet this requir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685800"/>
            <a:ext cx="822960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-Mail: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mburgio@tona.wnyric.or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ne: 694-7670 ext 231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76720" y="3733920"/>
            <a:ext cx="2666880" cy="2612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bs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monicabd.wikispaces.com/file/view/scienceresmatlab.pd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ab Safety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38480" y="1447920"/>
            <a:ext cx="5105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at’s important to put into contra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et’s brainstorm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w will you teach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a4"/>
                </a:solidFill>
                <a:latin typeface="Arial"/>
              </a:rPr>
              <a:t>Syllabus Assignment/Lab Safety/Lab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718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a4"/>
                </a:solidFill>
                <a:latin typeface="Arial"/>
              </a:rPr>
              <a:t>Q’s??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yllabus: Entrance Sl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Most proud of/uniqu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Difficulty wit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One question you still hav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Classroom Management Discussion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ations 1 and 2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ation 1 (Tossed Term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ation 2 (Webques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7e7ff"/>
                </a:solidFill>
                <a:latin typeface="Arial"/>
              </a:rPr>
              <a:t>Creating a WIKI space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From last class…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brief syllabus – Q’s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scuss Anticipation Guide – common 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1638360" cy="5791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7e7ff"/>
                </a:solidFill>
                <a:latin typeface="Arial"/>
              </a:rPr>
              <a:t>Carousal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YOUR educational philosophy…go around the room and summarize the important aspects on the paper provid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793880" cy="1685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828800"/>
            <a:ext cx="8534520" cy="4495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AN02542_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143000" cy="1103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144792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The Living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Objectiv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09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Course Requirements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907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Miss Burgio—Room 2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743200"/>
            <a:ext cx="7315200" cy="27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High Achievement this year – always strive for academic excellence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Strive for excellence in attitude and effort on assignments and particip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Discover more about your body, organisms, and the environment and the scientific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-1138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Materials Needed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52280"/>
            <a:ext cx="861048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Kristen ITC"/>
              </a:rPr>
              <a:t>Notes “Book”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 provided by Miss Burgio.  These are your note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Kristen ITC"/>
              </a:rPr>
              <a:t>for the year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.  I have combined them into a notebook you should have these in a 1.5 inch-2 inch binder.  If you loose it you will be required to take notes long hand the remainder of the year.  Your participation grade will also reflect your neglige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981080"/>
            <a:ext cx="9144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Folder with Loose-leaf pa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743200"/>
            <a:ext cx="9144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Highligh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429000"/>
            <a:ext cx="9144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Pen or pencil (pencil for la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191120"/>
            <a:ext cx="9144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Note Cards (we will use over 1000 note cards…so stock up!!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952880"/>
            <a:ext cx="8229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Text Book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-276876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Procedures: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28600"/>
            <a:ext cx="8763120" cy="17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When you enter the classroom there will be a warm-up or “sponge activity” either handed to you before hand or on the board.  </a:t>
            </a: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You are to begin it immediately after the bell rings.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 DO NOT roam around the room touching things..there are chemicals and sharp objects/tools around the room..we want the classroom to be a safe environment for all student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286000"/>
            <a:ext cx="861048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Assignments are due as assigned daily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.  Most assignments will be given well in advance.  Every unit has a terms and concepts sheet for that unit.  The terms are to be put on note-cards and the concepts completed on loose-leaf.  That will be the majority of your homework grade.  </a:t>
            </a: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If we do not correct the assignments in class, you can turn it in by the end of the day.  The following day you get 50% credit and after that, it is a zero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191120"/>
            <a:ext cx="861084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If you are absent it i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Kristen ITC"/>
              </a:rPr>
              <a:t>YOUR responsibility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to get all missed work.  You will have no more than TWO (2) days after that day’s absence to hand it in for credi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5211720"/>
            <a:ext cx="8610480" cy="15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Trips to the lav: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 No one goes to the lav for the first 10 minutes of class.  After that, one person can go at a time with a maximum of 4 minutes.  You must fill out YOUR agenda planner!  </a:t>
            </a:r>
            <a:r>
              <a:rPr b="1" lang="en-US" sz="1800" spc="-1" strike="noStrike">
                <a:solidFill>
                  <a:srgbClr val="ffffff"/>
                </a:solidFill>
                <a:latin typeface="Kristen ITC"/>
              </a:rPr>
              <a:t>Abuse of privileges will lead to loss of privileg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9132840"/>
            <a:ext cx="861048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Kristen ITC"/>
              </a:rPr>
              <a:t>Tests</a:t>
            </a:r>
            <a:r>
              <a:rPr b="0" lang="en-US" sz="1600" spc="-1" strike="noStrike">
                <a:solidFill>
                  <a:srgbClr val="ffffff"/>
                </a:solidFill>
                <a:latin typeface="Kristen ITC"/>
              </a:rPr>
              <a:t> will periodically be sent home for your parents/guardians to sign (2-3 bonus points will be added on to your test).  Failure to get it signed may result in a phone call hom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380880" y="1066680"/>
            <a:ext cx="9296280" cy="533412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AN02542_" descr=""/>
          <p:cNvPicPr/>
          <p:nvPr/>
        </p:nvPicPr>
        <p:blipFill>
          <a:blip r:embed="rId1"/>
          <a:stretch/>
        </p:blipFill>
        <p:spPr>
          <a:xfrm>
            <a:off x="7467480" y="3809880"/>
            <a:ext cx="1143000" cy="1103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190512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Grading Polic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45%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Tests and Quizz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30 %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Homework and Class 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Activit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15%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Lab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10%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Particip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0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Every 5 weeks a report will be generated on each student.  Your grade will be determined as follow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a4"/>
                </a:solidFill>
                <a:latin typeface="Arial"/>
              </a:rPr>
              <a:t>Respectful and Responsible..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Please fill out the sheet INDIVIDUALL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Let’s come up with some guidelines/behaviors/attributes for this cla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Individual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Pai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Also do this in l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..Choices and </a:t>
            </a:r>
            <a:r>
              <a:rPr b="1" lang="en-US" sz="4400" spc="-1" strike="noStrike" u="sng">
                <a:solidFill>
                  <a:srgbClr val="b7e7ff"/>
                </a:solidFill>
                <a:uFillTx/>
                <a:latin typeface="Arial"/>
              </a:rPr>
              <a:t>Consequenc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1.  Wa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2.  Teacher Deten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3.  School Deten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4.  Eviction and Deport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24480" y="1905120"/>
            <a:ext cx="1892520" cy="1996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3:55:58Z</dcterms:created>
  <dc:creator>TCSD</dc:creator>
  <dc:description/>
  <dc:language>en-US</dc:language>
  <cp:lastModifiedBy>Monica Burgio Daigler</cp:lastModifiedBy>
  <dcterms:modified xsi:type="dcterms:W3CDTF">2009-09-14T19:48:06Z</dcterms:modified>
  <cp:revision>24</cp:revision>
  <dc:subject/>
  <dc:title>PowerPoint Presentation</dc:title>
</cp:coreProperties>
</file>