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gif" ContentType="image/gif"/>
  <Override PartName="/ppt/media/image5.wmf" ContentType="image/x-wmf"/>
  <Override PartName="/ppt/media/image3.wmf" ContentType="image/x-wmf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3867-5268-4E9F-8EC2-4604B89E8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721B-AA05-452C-A495-4564B8A4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6854-C113-464F-8EF0-6D1D8C898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5674-B459-4B72-A324-B729BB7B3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0D26-9BE1-415B-ACDC-F3C0C8C45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1E27-FF88-45F1-B272-F2406688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1D56-0AB1-4B9B-A4B3-7013A1DE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EECB-0A5A-4085-A7DE-E33864A1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4D41-F7CA-4ECD-B3ED-41DEF11E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0825-6E66-4A5F-8C29-B93B7EC0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2930-48B2-4099-A5C3-25F92A4E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2BE7-23A0-485B-B411-C1F2AE39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DD6E-A343-4C2C-BC59-6A5DFD40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E0B9-C473-4635-AAA4-061F8EB5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37D7-4281-4964-87C1-1C3804B5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23CB-DF45-447D-9BA5-559FD50A1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43894-DC1A-45B4-9609-170F020A5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C55F-D8B8-4518-B46E-BC0EB52B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2664-A1DA-445B-BB58-6F07B5C5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F9FB-9516-47B4-8456-B2E90C42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B5A7-4C82-494C-A6D9-7CA64700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FFEB-06DE-4160-8BBD-54E68595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2538-F7A2-4615-87AF-394543F4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BE3B-ED94-4BBC-AAE9-13BD8A20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FBB0-33EA-4B7C-A7D1-97687ED797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2A62-69E6-4BA9-84FA-1ED13762D9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mburgio@tona.wnyric.org" TargetMode="Externa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onicabd.wikispaces.com/file/view/scienceresmatlab.pdf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7e7ff"/>
                </a:solidFill>
                <a:latin typeface="Arial"/>
              </a:rPr>
              <a:t>Today’s Agenda: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143000"/>
            <a:ext cx="838188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ing a Common Vocab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ousal Activity: Educational Philosoph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llabus Compon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b Safety and Lab Requir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unication with par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ig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room management hand-out and discussion (time permitt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62120" y="609480"/>
            <a:ext cx="7467480" cy="545580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Lab requirements:</a:t>
            </a:r>
            <a:r>
              <a:rPr b="0" lang="en-US" sz="32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  Students are required to complete a </a:t>
            </a:r>
            <a:r>
              <a:rPr b="1" lang="en-US" sz="32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MINIMUM of 1200 minutes</a:t>
            </a:r>
            <a:r>
              <a:rPr b="0" lang="en-US" sz="32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 of successful lab time.  All lab reports MUST be completed in full!!  Student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Kristen ITC"/>
                <a:ea typeface="Times New Roman"/>
              </a:rPr>
              <a:t>will NOT</a:t>
            </a:r>
            <a:r>
              <a:rPr b="0" lang="en-US" sz="32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 be able to sit for the exam if they do not meet this require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685800"/>
            <a:ext cx="8229600" cy="28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-Mail: </a:t>
            </a:r>
            <a:r>
              <a:rPr b="0" lang="en-US" sz="4000" spc="-1" strike="noStrike" u="sng">
                <a:solidFill>
                  <a:srgbClr val="ffcc00"/>
                </a:solidFill>
                <a:uFillTx/>
                <a:latin typeface="Times New Roman"/>
                <a:hlinkClick r:id="rId1"/>
              </a:rPr>
              <a:t>mburgio@tona.wnyric.or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hone: 694-7670 ext 231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276720" y="3733920"/>
            <a:ext cx="2666880" cy="2612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abs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http://monicabd.wikispaces.com/file/view/scienceresmatlab.pd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Lab Safety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038480" y="1447920"/>
            <a:ext cx="5105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hat’s important to put into contrac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Let’s brainstorm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ow will you teach 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a4"/>
                </a:solidFill>
                <a:latin typeface="Arial"/>
              </a:rPr>
              <a:t>Syllabus Assignment/Lab Safety/Lab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71840" y="380880"/>
            <a:ext cx="3429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a4"/>
                </a:solidFill>
                <a:latin typeface="Arial"/>
              </a:rPr>
              <a:t>Q’s??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yllabus: Entrance Sli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 Most proud of/uniqu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. Difficulty with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. One question you still hav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7ff"/>
                </a:solidFill>
                <a:latin typeface="Arial"/>
              </a:rPr>
              <a:t>Classroom Management Discussion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582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ations 1 and 2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tation 1 (Tossed Term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tation 2 (Webquest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b7e7ff"/>
                </a:solidFill>
                <a:latin typeface="Arial"/>
              </a:rPr>
              <a:t>Creating a WIKI space</a:t>
            </a:r>
            <a:endParaRPr b="0" lang="en-US" sz="8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From last class…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632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brief syllabus – Q’s?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iscuss Anticipation Guide – common vocabul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162920" y="457200"/>
            <a:ext cx="1638360" cy="5791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b7e7ff"/>
                </a:solidFill>
                <a:latin typeface="Arial"/>
              </a:rPr>
              <a:t>Carousal</a:t>
            </a:r>
            <a:endParaRPr b="0" lang="en-US" sz="6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ing YOUR educational philosophy…go around the room and summarize the important aspects on the paper provided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1793880" cy="1685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" y="1828800"/>
            <a:ext cx="8534520" cy="44956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AN02542_" descr=""/>
          <p:cNvPicPr/>
          <p:nvPr/>
        </p:nvPicPr>
        <p:blipFill>
          <a:blip r:embed="rId1"/>
          <a:stretch/>
        </p:blipFill>
        <p:spPr>
          <a:xfrm>
            <a:off x="7010280" y="685800"/>
            <a:ext cx="1143000" cy="1103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04920" y="1447920"/>
            <a:ext cx="9144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The Living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Objectiv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094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Course Requirements: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99072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Miss Burgio—Room 21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2743200"/>
            <a:ext cx="7315200" cy="27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High Achievement this year – always strive for academic excellence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Strive for excellence in attitude and effort on assignments and particip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Discover more about your body, organisms, and the environment and the scientific commun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-11383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Materials Needed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52280"/>
            <a:ext cx="8610480" cy="19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Kristen ITC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Kristen ITC"/>
              </a:rPr>
              <a:t>Notes “Book”</a:t>
            </a:r>
            <a:r>
              <a:rPr b="0" lang="en-US" sz="2000" spc="-1" strike="noStrike">
                <a:solidFill>
                  <a:srgbClr val="ffffff"/>
                </a:solidFill>
                <a:latin typeface="Kristen ITC"/>
              </a:rPr>
              <a:t> provided by Miss Burgio.  These are your note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Kristen ITC"/>
              </a:rPr>
              <a:t>for the year</a:t>
            </a:r>
            <a:r>
              <a:rPr b="0" lang="en-US" sz="2000" spc="-1" strike="noStrike">
                <a:solidFill>
                  <a:srgbClr val="ffffff"/>
                </a:solidFill>
                <a:latin typeface="Kristen ITC"/>
              </a:rPr>
              <a:t>.  I have combined them into a notebook you should have these in a 1.5 inch-2 inch binder.  If you loose it you will be required to take notes long hand the remainder of the year.  Your participation grade will also reflect your negligen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981080"/>
            <a:ext cx="914400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Kristen ITC"/>
              </a:rPr>
              <a:t>Folder with Loose-leaf pap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 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743200"/>
            <a:ext cx="914400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Kristen ITC"/>
              </a:rPr>
              <a:t>Highligh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 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429000"/>
            <a:ext cx="914400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Kristen ITC"/>
              </a:rPr>
              <a:t>Pen or pencil (pencil for lab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 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191120"/>
            <a:ext cx="914400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Kristen ITC"/>
              </a:rPr>
              <a:t>Note Cards (we will use over 1000 note cards…so stock up!!!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 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952880"/>
            <a:ext cx="82296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Kristen ITC"/>
              </a:rPr>
              <a:t>Text Book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-276876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Procedures: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228600"/>
            <a:ext cx="8763120" cy="17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When you enter the classroom there will be a warm-up or “sponge activity” either handed to you before hand or on the board.  </a:t>
            </a:r>
            <a:r>
              <a:rPr b="1" lang="en-US" sz="1800" spc="-1" strike="noStrike">
                <a:solidFill>
                  <a:srgbClr val="ffffff"/>
                </a:solidFill>
                <a:latin typeface="Kristen ITC"/>
              </a:rPr>
              <a:t>You are to begin it immediately after the bell rings.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  DO NOT roam around the room touching things..there are chemicals and sharp objects/tools around the room..we want the classroom to be a safe environment for all student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 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2286000"/>
            <a:ext cx="861048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Kristen ITC"/>
              </a:rPr>
              <a:t>Assignments are due as assigned daily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.  Most assignments will be given well in advance.  Every unit has a terms and concepts sheet for that unit.  The terms are to be put on note-cards and the concepts completed on loose-leaf.  That will be the majority of your homework grade.  </a:t>
            </a:r>
            <a:r>
              <a:rPr b="1" lang="en-US" sz="1800" spc="-1" strike="noStrike">
                <a:solidFill>
                  <a:srgbClr val="ffffff"/>
                </a:solidFill>
                <a:latin typeface="Kristen ITC"/>
              </a:rPr>
              <a:t>If we do not correct the assignments in class, you can turn it in by the end of the day.  The following day you get 50% credit and after that, it is a zero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 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4191120"/>
            <a:ext cx="861084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If you are absent it is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Kristen ITC"/>
              </a:rPr>
              <a:t>YOUR responsibility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 to get all missed work.  You will have no more than TWO (2) days after that day’s absence to hand it in for credi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 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5211720"/>
            <a:ext cx="8610480" cy="15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Kristen ITC"/>
              </a:rPr>
              <a:t>Trips to the lav: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  No one goes to the lav for the first 10 minutes of class.  After that, one person can go at a time with a maximum of 4 minutes.  You must fill out YOUR agenda planner!  </a:t>
            </a:r>
            <a:r>
              <a:rPr b="1" lang="en-US" sz="1800" spc="-1" strike="noStrike">
                <a:solidFill>
                  <a:srgbClr val="ffffff"/>
                </a:solidFill>
                <a:latin typeface="Kristen ITC"/>
              </a:rPr>
              <a:t>Abuse of privileges will lead to loss of privileg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 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9132840"/>
            <a:ext cx="861048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Kristen ITC"/>
              </a:rPr>
              <a:t>Tests</a:t>
            </a:r>
            <a:r>
              <a:rPr b="0" lang="en-US" sz="1600" spc="-1" strike="noStrike">
                <a:solidFill>
                  <a:srgbClr val="ffffff"/>
                </a:solidFill>
                <a:latin typeface="Kristen ITC"/>
              </a:rPr>
              <a:t> will periodically be sent home for your parents/guardians to sign (2-3 bonus points will be added on to your test).  Failure to get it signed may result in a phone call hom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 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-380880" y="1066680"/>
            <a:ext cx="9296280" cy="533412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AN02542_" descr=""/>
          <p:cNvPicPr/>
          <p:nvPr/>
        </p:nvPicPr>
        <p:blipFill>
          <a:blip r:embed="rId1"/>
          <a:stretch/>
        </p:blipFill>
        <p:spPr>
          <a:xfrm>
            <a:off x="7467480" y="3809880"/>
            <a:ext cx="1143000" cy="1103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1905120"/>
            <a:ext cx="7620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Grading Polic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45%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Tests and Quizz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30 %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Homework and Class 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Activiti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15%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Lab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10%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Particip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08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Every 5 weeks a report will be generated on each student.  Your grade will be determined as follow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a4"/>
                </a:solidFill>
                <a:latin typeface="Arial"/>
              </a:rPr>
              <a:t>Respectful and Responsible..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Please fill out the sheet INDIVIDUALL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Let’s come up with some guidelines/behaviors/attributes for this cla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Individual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Pai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Also do this in la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..Choices and </a:t>
            </a:r>
            <a:r>
              <a:rPr b="1" lang="en-US" sz="4400" spc="-1" strike="noStrike" u="sng">
                <a:solidFill>
                  <a:srgbClr val="b7e7ff"/>
                </a:solidFill>
                <a:uFillTx/>
                <a:latin typeface="Arial"/>
              </a:rPr>
              <a:t>Consequenc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Arial"/>
              </a:rPr>
              <a:t>1.  War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Arial"/>
              </a:rPr>
              <a:t>2.  Teacher Deten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Arial"/>
              </a:rPr>
              <a:t>3.  School Deten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Arial"/>
              </a:rPr>
              <a:t>4.  Eviction and Deport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324480" y="1905120"/>
            <a:ext cx="1892520" cy="1996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13:55:58Z</dcterms:created>
  <dc:creator>TCSD</dc:creator>
  <dc:description/>
  <dc:language>en-US</dc:language>
  <cp:lastModifiedBy>Monica Burgio Daigler</cp:lastModifiedBy>
  <dcterms:modified xsi:type="dcterms:W3CDTF">2009-09-14T19:48:06Z</dcterms:modified>
  <cp:revision>24</cp:revision>
  <dc:subject/>
  <dc:title>PowerPoint Presentation</dc:title>
</cp:coreProperties>
</file>