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9FF-24A2-4386-A347-37090637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3EC-D1A0-4815-B074-2C83646D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263-2B47-4147-9D58-B65028BA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AFC-33A1-48C0-BAF4-70758B13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6C77-C339-4BA3-816A-05BD2D75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110C-920C-4CED-80A2-B6941DB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E6B4-93AE-47A2-8F7B-2F220F76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6DB-BFD3-43EC-BB31-EA3C6FD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5ED-C356-4A57-BFA4-04CDA0B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011B-5C98-4102-BB1D-93C3D65D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60FF-B403-4AEC-BA23-10B3128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14B-B4D4-4A80-BAB1-90480496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5B07-42C4-417F-8897-D911DDD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05E5-F12E-4E0E-9B7B-3147E16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C172-7D1D-4DBF-848E-92594B6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CCB2-8FA6-48D7-903B-661B8330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EF66-769A-49CA-AEA6-B7D9CD42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B6F-0030-4B0E-9DD8-92F71A0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2A0-8548-45C8-83C7-ED5AF54F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168-1FE3-4CEC-8DA7-D9C454D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8D0-1826-45AE-BEF4-3AFADC1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0AE-FBC5-48BF-8ECB-737DC3D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59D-E7B3-4D00-9E83-1D8B9C7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075-1E64-4089-A48E-2AAF87C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9700-E0FB-4909-991A-2191D319F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2B2-B04A-44BF-9341-8F77AA6DE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burgio@tona.wnyric.org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nicabd.wikispaces.com/file/view/scienceresmatlab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Today’s Agenda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ng a Common Voca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usal Activity: Educational 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labu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Safety and Lab Requ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wi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room management hand-out and discussion (time permi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609480"/>
            <a:ext cx="7467480" cy="54558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requirements: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Students are required to complete a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NIMUM of 1200 minutes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of successful lab time.  All lab reports MUST be completed in full!!  Studen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  <a:ea typeface="Times New Roman"/>
              </a:rPr>
              <a:t>will NOT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be able to sit for the exam if they do not meet this requir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85800"/>
            <a:ext cx="8229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mburgio@tona.wnyri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ne: 694-7670 ext 231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66688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b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monicabd.wikispaces.com/file/view/scienceresmatlab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b Safety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5105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’s important to put into contr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et’s brainstor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will you teach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Syllabus Assignment/Lab Safety/Lab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a4"/>
                </a:solidFill>
                <a:latin typeface="Arial"/>
              </a:rPr>
              <a:t>Q’s??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yllabus: Entrance Sl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Most proud of/uni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Difficulty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One question you still ha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assroom Management Discuss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ons 1 and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1 (Tossed Term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2 (Webques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Arial"/>
              </a:rPr>
              <a:t>Creating a WIKI spac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rom last class…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 syllabus – Q’s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cuss Anticipation Guide – common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6383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Carousa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educational philosophy…go around the room and summarize the important aspects on the paper provid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7938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8534520" cy="4495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AN02542_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4479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he Liv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jectiv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urse Requirements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90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ss Burgio—Room 2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743200"/>
            <a:ext cx="731520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igh Achievement this year – always strive for academic excellenc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trive for excellence in attitude and effort on assignments and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iscover more about your body, organisms, and the environment and the scientific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1138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aterials Need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Notes “Book”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provided by Miss Burgio.  These are your no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Kristen ITC"/>
              </a:rPr>
              <a:t>for the year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.  I have combined them into a notebook you should have these in a 1.5 inch-2 inch binder.  If you loose it you will be required to take notes long hand the remainder of the year.  Your participation grade will also reflect your neglig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8108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Folder with Loose-leaf pa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Pen or pencil (pencil for la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Note Cards (we will use over 1000 note cards…so stock up!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82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ext Boo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687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rocedures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"/>
            <a:ext cx="87631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When you enter the classroom there will be a warm-up or “sponge activity” either handed to you before hand or on the board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You are to begin it immediately after the bell rings.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DO NOT roam around the room touching things..there are chemicals and sharp objects/tools around the room..we want the classroom to be a safe environment for all studen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0"/>
            <a:ext cx="861048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ssignments are due as assigned dail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.  Most assignments will be given well in advance.  Every unit has a terms and concepts sheet for that unit.  The terms are to be put on note-cards and the concepts completed on loose-leaf.  That will be the majority of your homework grade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If we do not correct the assignments in class, you can turn it in by the end of the day.  The following day you get 50% credit and after that, it is a zer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191120"/>
            <a:ext cx="86108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f you are absent it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Kristen ITC"/>
              </a:rPr>
              <a:t>YOUR responsibilit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to get all missed work.  You will have no more than TWO (2) days after that day’s absence to hand it in for cred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11720"/>
            <a:ext cx="861048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rips to the lav: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No one goes to the lav for the first 10 minutes of class.  After that, one person can go at a time with a maximum of 4 minutes.  You must fill out YOUR agenda planner!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buse of privileges will lead to loss of privile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32840"/>
            <a:ext cx="86104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</a:rPr>
              <a:t>Tests</a:t>
            </a:r>
            <a:r>
              <a:rPr b="0" lang="en-US" sz="1600" spc="-1" strike="noStrike">
                <a:solidFill>
                  <a:srgbClr val="ffffff"/>
                </a:solidFill>
                <a:latin typeface="Kristen ITC"/>
              </a:rPr>
              <a:t> will periodically be sent home for your parents/guardians to sign (2-3 bonus points will be added on to your test).  Failure to get it signed may result in a phone call h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80880" y="1066680"/>
            <a:ext cx="9296280" cy="53341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AN02542_" descr=""/>
          <p:cNvPicPr/>
          <p:nvPr/>
        </p:nvPicPr>
        <p:blipFill>
          <a:blip r:embed="rId1"/>
          <a:stretch/>
        </p:blipFill>
        <p:spPr>
          <a:xfrm>
            <a:off x="7467480" y="3809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ading Polic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4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ests and Quiz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30 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Homework and Class 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Every 5 weeks a report will be generated on each student.  Your grade will be determ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a4"/>
                </a:solidFill>
                <a:latin typeface="Arial"/>
              </a:rPr>
              <a:t>Respectful and Responsible..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lease fill out the sheet INDIVIDUAL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Let’s come up with some guidelines/behaviors/attributes for this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Individ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Also do this in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..Choices and </a:t>
            </a:r>
            <a:r>
              <a:rPr b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Conseq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1.  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2.  Teacher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3.  School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4.  Eviction and Depo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189252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3:55:58Z</dcterms:created>
  <dc:creator>TCSD</dc:creator>
  <dc:description/>
  <dc:language>en-US</dc:language>
  <cp:lastModifiedBy>Monica Burgio Daigler</cp:lastModifiedBy>
  <dcterms:modified xsi:type="dcterms:W3CDTF">2009-09-14T19:48:06Z</dcterms:modified>
  <cp:revision>24</cp:revision>
  <dc:subject/>
  <dc:title>PowerPoint Presentation</dc:title>
</cp:coreProperties>
</file>