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C2E-D503-4095-9388-ED624CC9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46E-79A1-4D28-A714-9683D973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207-1346-40A6-A3DD-D5F31531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B59-3189-4D2E-968D-5CFC436A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16B9-8CAC-48DD-92DE-500AB9C3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1A0A-9083-4D92-A32F-2B5ADB23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D887-82FE-4A8A-A832-05F2E68C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39BB-3A53-4A5A-941E-7A3B083F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8783-1C84-4A7B-B183-4CBFCA77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3E39-2869-4C03-AAEF-D44E8341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6D12-5F45-4943-890C-9300539B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42F-C1BA-4B9C-9772-6EA28F2B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F0EC-ED1F-4483-A7C5-BBD49786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8690-1F3A-4ED3-87C6-4CBCC2E6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7521-CE6A-4E0C-8DB2-CDFBE65E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A133-643F-4B75-9369-C404FF63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55D9-329D-4D66-88BE-B140926F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273-9FC0-4864-BE56-CA30766F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B64-4F0E-4484-81AD-CA440911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DC1-0BAB-4A51-AECF-A1122520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B32-7042-4410-BE78-72792E99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6494-7493-44C4-9F2F-56029FB9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6CB-5753-4148-8568-9BB9CB8B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0A1-57D9-437F-A3ED-A64FD287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E44F-C449-4B23-83D4-547CB190D0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7BF5-C077-440B-A02E-16BBD797FA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burgio@tona.wnyric.org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nicabd.wikispaces.com/file/view/scienceresmatlab.pdf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Today’s Agenda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143000"/>
            <a:ext cx="83818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ng a Common Vocab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ousal Activity: Educational Philosoph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llabus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 Safety and Lab Requir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 with pa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room management hand-out and discussion (time permitt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609480"/>
            <a:ext cx="7467480" cy="545580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Lab requirements: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 Students are required to complete a </a:t>
            </a:r>
            <a:r>
              <a:rPr b="1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MINIMUM of 1200 minutes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of successful lab time.  All lab reports MUST be completed in full!!  Studen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Kristen ITC"/>
                <a:ea typeface="Times New Roman"/>
              </a:rPr>
              <a:t>will NOT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be able to sit for the exam if they do not meet this requir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685800"/>
            <a:ext cx="82296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-Mail: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mburgio@tona.wnyric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ne: 694-7670 ext 231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76720" y="3733920"/>
            <a:ext cx="2666880" cy="261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bs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monicabd.wikispaces.com/file/view/scienceresmatlab.pd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b Safety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38480" y="1447920"/>
            <a:ext cx="5105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’s important to put into contra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et’s brainstorm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w will you teach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a4"/>
                </a:solidFill>
                <a:latin typeface="Arial"/>
              </a:rPr>
              <a:t>Syllabus Assignment/Lab Safety/Lab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718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a4"/>
                </a:solidFill>
                <a:latin typeface="Arial"/>
              </a:rPr>
              <a:t>Q’s??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yllabus: Entrance Sl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Most proud of/uniqu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Difficulty wit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One question you still hav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Classroom Management Discussion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tions 1 and 2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ation 1 (Tossed Term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ation 2 (Webques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7e7ff"/>
                </a:solidFill>
                <a:latin typeface="Arial"/>
              </a:rPr>
              <a:t>Creating a WIKI space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rom last class…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brief syllabus – Q’s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cuss Anticipation Guide – common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1638360" cy="579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7e7ff"/>
                </a:solidFill>
                <a:latin typeface="Arial"/>
              </a:rPr>
              <a:t>Carousal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YOUR educational philosophy…go around the room and summarize the important aspects on the paper provid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79388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828800"/>
            <a:ext cx="8534520" cy="4495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AN02542_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143000" cy="110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14479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The Liv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Objectiv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9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Course Requirements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907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Miss Burgio—Room 2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743200"/>
            <a:ext cx="7315200" cy="27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High Achievement this year – always strive for academic excellence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Strive for excellence in attitude and effort on assignments and 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Discover more about your body, organisms, and the environment and the scientific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-1138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Materials Needed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52280"/>
            <a:ext cx="861048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Kristen ITC"/>
              </a:rPr>
              <a:t>Notes “Book”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provided by Miss Burgio.  These are your note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Kristen ITC"/>
              </a:rPr>
              <a:t>for the year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.  I have combined them into a notebook you should have these in a 1.5 inch-2 inch binder.  If you loose it you will be required to take notes long hand the remainder of the year.  Your participation grade will also reflect your neglige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98108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Folder with Loose-leaf pa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74320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Highligh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42900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Pen or pencil (pencil for la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19112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Note Cards (we will use over 1000 note cards…so stock up!!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952880"/>
            <a:ext cx="8229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Text Book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276876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Procedures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28600"/>
            <a:ext cx="876312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When you enter the classroom there will be a warm-up or “sponge activity” either handed to you before hand or on the board.  </a:t>
            </a: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You are to begin it immediately after the bell rings.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 DO NOT roam around the room touching things..there are chemicals and sharp objects/tools around the room..we want the classroom to be a safe environment for all student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286000"/>
            <a:ext cx="861048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Assignments are due as assigned daily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.  Most assignments will be given well in advance.  Every unit has a terms and concepts sheet for that unit.  The terms are to be put on note-cards and the concepts completed on loose-leaf.  That will be the majority of your homework grade.  </a:t>
            </a: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If we do not correct the assignments in class, you can turn it in by the end of the day.  The following day you get 50% credit and after that, it is a zero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191120"/>
            <a:ext cx="861084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If you are absent it i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Kristen ITC"/>
              </a:rPr>
              <a:t>YOUR responsibility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to get all missed work.  You will have no more than TWO (2) days after that day’s absence to hand it in for cred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5211720"/>
            <a:ext cx="8610480" cy="15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Trips to the lav: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 No one goes to the lav for the first 10 minutes of class.  After that, one person can go at a time with a maximum of 4 minutes.  You must fill out YOUR agenda planner!  </a:t>
            </a: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Abuse of privileges will lead to loss of privileg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132840"/>
            <a:ext cx="861048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Kristen ITC"/>
              </a:rPr>
              <a:t>Tests</a:t>
            </a:r>
            <a:r>
              <a:rPr b="0" lang="en-US" sz="1600" spc="-1" strike="noStrike">
                <a:solidFill>
                  <a:srgbClr val="ffffff"/>
                </a:solidFill>
                <a:latin typeface="Kristen ITC"/>
              </a:rPr>
              <a:t> will periodically be sent home for your parents/guardians to sign (2-3 bonus points will be added on to your test).  Failure to get it signed may result in a phone call hom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380880" y="1066680"/>
            <a:ext cx="9296280" cy="53341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AN02542_" descr=""/>
          <p:cNvPicPr/>
          <p:nvPr/>
        </p:nvPicPr>
        <p:blipFill>
          <a:blip r:embed="rId1"/>
          <a:stretch/>
        </p:blipFill>
        <p:spPr>
          <a:xfrm>
            <a:off x="7467480" y="3809880"/>
            <a:ext cx="1143000" cy="1103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90512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Grading Polic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45%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Tests and Quizz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30 %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Homework and Class 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Activ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15%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Lab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10%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0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Every 5 weeks a report will be generated on each student.  Your grade will be determined as follow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a4"/>
                </a:solidFill>
                <a:latin typeface="Arial"/>
              </a:rPr>
              <a:t>Respectful and Responsible..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Please fill out the sheet INDIVIDUALL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Let’s come up with some guidelines/behaviors/attributes for this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Individu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Also do this in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..Choices and </a:t>
            </a:r>
            <a:r>
              <a:rPr b="1" lang="en-US" sz="4400" spc="-1" strike="noStrike" u="sng">
                <a:solidFill>
                  <a:srgbClr val="b7e7ff"/>
                </a:solidFill>
                <a:uFillTx/>
                <a:latin typeface="Arial"/>
              </a:rPr>
              <a:t>Consequenc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1.  W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2.  Teacher Det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3.  School Det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4.  Eviction and Depor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24480" y="1905120"/>
            <a:ext cx="1892520" cy="1996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3:55:58Z</dcterms:created>
  <dc:creator>TCSD</dc:creator>
  <dc:description/>
  <dc:language>en-US</dc:language>
  <cp:lastModifiedBy>Monica Burgio Daigler</cp:lastModifiedBy>
  <dcterms:modified xsi:type="dcterms:W3CDTF">2009-09-14T19:48:06Z</dcterms:modified>
  <cp:revision>24</cp:revision>
  <dc:subject/>
  <dc:title>PowerPoint Presentation</dc:title>
</cp:coreProperties>
</file>