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EA8F-B767-437B-90FB-CB822C91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18B-6352-4C3B-B9A7-629D9B39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832-F6A1-4843-BC3E-83A5A4A6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E23-D663-4C47-A61A-250BBB59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9F7C-588F-472B-879B-6BDDE106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00C3-5A20-4EEC-9441-6C171520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0207-3E41-4779-8FAE-9C84BC45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2E96-A941-4EDE-AF57-8F01C07B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D9CD-5DF1-4D22-9C2D-DDD668C2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9035-C3DF-4110-8CC6-B9B09E9A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B252-926C-465B-9FB8-819A3393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966-1E59-4A9A-9F13-159202AE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DF7F-9587-4338-A424-810B165D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F44A-4525-437D-8D80-49F42689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2B84-F60E-4D70-BFA6-E974BE71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4226-F697-4ED2-852D-C06120CE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7A31-ACBA-45E8-9EAF-2CF5311C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A8E-CBA1-4968-951F-1AAADF80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03B-EBF8-4099-9442-0A8DF35A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CF3-DF1A-4E7C-A8F8-F680B991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C36-FF84-4913-A8C7-88F3D701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E0D-776B-4AB0-BA68-61FDC6D2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4E7-CE74-42B9-A926-FE93696B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EE5-8BE4-4ABF-A84E-F1B5470D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8DF9-7645-4363-9B9F-70495BD08BA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3CFA-6127-4280-994A-D4FD99B8206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assroom Instruction that </a:t>
            </a: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Work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y 2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42667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ing Similarit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Dif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ro: Make a graphic organizer, write a paragraph, outline the similarities and differences between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3200400"/>
            <a:ext cx="632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 Setting/Learning Go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54864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urpose of this intro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Goal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a result of today’s training you will be able 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 examples of each of the four methods of identifying similarities and differe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ly these methods to your cont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earch show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students need explicit structure when first learning to identify similarities and dif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c and symbolic representations can help students understand and use processes for identifying sims and diff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hods are divided into 4 s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ify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Metaph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Analogi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 into content groups and rotate through modules…approx. 30 minutes per modu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complete, there will be a jigsaw style discussion se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1: Living Environm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2: Earth Sc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3: Physics and Chemis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4: Overflow from Large LE or ES Group …try to pair up with same content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io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57040" y="1142640"/>
            <a:ext cx="4419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1: Station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2: Station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3: Station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4: Station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380988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ummarize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key poin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f the LAST station and present to the group.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ive an exampl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f the strategy and explain how you will eithe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plicitly teach i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use it in your cont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8:34:20Z</dcterms:created>
  <dc:creator>Erie 1 Staff-Mobile Labs</dc:creator>
  <dc:description/>
  <dc:language>en-US</dc:language>
  <cp:lastModifiedBy>Monica Burgio</cp:lastModifiedBy>
  <dcterms:modified xsi:type="dcterms:W3CDTF">2009-01-07T23:43:36Z</dcterms:modified>
  <cp:revision>4</cp:revision>
  <dc:subject/>
  <dc:title>Classroom Instruction that Works Day 2</dc:title>
</cp:coreProperties>
</file>