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AB4-1244-466B-A6A6-3F5089A8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66A-7068-4688-8F15-4D21406F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447-AE71-43B4-8884-1217431E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C3E-F0B0-4D20-A9DD-0711997C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EDBA-FBD7-4568-9F09-527A1F89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AF37-6D91-41C3-8007-6C0F35F5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CB63-6DEE-4A9F-86FC-F8063F5B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9B82-98B6-4A03-8F88-E31AF63B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D5F9-A4AC-42BD-9D28-A28F55F8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2FFB-7A73-4BE1-BCB6-1F7E6358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D48E-3025-4C7A-BC97-F5D25AB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FE0-AB2F-45E3-8045-D406B5D4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2D31-2FC6-45E9-AB6F-10032DC9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A6B1-4234-4BD7-B45F-37755107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5292-50B3-455B-8511-D95487D8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5252-C45A-4301-AB69-E539419C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6B8F-AEEE-402D-A2C5-7C9E6B0B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65C-B481-4987-840C-8E3DC3EF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05C-56FA-41CD-A3B8-FA2AD673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EAE-AC93-4573-8ED3-CD7AA9BF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802-330C-4A01-B18E-54EFD81A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C54-1804-4076-9855-D9403E0D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5D4-69AF-42C8-97C4-23E88D8C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849-3D8F-4EA8-9539-BF675087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A335-20E6-4BD9-8C7B-510A45DB4C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BDCC-B657-4AFA-A70C-E97F514770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 Instruction that </a:t>
            </a: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Work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y 2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42667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Similarit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o: Make a graphic organizer, write a paragraph, outline the similarities and differences betwe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200400"/>
            <a:ext cx="632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Setting/Learning Go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5486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urpose of this intro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Goal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a result of today’s training you will be able 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examples of each of the four methods of identifying similarities and differe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y these methods to your cont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show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tudents need explicit structure when first learning to identify similarities 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 and symbolic representations can help students understand and use processes for identifying sims and dif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s are divided into 4 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Analogi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 into content groups and rotate through modules…approx. 30 minutes per modu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omplete, there will be a jigsaw style discussion s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1: Living Environ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2: Earth 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3: Physics and Chemis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4: Overflow from Large LE or ES Group …try to pair up with same content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7040" y="1142640"/>
            <a:ext cx="4419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1: Station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2: Station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3: Stati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4: Station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38098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mmarize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key poin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LAST station and present to the group.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ive an exampl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strategy and explain how you will eithe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plicitly teach i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se it in your cont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8:34:20Z</dcterms:created>
  <dc:creator>Erie 1 Staff-Mobile Labs</dc:creator>
  <dc:description/>
  <dc:language>en-US</dc:language>
  <cp:lastModifiedBy>Monica Burgio</cp:lastModifiedBy>
  <dcterms:modified xsi:type="dcterms:W3CDTF">2009-01-07T23:43:36Z</dcterms:modified>
  <cp:revision>4</cp:revision>
  <dc:subject/>
  <dc:title>Classroom Instruction that Works Day 2</dc:title>
</cp:coreProperties>
</file>