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A7460-6C3B-4847-84A7-B26F4954A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35677-A99A-4FAE-AD9C-06667FE78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4D91A-B4D1-4CD1-9E33-7138BC737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8A3A9-3EF7-4E35-BFB4-F3B2A2C04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1136C-3D7D-4BE7-86A3-416A3C076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861C6-BB29-41CC-B296-4CACFB2AC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81470-F56B-4DA6-ADCD-98149DAA6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DE0C4-99CE-497F-BC5F-323F2DCFB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1901B-026B-465E-834E-378FC1A08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34A58-1929-4A6A-B3E2-FDA42AACC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48E2D-1B03-46EB-A889-0E221690B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13350-B7DF-413E-84D5-40FC08CD4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6DCE9-17BF-447A-B2F4-BEE150AFF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10D30-DA15-46DE-A198-186079EC3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8E51E-F2FF-4EF7-827D-8FF025116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2A0CF-BC23-4055-8700-49996436F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E13C3-174A-4F92-B75D-8D64852DE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B87A3-3364-43C1-9326-0021CCB2A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3EF68-9E9B-42F1-866B-D513D7B00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31DD4-8E18-4577-93C5-030D557B9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26D0B-AF1C-4BAA-BB98-561E33449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E6C8C-AA3B-40EB-AF99-18DF6DA10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2C23E-5FE1-41F4-8C11-81335426D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621B9-B04B-43E7-977F-89BB3BF7A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BC848-8303-4511-AA7F-ADAEF3D3FBFA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6C864-521D-4244-8918-BBE5DFAC5518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9807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assroom Instruction that </a:t>
            </a:r>
            <a:r>
              <a:rPr b="0" i="1" lang="en-US" sz="4400" spc="-1" strike="noStrike">
                <a:solidFill>
                  <a:srgbClr val="ff0000"/>
                </a:solidFill>
                <a:latin typeface="Comic Sans MS"/>
              </a:rPr>
              <a:t>Works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Day 2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752120" y="426672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dentifying Similarities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nd Differenc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040" y="1142640"/>
            <a:ext cx="75438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Intro: Make a graphic organizer, write a paragraph, outline the similarities and differences between: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"/>
          <p:cNvSpPr/>
          <p:nvPr/>
        </p:nvSpPr>
        <p:spPr>
          <a:xfrm>
            <a:off x="1752480" y="3200400"/>
            <a:ext cx="632484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oal Setting/Learning Go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ssential Qu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oviding Feedb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209680" y="548640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Purpose of this introduc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arning Goals…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s a result of today’s training you will be able to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give examples of each of the four methods of identifying similarities and difference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pply these methods to your content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search shows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at students need explicit structure when first learning to identify similarities and differenc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raphic and symbolic representations can help students understand and use processes for identifying sims and diff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oday’s Stru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ethods are divided into 4 statio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mparing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lassifying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reating Metaphor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reating Analogies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vide into content groups and rotate through modules…approx. 30 minutes per module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en complete, there will be a jigsaw style discussion sess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roup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69608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roup 1: Living Environment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roup 2: Earth Scienc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roup 3: Physics and Chemistr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roup 4: Overflow from Large LE or ES Group …try to pair up with same content!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69343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scussion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057040" y="1142640"/>
            <a:ext cx="441972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roup 1: Station 4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roup 2: Station 1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roup 3: Station 2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roup 4: Station 3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"/>
          <p:cNvSpPr/>
          <p:nvPr/>
        </p:nvSpPr>
        <p:spPr>
          <a:xfrm>
            <a:off x="2133720" y="3809880"/>
            <a:ext cx="5410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Summarize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key points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of the LAST station and present to the group. 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Give an example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of the strategy and explain how you will either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explicitly teach it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or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use it in your conten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2T18:34:20Z</dcterms:created>
  <dc:creator>Erie 1 Staff-Mobile Labs</dc:creator>
  <dc:description/>
  <dc:language>en-US</dc:language>
  <cp:lastModifiedBy>Monica Burgio</cp:lastModifiedBy>
  <dcterms:modified xsi:type="dcterms:W3CDTF">2009-01-07T23:43:36Z</dcterms:modified>
  <cp:revision>4</cp:revision>
  <dc:subject/>
  <dc:title>Classroom Instruction that Works Day 2</dc:title>
</cp:coreProperties>
</file>