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.wmf" ContentType="image/x-wmf"/>
  <Override PartName="/ppt/media/image25.wmf" ContentType="image/x-wmf"/>
  <Override PartName="/ppt/media/image2.wmf" ContentType="image/x-wmf"/>
  <Override PartName="/ppt/media/image6.gif" ContentType="image/gif"/>
  <Override PartName="/ppt/media/image34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39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35.png" ContentType="image/png"/>
  <Override PartName="/ppt/media/image46.wmf" ContentType="image/x-wmf"/>
  <Override PartName="/ppt/media/image3.png" ContentType="image/png"/>
  <Override PartName="/ppt/media/image10.wmf" ContentType="image/x-wmf"/>
  <Override PartName="/ppt/media/image45.wmf" ContentType="image/x-wmf"/>
  <Override PartName="/ppt/media/image12.gif" ContentType="image/gif"/>
  <Override PartName="/ppt/media/image15.png" ContentType="image/png"/>
  <Override PartName="/ppt/media/image13.wmf" ContentType="image/x-wmf"/>
  <Override PartName="/ppt/media/image29.jpeg" ContentType="image/jpeg"/>
  <Override PartName="/ppt/media/image8.wmf" ContentType="image/x-wmf"/>
  <Override PartName="/ppt/media/image30.jpeg" ContentType="image/jpeg"/>
  <Override PartName="/ppt/media/image7.wmf" ContentType="image/x-wmf"/>
  <Override PartName="/ppt/media/image44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5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D18-2130-4476-BE39-2C2A0CD1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7D9-8D68-4718-813E-D03DE2C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C1D-2BED-4C3C-98D3-57800921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8F7-491C-464E-8847-9D792612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075-B7DF-4172-8B4A-A11F8A2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B2F-16F0-44C5-A6D6-2CFA0365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7F9-2C2D-4DA5-9657-DDBF3A73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FA6-BADB-4E92-A458-F57EF163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4E6-70C6-4F12-898B-9FFB97E6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A87-862B-4FFA-BCFB-8C18245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F8B-5D8F-4427-B752-C8E7527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283-89AF-4A82-87C8-28CC6F2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9A6D-7BBA-4350-AF28-1E9F281E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explain how you feel right now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parts work together to make a whole pro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Are skilled at distinguishing concept “X” from common misconceptions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27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subject/verb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Roman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muscles and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crime and drug us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523880"/>
            <a:ext cx="4191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parts work together to make a whole produ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7964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part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2642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learning goal is to become skilled at distinguishing concept “X” from common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46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distinguish 3 concepts from common miscon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n the card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ime to review on car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dentifying Similariti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Differ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content groups and go to one modules…approx. 30 minu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ation and present to the group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ive an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strategy and explain how you will ei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icitly teach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se it in your cont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n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49568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 on Ca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-Daigler</cp:lastModifiedBy>
  <dcterms:modified xsi:type="dcterms:W3CDTF">2010-08-11T16:48:40Z</dcterms:modified>
  <cp:revision>102</cp:revision>
  <dc:subject/>
  <dc:title>Slide 1</dc:title>
</cp:coreProperties>
</file>