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5.wmf" ContentType="image/x-wmf"/>
  <Override PartName="/ppt/media/image2.wmf" ContentType="image/x-wmf"/>
  <Override PartName="/ppt/media/image6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39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35.png" ContentType="image/png"/>
  <Override PartName="/ppt/media/image46.wmf" ContentType="image/x-wmf"/>
  <Override PartName="/ppt/media/image3.png" ContentType="image/png"/>
  <Override PartName="/ppt/media/image10.wmf" ContentType="image/x-wmf"/>
  <Override PartName="/ppt/media/image45.wmf" ContentType="image/x-wmf"/>
  <Override PartName="/ppt/media/image12.gif" ContentType="image/gif"/>
  <Override PartName="/ppt/media/image15.png" ContentType="image/png"/>
  <Override PartName="/ppt/media/image13.wmf" ContentType="image/x-wmf"/>
  <Override PartName="/ppt/media/image29.jpeg" ContentType="image/jpeg"/>
  <Override PartName="/ppt/media/image8.wmf" ContentType="image/x-wmf"/>
  <Override PartName="/ppt/media/image30.jpeg" ContentType="image/jpeg"/>
  <Override PartName="/ppt/media/image7.wmf" ContentType="image/x-wmf"/>
  <Override PartName="/ppt/media/image44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5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447-D80D-4103-A4C9-C591F0A4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E1D-10C2-4706-878D-F2CDD79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777-896F-4216-A47B-82A08201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C82-B8B0-4F0A-BCCA-24149E37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DB8-ECDF-4DE4-A852-DA027041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FF0-CC6F-480E-81B0-5D32809A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EB1-12E5-4617-9C6F-162D3E3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6F4-4FAE-4EFC-A619-9B1AECE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EC2-899F-4DA2-BEFF-CC87C74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8A3-8853-4D2E-BB85-F5E6C50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A93-FC83-4E71-9C7E-42280CB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29F-CC14-445F-AD72-CAD74C2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EF5-816E-4BBD-86C8-67934FFC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explain how you feel right now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parts work together to make a whole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re skilled at distinguishing concept “X” from common misconceptions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27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subject/verb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Rom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muscles and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crime and drug us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523880"/>
            <a:ext cx="4191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parts work together to make a whole produ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7964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part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2642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learning goal is to become skilled at distinguishing concept “X” from common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46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distinguish 3 concepts from common miscon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n the card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ime to review on car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dentifying Similar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Dif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content groups and go to one modules…approx. 30 minu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ation and present to the group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an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rategy and explain how you will ei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icitly teach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se it in your cont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n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9568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 on Ca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-Daigler</cp:lastModifiedBy>
  <dcterms:modified xsi:type="dcterms:W3CDTF">2010-08-11T16:48:40Z</dcterms:modified>
  <cp:revision>102</cp:revision>
  <dc:subject/>
  <dc:title>Slide 1</dc:title>
</cp:coreProperties>
</file>