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19.jpeg" ContentType="image/jpeg"/>
  <Override PartName="/ppt/media/image17.png" ContentType="image/png"/>
  <Override PartName="/ppt/media/image16.png" ContentType="image/png"/>
  <Override PartName="/ppt/media/image1.wmf" ContentType="image/x-wmf"/>
  <Override PartName="/ppt/media/image25.wmf" ContentType="image/x-wmf"/>
  <Override PartName="/ppt/media/image2.wmf" ContentType="image/x-wmf"/>
  <Override PartName="/ppt/media/image6.gif" ContentType="image/gif"/>
  <Override PartName="/ppt/media/image34.png" ContentType="image/png"/>
  <Override PartName="/ppt/media/image36.png" ContentType="image/png"/>
  <Override PartName="/ppt/media/image37.png" ContentType="image/png"/>
  <Override PartName="/ppt/media/image40.wmf" ContentType="image/x-wmf"/>
  <Override PartName="/ppt/media/image38.png" ContentType="image/png"/>
  <Override PartName="/ppt/media/image41.wmf" ContentType="image/x-wmf"/>
  <Override PartName="/ppt/media/image31.png" ContentType="image/png"/>
  <Override PartName="/ppt/media/image39.png" ContentType="image/png"/>
  <Override PartName="/ppt/media/image42.wmf" ContentType="image/x-wmf"/>
  <Override PartName="/ppt/media/image32.png" ContentType="image/png"/>
  <Override PartName="/ppt/media/image43.wmf" ContentType="image/x-wmf"/>
  <Override PartName="/ppt/media/image35.png" ContentType="image/png"/>
  <Override PartName="/ppt/media/image46.wmf" ContentType="image/x-wmf"/>
  <Override PartName="/ppt/media/image3.png" ContentType="image/png"/>
  <Override PartName="/ppt/media/image10.wmf" ContentType="image/x-wmf"/>
  <Override PartName="/ppt/media/image45.wmf" ContentType="image/x-wmf"/>
  <Override PartName="/ppt/media/image12.gif" ContentType="image/gif"/>
  <Override PartName="/ppt/media/image15.png" ContentType="image/png"/>
  <Override PartName="/ppt/media/image13.wmf" ContentType="image/x-wmf"/>
  <Override PartName="/ppt/media/image29.jpeg" ContentType="image/jpeg"/>
  <Override PartName="/ppt/media/image8.wmf" ContentType="image/x-wmf"/>
  <Override PartName="/ppt/media/image30.jpeg" ContentType="image/jpeg"/>
  <Override PartName="/ppt/media/image7.wmf" ContentType="image/x-wmf"/>
  <Override PartName="/ppt/media/image44.wmf" ContentType="image/x-wmf"/>
  <Override PartName="/ppt/media/image11.gif" ContentType="image/gif"/>
  <Override PartName="/ppt/media/image9.wmf" ContentType="image/x-wmf"/>
  <Override PartName="/ppt/media/image14.png" ContentType="image/png"/>
  <Override PartName="/ppt/media/image5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CD6E-52E3-4C1A-8664-0C826920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3BD-B4E4-449F-A201-9069EBC1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96C-42A2-45DB-AF33-1EF9E079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FE1-541F-42A6-8483-F4886811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0E62-B87E-4701-A922-DC05E377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788-C7AC-492C-AE94-96BF6778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392A-76DC-4D8E-A2CF-64AF37D6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D3B1-D4D1-49AC-A055-FE19F63B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088-1551-47D4-9D34-37E5982A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063-9688-4303-861F-B003F382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2858-CB95-487E-AB58-932914E6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FE8-9380-46BA-8169-DC4B7FE9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2120-32E6-4782-8777-9C3E29A3C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Essential%20Questions.pub" TargetMode="External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ubistar.4teachers.org/index.php" TargetMode="External"/><Relationship Id="rId2" Type="http://schemas.openxmlformats.org/officeDocument/2006/relationships/hyperlink" Target="http://teach-nology.com/web_tools/rubrics/science_fair/" TargetMode="External"/><Relationship Id="rId3" Type="http://schemas.openxmlformats.org/officeDocument/2006/relationships/hyperlink" Target="http://www.rubrics4teachers.com/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gl.microsoft.com/mgnsrv.dll?1,en,bl01063_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nonliguistic%20opening.doc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aps.edu/aps/tls/ContentUnit/Literacy/docs/KnowledgeRatingChart.pdf" TargetMode="Externa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monicabd.wikispaces.com/Starpoint" TargetMode="Externa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Intro ques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s – name, subject(s) taught,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ICTURE explain how you feel right now and why…and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k-pair-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you use research-based instructional strategies to increase the learning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697560" cy="434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609480"/>
            <a:ext cx="4267080" cy="1676520"/>
          </a:xfrm>
          <a:prstGeom prst="wedgeEllipseCallout">
            <a:avLst>
              <a:gd name="adj1" fmla="val -12314"/>
              <a:gd name="adj2" fmla="val 8428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bjective i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86400" y="1523880"/>
            <a:ext cx="3657600" cy="2133720"/>
          </a:xfrm>
          <a:prstGeom prst="cloudCallout">
            <a:avLst>
              <a:gd name="adj1" fmla="val -6120"/>
              <a:gd name="adj2" fmla="val 8065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need to learn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562720" y="4665600"/>
            <a:ext cx="3276360" cy="2192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>
            <a:off x="5486400" y="1523880"/>
            <a:ext cx="3657600" cy="2133720"/>
          </a:xfrm>
          <a:prstGeom prst="cloudCallout">
            <a:avLst>
              <a:gd name="adj1" fmla="val -5078"/>
              <a:gd name="adj2" fmla="val 7931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have to complete this by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85800" y="1371600"/>
              <a:ext cx="7467480" cy="365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762120" y="1447920"/>
            <a:ext cx="716256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Read Chapter 2 in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Finish assignm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Work on project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609480" cy="517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467480" y="2819520"/>
            <a:ext cx="685800" cy="582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467480" y="3581280"/>
            <a:ext cx="685800" cy="58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9480" y="2127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tivities/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8915040" cy="6858000"/>
            <a:chOff x="0" y="0"/>
            <a:chExt cx="8915040" cy="68580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9150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25320" y="1371600"/>
              <a:ext cx="7664040" cy="365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85800" y="1371600"/>
            <a:ext cx="7467480" cy="3657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s a result of what we do today, you will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ble to demonstrate that you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514600"/>
            <a:ext cx="64767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Understand how parts work together to make a whole produ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Are skilled at distinguishing concept “X” from common misconceptions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127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rning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066680"/>
            <a:ext cx="9144000" cy="527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ake notes on den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nderstand subject/verb agre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ke a travel brochure for the Roman Emp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ke a simple mach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nderstand the relationship between muscles and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rite a report on crime and drug use in the n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sign a menu that includes a balance of foods from the food pyram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Activities/Assignments  or                    Learning Goals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ssential Q’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essential ques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effectively create and use essential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or Objective…that is the questio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k to Document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rsonal Learning Go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of them like SMAR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need to scaffold it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challenging but 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successes within a class period can lead to HUGE successes lat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mentum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page 177 and nex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80880" y="990720"/>
          <a:ext cx="8763120" cy="5867280"/>
        </p:xfrm>
        <a:graphic>
          <a:graphicData uri="http://schemas.openxmlformats.org/drawingml/2006/table">
            <a:tbl>
              <a:tblPr/>
              <a:tblGrid>
                <a:gridCol w="4572000"/>
                <a:gridCol w="419112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Goal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 2  3  4 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2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 2  3  4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  2  3  4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 2  3  4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04920" y="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__________________  Date___________________ Assignment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523880"/>
            <a:ext cx="4191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how parts work together to make a whole produ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87964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 personal learning goal is to describe how 3 parts work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419720"/>
            <a:ext cx="358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42642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learning goal is to become skilled at distinguishing concept “X” from common misconce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5546880"/>
            <a:ext cx="44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 personal learning goal is to   distinguish 3 concepts from common misconce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n the card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743200" cy="23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3276720" cy="28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ow that we set Objectives and Essential Questions...what’s nex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t questions 6 and 7 on Figure 13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lect on page 1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you say? 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192040" cy="1590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162920" y="4800600"/>
            <a:ext cx="134604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886200" y="3917880"/>
            <a:ext cx="44197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ook Antiqua"/>
              </a:rPr>
              <a:t>works</a:t>
            </a:r>
            <a:endParaRPr b="1" i="1" lang="en-US" sz="96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6259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th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33992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Monotype Corsiva"/>
              </a:rPr>
              <a:t>Classroom Instruc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ssed Terms Literacy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ges 185-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the cube and tap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s the cube and talk about/explain the term or phrase that comes up on the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ll the phrases, by taking 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0" y="5029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784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Objectives and 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81952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“corrective” in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tim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specific to a criter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tudents can effectively provide their own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143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Generalizations from research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52280"/>
            <a:ext cx="914400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99"/>
                </a:solidFill>
                <a:latin typeface="Times New Roman"/>
              </a:rPr>
              <a:t>John Hattie—reviewed 7,827 studies on learning and instruc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1504800"/>
            <a:ext cx="868680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Conclusion… “The most powerful single innovation that enhances achievement is feedback. The simplest prescription for improving education must be ‘dollops’ of feedback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99"/>
                </a:solidFill>
                <a:latin typeface="Times New Roman"/>
              </a:rPr>
              <a:t>John Hattie—reviewed 7,827 studies on learning and instruc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981080"/>
            <a:ext cx="868680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…</a:t>
            </a: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reported that providing students with specific information about their standing in terms of </a:t>
            </a:r>
            <a:r>
              <a:rPr b="1" lang="en-US" sz="3600" spc="-1" strike="noStrike" u="sng">
                <a:solidFill>
                  <a:srgbClr val="ccff66"/>
                </a:solidFill>
                <a:uFillTx/>
                <a:latin typeface="Comic Sans MS"/>
              </a:rPr>
              <a:t>particular objectives</a:t>
            </a: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 increased their achievement by 37 percentile poi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457200"/>
            <a:ext cx="8610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you provide feedback in a way that stud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now what they are learning and how well the are prog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explain what they need to do to get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 rot="20250000">
            <a:off x="2819160" y="4267080"/>
            <a:ext cx="2971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bric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2362320"/>
            <a:ext cx="86108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oring Guides that explain levels of  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tentially, they focus students on “the lear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in conjunction with checklists,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76720" y="0"/>
            <a:ext cx="236196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bric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2978640" y="1143000"/>
            <a:ext cx="30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eedback should be specific to a criter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is the focus of the criteri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438280"/>
            <a:ext cx="86868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riteria focus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product, the student will be more likely to attend to the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419720"/>
            <a:ext cx="89154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riteria focus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vel of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tudent will be more likely to attend to the level of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ri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ubist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ach-n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ubrics 4 teach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er Assessment/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rocess using a checklist. Constructive comments, or rubric (experimental design) or projec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648320" cy="38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6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an complete the rubric with an “explanation column” before the teacher uses the assessment rub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cher assesses the student using the same rubric (however, it is not the one the student wrote 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use the data from the student and teacher is subject to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380880"/>
            <a:ext cx="8458200" cy="5998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88784" dir="2300697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at strategies are effective for increasing student achiev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w can teachers use setting objectives, writing essential questions, and providing feedback in a PLE or Unit Pl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ing Goals: Participants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ain an understanding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structional strategies that research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dicates can have a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gnificant influence on student achievement (specificall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setting objectives and writing essential questions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roviding feedback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ecome skilled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ow to effectively set Unit or PLE objectives (learning goals),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ersonal learning goals, essential questions,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viding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8672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will embed these skills into my staff development in addition to literacy strategies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for meaning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time to review on car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43828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dentifying Similariti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nd Differen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students need explicit structure when first learning to identify similarities and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 and symbolic representations can help students understand and use processes for identifying sims and d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are divided into 4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Metap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a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into content groups and go to one modules…approx. 30 minut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mplete, there will be a jigsaw style discussion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1981080"/>
            <a:ext cx="6477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key poin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the station and present to the group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ive an 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the strategy and explain how you will eith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plicitly teach i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use it in your cont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n C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495680" cy="42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teach reflects as learn"/>
          <p:cNvPicPr/>
          <p:nvPr/>
        </p:nvPicPr>
        <p:blipFill>
          <a:blip r:embed="rId1"/>
          <a:stretch/>
        </p:blipFill>
        <p:spPr>
          <a:xfrm>
            <a:off x="457200" y="380880"/>
            <a:ext cx="7924680" cy="566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 understand the research behind using MI in your classroom (specifically nonlinguis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erience the various uses of nonlinguistic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a lesson plan or lesson plan sketch using this strategy to tap into the visual learners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28600" y="914400"/>
          <a:ext cx="8839080" cy="5572080"/>
        </p:xfrm>
        <a:graphic>
          <a:graphicData uri="http://schemas.openxmlformats.org/drawingml/2006/table">
            <a:tbl>
              <a:tblPr/>
              <a:tblGrid>
                <a:gridCol w="2438280"/>
                <a:gridCol w="6400800"/>
              </a:tblGrid>
              <a:tr h="24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57200" y="0"/>
            <a:ext cx="8458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at Works in Schools- Robert Marz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838080"/>
            <a:ext cx="6781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Guaranteed and Viable Curriculum                        2.  Challenging Goals and Effective Feedback          3.  Parent and Community Involvement                     4.  Safe and Orderly Environment                               5.  Collegiality and Profession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352680"/>
            <a:ext cx="44960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Instructional Strategies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 Classroom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 Classroom Curriculum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1828800"/>
            <a:ext cx="1905120" cy="1374120"/>
            <a:chOff x="380880" y="1828800"/>
            <a:chExt cx="1905120" cy="1374120"/>
          </a:xfrm>
        </p:grpSpPr>
        <p:pic>
          <p:nvPicPr>
            <p:cNvPr id="54" name="" descr="Click To Download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828800"/>
              <a:ext cx="990360" cy="92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5" name=""/>
            <p:cNvSpPr/>
            <p:nvPr/>
          </p:nvSpPr>
          <p:spPr>
            <a:xfrm>
              <a:off x="380880" y="2743200"/>
              <a:ext cx="190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cho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880" y="3352680"/>
            <a:ext cx="1905120" cy="1374120"/>
            <a:chOff x="380880" y="3352680"/>
            <a:chExt cx="1905120" cy="137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762120" y="3352680"/>
              <a:ext cx="1066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267080"/>
              <a:ext cx="1905120" cy="459720"/>
            </a:xfrm>
            <a:prstGeom prst="rect">
              <a:avLst/>
            </a:prstGeom>
            <a:solidFill>
              <a:srgbClr val="ff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Teac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57200" y="4800600"/>
            <a:ext cx="1905120" cy="1679040"/>
            <a:chOff x="457200" y="4800600"/>
            <a:chExt cx="1905120" cy="167904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93720" y="4800600"/>
              <a:ext cx="1166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57200" y="6019920"/>
              <a:ext cx="1905120" cy="4597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666880" y="5013360"/>
            <a:ext cx="6324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  Hom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 Learning Intelligence/ Background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nonlinguistic represen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905120"/>
            <a:ext cx="769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Students: create graph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representations, 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pictures, physical models, drawing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nd participate in kinesthe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ctivity in order to assimi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762120"/>
            <a:ext cx="121896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43800" y="4800600"/>
            <a:ext cx="121932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here do we begin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flect on past practices..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page 1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teach the way we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variety the spice of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we know about the brain and learning? (Bookab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0880" y="533520"/>
            <a:ext cx="83059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ntique Olive"/>
              </a:rPr>
              <a:t>How to implement RBIS (especially nonlinguistic) in your classroo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cept Maps – see appendix in book (pg.35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ayer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nowledge Rating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s – physical and 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inesthetic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orybo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ld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314880" cy="4143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359160" cy="4343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378440" y="6019920"/>
            <a:ext cx="65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dhelper.com/teachers/graphic_organizers_kw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14720" y="557280"/>
            <a:ext cx="4714560" cy="57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471760" y="547560"/>
            <a:ext cx="4200480" cy="576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362320" y="685800"/>
            <a:ext cx="462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Arial"/>
              </a:rPr>
              <a:t>Comparing Animal and Plant Cells Venn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523880"/>
          <a:ext cx="9144000" cy="581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imal Ce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nt Ce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609480" y="380880"/>
          <a:ext cx="7315200" cy="83772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83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1440" y="241200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23880" y="1600200"/>
          <a:ext cx="6202440" cy="3994920"/>
        </p:xfrm>
        <a:graphic>
          <a:graphicData uri="http://schemas.openxmlformats.org/drawingml/2006/table">
            <a:tbl>
              <a:tblPr/>
              <a:tblGrid>
                <a:gridCol w="1240560"/>
                <a:gridCol w="1240560"/>
                <a:gridCol w="1240560"/>
                <a:gridCol w="1240200"/>
                <a:gridCol w="1240560"/>
              </a:tblGrid>
              <a:tr h="79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961920" y="4161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yer Model…why is it better than regular note cards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57240" y="-4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447920" y="1523880"/>
          <a:ext cx="6381720" cy="47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38172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24080" y="22860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actors Influencing Achievement we as teachers can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327672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Instructional Strategies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Classroom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Classroom Curriculu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80880" y="990720"/>
            <a:ext cx="3124080" cy="1956960"/>
            <a:chOff x="380880" y="990720"/>
            <a:chExt cx="3124080" cy="19569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005840" y="990720"/>
              <a:ext cx="174924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80880" y="2366280"/>
              <a:ext cx="3124080" cy="581400"/>
            </a:xfrm>
            <a:prstGeom prst="rect">
              <a:avLst/>
            </a:prstGeom>
            <a:solidFill>
              <a:srgbClr val="ff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Teach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nowledge Rating Cha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895480" y="1905120"/>
            <a:ext cx="37260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– physical and m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step 4 photo a"/>
          <p:cNvPicPr/>
          <p:nvPr/>
        </p:nvPicPr>
        <p:blipFill>
          <a:blip r:embed="rId1"/>
          <a:stretch/>
        </p:blipFill>
        <p:spPr>
          <a:xfrm>
            <a:off x="609480" y="1676520"/>
            <a:ext cx="3772080" cy="2552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mickey-mouse-ears.jpg"/>
          <p:cNvPicPr/>
          <p:nvPr/>
        </p:nvPicPr>
        <p:blipFill>
          <a:blip r:embed="rId2"/>
          <a:stretch/>
        </p:blipFill>
        <p:spPr>
          <a:xfrm>
            <a:off x="5562720" y="3886200"/>
            <a:ext cx="228600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3595680" cy="3657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imagedemosm.aspx?picid=467"/>
          <p:cNvPicPr/>
          <p:nvPr/>
        </p:nvPicPr>
        <p:blipFill>
          <a:blip r:embed="rId2"/>
          <a:stretch/>
        </p:blipFill>
        <p:spPr>
          <a:xfrm>
            <a:off x="6172200" y="304920"/>
            <a:ext cx="2070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inesthetic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106640"/>
            <a:ext cx="7696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s (solid, liquid, g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on” says..with muscles, bones, anatomical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cor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ion vs.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 building (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g/Dance (peristalsis, villi, poop)/YDIX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uch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ervations/Prior Knowledge/B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289400" cy="6019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6934320" y="914400"/>
            <a:ext cx="1038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Ha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4648320"/>
            <a:ext cx="10670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Sca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910040" cy="5715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Fa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480" y="4648320"/>
            <a:ext cx="2210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Saxapho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438800" cy="4421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Carro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51055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Brea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Foldable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Concept Map"/>
          <p:cNvPicPr/>
          <p:nvPr/>
        </p:nvPicPr>
        <p:blipFill>
          <a:blip r:embed="rId1"/>
          <a:stretch/>
        </p:blipFill>
        <p:spPr>
          <a:xfrm>
            <a:off x="533520" y="533520"/>
            <a:ext cx="8153280" cy="56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69840"/>
            <a:ext cx="8001000" cy="5710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dentifying similarities and differ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mmarizing and note ta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inforcing effort and providing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omework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nlinguistic represen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opera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tting objectives and providing feedb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ing and testing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ues, questions, and advance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76320"/>
            <a:ext cx="4876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assroom Instruction That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91320" y="76320"/>
            <a:ext cx="1752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ook Antiqua"/>
              </a:rPr>
              <a:t>works</a:t>
            </a:r>
            <a:endParaRPr b="1" i="1" lang="en-US" sz="96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ook Antiqua"/>
              <a:ea typeface="Book Antiqu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Concept Map Examples for  Middle and High School"/>
          <p:cNvPicPr/>
          <p:nvPr/>
        </p:nvPicPr>
        <p:blipFill>
          <a:blip r:embed="rId1"/>
          <a:stretch/>
        </p:blipFill>
        <p:spPr>
          <a:xfrm>
            <a:off x="1523880" y="457200"/>
            <a:ext cx="567864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Causes and Effects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43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Causes and Effects Examples for Middle and HIgh School"/>
          <p:cNvPicPr/>
          <p:nvPr/>
        </p:nvPicPr>
        <p:blipFill>
          <a:blip r:embed="rId1"/>
          <a:stretch/>
        </p:blipFill>
        <p:spPr>
          <a:xfrm>
            <a:off x="4572000" y="457200"/>
            <a:ext cx="39067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Venn Diagram"/>
          <p:cNvPicPr/>
          <p:nvPr/>
        </p:nvPicPr>
        <p:blipFill>
          <a:blip r:embed="rId1"/>
          <a:stretch/>
        </p:blipFill>
        <p:spPr>
          <a:xfrm>
            <a:off x="1066680" y="685800"/>
            <a:ext cx="670572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Venn Diagram Examples for  Middle and High School"/>
          <p:cNvPicPr/>
          <p:nvPr/>
        </p:nvPicPr>
        <p:blipFill>
          <a:blip r:embed="rId1"/>
          <a:stretch/>
        </p:blipFill>
        <p:spPr>
          <a:xfrm>
            <a:off x="838080" y="304920"/>
            <a:ext cx="61866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Basic Fo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rr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1247760" cy="1187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143000" y="5029200"/>
            <a:ext cx="1817640" cy="1446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629400" y="1523880"/>
            <a:ext cx="2259000" cy="1373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705720" y="3352680"/>
            <a:ext cx="2087280" cy="1287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6705720" y="5334120"/>
            <a:ext cx="1477800" cy="12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4495680" cy="6324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638680" y="1676520"/>
            <a:ext cx="2819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t’s Play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Review Strategy on Car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133360" y="19051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lea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29797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391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plete page 176 (reflection) honestl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91320" y="3825720"/>
            <a:ext cx="297180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609480"/>
            <a:ext cx="8076960" cy="202572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153753" dir="27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tting Objectives and              Providing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29200" y="175248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ad pgs. 173-178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58128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rst Turn, Last Turn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teracy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1179360"/>
            <a:ext cx="8458200" cy="3566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hen students know what they are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learning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their performance, on average, has been shown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27 percentile points higher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an students who do not know what they are lea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21:04:43Z</dcterms:created>
  <dc:creator>Debra Pickering</dc:creator>
  <dc:description/>
  <dc:language>en-US</dc:language>
  <cp:lastModifiedBy>Monica Burgio-Daigler</cp:lastModifiedBy>
  <dcterms:modified xsi:type="dcterms:W3CDTF">2010-08-11T16:48:40Z</dcterms:modified>
  <cp:revision>102</cp:revision>
  <dc:subject/>
  <dc:title>Slide 1</dc:title>
</cp:coreProperties>
</file>