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33.jpeg" ContentType="image/jpeg"/>
  <Override PartName="/ppt/media/image26.wmf" ContentType="image/x-wmf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28.jpeg" ContentType="image/jpeg"/>
  <Override PartName="/ppt/media/image20.png" ContentType="image/png"/>
  <Override PartName="/ppt/media/image18.wmf" ContentType="image/x-wmf"/>
  <Override PartName="/ppt/media/image19.jpeg" ContentType="image/jpeg"/>
  <Override PartName="/ppt/media/image17.png" ContentType="image/png"/>
  <Override PartName="/ppt/media/image16.png" ContentType="image/png"/>
  <Override PartName="/ppt/media/image1.wmf" ContentType="image/x-wmf"/>
  <Override PartName="/ppt/media/image25.wmf" ContentType="image/x-wmf"/>
  <Override PartName="/ppt/media/image2.wmf" ContentType="image/x-wmf"/>
  <Override PartName="/ppt/media/image6.gif" ContentType="image/gif"/>
  <Override PartName="/ppt/media/image34.png" ContentType="image/png"/>
  <Override PartName="/ppt/media/image36.png" ContentType="image/png"/>
  <Override PartName="/ppt/media/image37.png" ContentType="image/png"/>
  <Override PartName="/ppt/media/image40.wmf" ContentType="image/x-wmf"/>
  <Override PartName="/ppt/media/image38.png" ContentType="image/png"/>
  <Override PartName="/ppt/media/image41.wmf" ContentType="image/x-wmf"/>
  <Override PartName="/ppt/media/image31.png" ContentType="image/png"/>
  <Override PartName="/ppt/media/image39.png" ContentType="image/png"/>
  <Override PartName="/ppt/media/image42.wmf" ContentType="image/x-wmf"/>
  <Override PartName="/ppt/media/image32.png" ContentType="image/png"/>
  <Override PartName="/ppt/media/image43.wmf" ContentType="image/x-wmf"/>
  <Override PartName="/ppt/media/image35.png" ContentType="image/png"/>
  <Override PartName="/ppt/media/image46.wmf" ContentType="image/x-wmf"/>
  <Override PartName="/ppt/media/image3.png" ContentType="image/png"/>
  <Override PartName="/ppt/media/image10.wmf" ContentType="image/x-wmf"/>
  <Override PartName="/ppt/media/image45.wmf" ContentType="image/x-wmf"/>
  <Override PartName="/ppt/media/image12.gif" ContentType="image/gif"/>
  <Override PartName="/ppt/media/image15.png" ContentType="image/png"/>
  <Override PartName="/ppt/media/image13.wmf" ContentType="image/x-wmf"/>
  <Override PartName="/ppt/media/image29.jpeg" ContentType="image/jpeg"/>
  <Override PartName="/ppt/media/image8.wmf" ContentType="image/x-wmf"/>
  <Override PartName="/ppt/media/image30.jpeg" ContentType="image/jpeg"/>
  <Override PartName="/ppt/media/image7.wmf" ContentType="image/x-wmf"/>
  <Override PartName="/ppt/media/image44.wmf" ContentType="image/x-wmf"/>
  <Override PartName="/ppt/media/image11.gif" ContentType="image/gif"/>
  <Override PartName="/ppt/media/image9.wmf" ContentType="image/x-wmf"/>
  <Override PartName="/ppt/media/image14.png" ContentType="image/png"/>
  <Override PartName="/ppt/media/image5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62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00967-CEC4-42A0-8850-50FFDC33E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E532A-BD53-475E-BE62-C5F153590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898BB-9C2B-4D56-993B-455590F40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65FD5-68FA-47DE-BD97-5A2AADF6C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65C0D-3E71-40F5-8E3E-FE973C562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F4B39-FC0F-4D32-A30C-9405C03F8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F0CD0-208D-4CE4-832C-1AE82A299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A45B2-4DD1-4ACC-84D7-3D258FF24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2753B-5FA7-4333-8286-DEED30B3D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44DD1-F013-4699-867C-FF6DD50C4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67F4E-FDB7-45D8-A8ED-DF8612B14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3E143-46B3-4666-A2D1-EB051D581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80AB7-3120-4781-8CEC-84061083D4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0.wmf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file:///Essential%20Questions.pub" TargetMode="External"/><Relationship Id="rId2" Type="http://schemas.openxmlformats.org/officeDocument/2006/relationships/image" Target="../media/image11.gif"/><Relationship Id="rId3" Type="http://schemas.openxmlformats.org/officeDocument/2006/relationships/image" Target="../media/image11.gif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rubistar.4teachers.org/index.php" TargetMode="External"/><Relationship Id="rId2" Type="http://schemas.openxmlformats.org/officeDocument/2006/relationships/hyperlink" Target="http://teach-nology.com/web_tools/rubrics/science_fair/" TargetMode="External"/><Relationship Id="rId3" Type="http://schemas.openxmlformats.org/officeDocument/2006/relationships/hyperlink" Target="http://www.rubrics4teachers.com/" TargetMode="External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dgl.microsoft.com/mgnsrv.dll?1,en,bl01063_" TargetMode="External"/><Relationship Id="rId2" Type="http://schemas.openxmlformats.org/officeDocument/2006/relationships/image" Target="../media/image3.png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hyperlink" Target="file:///nonliguistic%20opening.doc" TargetMode="External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hyperlink" Target="http://www.aps.edu/aps/tls/ContentUnit/Literacy/docs/KnowledgeRatingChart.pdf" TargetMode="External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hyperlink" Target="http://monicabd.wikispaces.com/Starpoint" TargetMode="External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image" Target="../media/image41.wmf"/><Relationship Id="rId3" Type="http://schemas.openxmlformats.org/officeDocument/2006/relationships/image" Target="../media/image42.wmf"/><Relationship Id="rId4" Type="http://schemas.openxmlformats.org/officeDocument/2006/relationships/image" Target="../media/image43.wmf"/><Relationship Id="rId5" Type="http://schemas.openxmlformats.org/officeDocument/2006/relationships/image" Target="../media/image44.wmf"/><Relationship Id="rId6" Type="http://schemas.openxmlformats.org/officeDocument/2006/relationships/slideLayout" Target="../slideLayouts/slideLayout4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45.wmf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380880" y="380880"/>
            <a:ext cx="876312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Intro question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tions – name, subject(s) taught, and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PICTURE explain how you feel right now and why…and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nk-pair-sh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will you use research-based instructional strategies to increase the learning in your classroo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800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8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8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8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800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8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8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8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800"/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800" fill="hold"/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800" fill="hold"/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800" fill="hold"/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800"/>
                                        <p:tgtEl>
                                          <p:spTgt spid="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800" fill="hold"/>
                                        <p:tgtEl>
                                          <p:spTgt spid="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800" fill="hold"/>
                                        <p:tgtEl>
                                          <p:spTgt spid="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800" fill="hold"/>
                                        <p:tgtEl>
                                          <p:spTgt spid="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609480" y="2514600"/>
            <a:ext cx="3697560" cy="4343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0" y="609480"/>
            <a:ext cx="4267080" cy="1676520"/>
          </a:xfrm>
          <a:prstGeom prst="wedgeEllipseCallout">
            <a:avLst>
              <a:gd name="adj1" fmla="val -12314"/>
              <a:gd name="adj2" fmla="val 84282"/>
            </a:avLst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objective is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5486400" y="1523880"/>
            <a:ext cx="3657600" cy="2133720"/>
          </a:xfrm>
          <a:prstGeom prst="cloudCallout">
            <a:avLst>
              <a:gd name="adj1" fmla="val -6120"/>
              <a:gd name="adj2" fmla="val 80652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 need to learn…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5562720" y="4665600"/>
            <a:ext cx="3276360" cy="21924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 flipH="1">
            <a:off x="5486400" y="1523880"/>
            <a:ext cx="3657600" cy="2133720"/>
          </a:xfrm>
          <a:prstGeom prst="cloudCallout">
            <a:avLst>
              <a:gd name="adj1" fmla="val -5078"/>
              <a:gd name="adj2" fmla="val 79314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 have to complete this by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84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"/>
            <p:cNvSpPr/>
            <p:nvPr/>
          </p:nvSpPr>
          <p:spPr>
            <a:xfrm>
              <a:off x="685800" y="1371600"/>
              <a:ext cx="7467480" cy="3657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"/>
          <p:cNvSpPr/>
          <p:nvPr/>
        </p:nvSpPr>
        <p:spPr>
          <a:xfrm>
            <a:off x="762120" y="1447920"/>
            <a:ext cx="7162560" cy="3429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Monotype Corsiva"/>
              </a:rPr>
              <a:t>Toda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Monotype Corsiva"/>
              </a:rPr>
              <a:t>	</a:t>
            </a:r>
            <a:r>
              <a:rPr b="0" lang="en-US" sz="4000" spc="-1" strike="noStrike">
                <a:solidFill>
                  <a:srgbClr val="ffffcc"/>
                </a:solidFill>
                <a:latin typeface="Monotype Corsiva"/>
              </a:rPr>
              <a:t>Read Chapter 2 in 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Monotype Corsiva"/>
              </a:rPr>
              <a:t>	</a:t>
            </a:r>
            <a:r>
              <a:rPr b="0" lang="en-US" sz="4000" spc="-1" strike="noStrike">
                <a:solidFill>
                  <a:srgbClr val="ffffcc"/>
                </a:solidFill>
                <a:latin typeface="Monotype Corsiva"/>
              </a:rPr>
              <a:t>Finish assignment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Monotype Corsiva"/>
              </a:rPr>
              <a:t>	</a:t>
            </a:r>
            <a:r>
              <a:rPr b="0" lang="en-US" sz="4000" spc="-1" strike="noStrike">
                <a:solidFill>
                  <a:srgbClr val="ffffcc"/>
                </a:solidFill>
                <a:latin typeface="Monotype Corsiva"/>
              </a:rPr>
              <a:t>Work on project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629400" y="220968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7543800" y="2133720"/>
            <a:ext cx="609480" cy="5173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7467480" y="2819520"/>
            <a:ext cx="685800" cy="5824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4"/>
          <a:stretch/>
        </p:blipFill>
        <p:spPr>
          <a:xfrm>
            <a:off x="7467480" y="3581280"/>
            <a:ext cx="685800" cy="5842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609480" y="212760"/>
            <a:ext cx="800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ctivities/Assign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1000"/>
                            </p:stCondLst>
                            <p:childTnLst>
                              <p:par>
                                <p:cTn id="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"/>
          <p:cNvGrpSpPr/>
          <p:nvPr/>
        </p:nvGrpSpPr>
        <p:grpSpPr>
          <a:xfrm>
            <a:off x="0" y="0"/>
            <a:ext cx="8915040" cy="6858000"/>
            <a:chOff x="0" y="0"/>
            <a:chExt cx="8915040" cy="6858000"/>
          </a:xfrm>
        </p:grpSpPr>
        <p:pic>
          <p:nvPicPr>
            <p:cNvPr id="93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89150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625320" y="1371600"/>
              <a:ext cx="7664040" cy="3657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/>
          <p:nvPr/>
        </p:nvSpPr>
        <p:spPr>
          <a:xfrm>
            <a:off x="685800" y="1371600"/>
            <a:ext cx="7467480" cy="3657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Monotype Corsiva"/>
              </a:rPr>
              <a:t>As a result of what we do today, you will b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Monotype Corsiva"/>
              </a:rPr>
              <a:t>able to demonstrate that you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447920" y="2514600"/>
            <a:ext cx="6476760" cy="36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Monotype Corsiva"/>
              </a:rPr>
              <a:t>Understand how parts work together to make a whole produc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otype Corsiva"/>
              </a:rPr>
              <a:t>Are skilled at distinguishing concept “X” from common misconceptions</a:t>
            </a:r>
            <a:r>
              <a:rPr b="0" lang="en-US" sz="36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en-US" sz="3600" spc="-1" strike="noStrike">
                <a:solidFill>
                  <a:srgbClr val="ffffcc"/>
                </a:solidFill>
                <a:latin typeface="Monotype Corsiva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09480" y="212760"/>
            <a:ext cx="800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Learning Go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1066680"/>
            <a:ext cx="9144000" cy="527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Take notes on densit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Understand subject/verb agree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Make a travel brochure for the Roman Empi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Make a simple machin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Understand the relationship between muscles and mo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Write a report on crime and drug use in the new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Design a menu that includes a balance of foods from the food pyrami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0" y="0"/>
            <a:ext cx="9144000" cy="10688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99"/>
                </a:solidFill>
                <a:latin typeface="Arial"/>
              </a:rPr>
              <a:t>Activities/Assignments  or                    Learning Goals??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ssential Q’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an essential questio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do you effectively create and use essential 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 or Objective…that is the question??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Link to Document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304920" y="228600"/>
            <a:ext cx="1295280" cy="12952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7315200" y="228600"/>
            <a:ext cx="1371600" cy="137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Personal Learning Goa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86868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think of them like SMART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may need to scaffold it for th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it challenging but flex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all successes within a class period can lead to HUGE successes later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omentum buil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ok at page 177 and next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6" name=""/>
          <p:cNvGraphicFramePr/>
          <p:nvPr/>
        </p:nvGraphicFramePr>
        <p:xfrm>
          <a:off x="380880" y="990720"/>
          <a:ext cx="8763120" cy="5867280"/>
        </p:xfrm>
        <a:graphic>
          <a:graphicData uri="http://schemas.openxmlformats.org/drawingml/2006/table">
            <a:tbl>
              <a:tblPr/>
              <a:tblGrid>
                <a:gridCol w="4572000"/>
                <a:gridCol w="4191120"/>
              </a:tblGrid>
              <a:tr h="582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arning Goals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3399"/>
                      </a:solidFill>
                    </a:lnL>
                    <a:lnR w="28080">
                      <a:solidFill>
                        <a:srgbClr val="333399"/>
                      </a:solidFill>
                    </a:lnR>
                    <a:lnT w="28080">
                      <a:solidFill>
                        <a:srgbClr val="333399"/>
                      </a:solidFill>
                    </a:lnT>
                    <a:lnB w="2808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edba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3399"/>
                      </a:solidFill>
                    </a:lnL>
                    <a:lnR w="28080">
                      <a:solidFill>
                        <a:srgbClr val="333399"/>
                      </a:solidFill>
                    </a:lnR>
                    <a:lnT w="28080">
                      <a:solidFill>
                        <a:srgbClr val="333399"/>
                      </a:solidFill>
                    </a:lnT>
                    <a:lnB w="2808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1325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1.________________________________________________________________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3399"/>
                      </a:solidFill>
                    </a:lnL>
                    <a:lnR w="28080">
                      <a:solidFill>
                        <a:srgbClr val="333399"/>
                      </a:solidFill>
                    </a:lnR>
                    <a:lnT w="28080">
                      <a:solidFill>
                        <a:srgbClr val="333399"/>
                      </a:solidFill>
                    </a:lnT>
                    <a:lnB w="2808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     </a:t>
                      </a:r>
                      <a:r>
                        <a:rPr b="1" lang="en-US" sz="20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1 2  3  4  (see rubric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3399"/>
                      </a:solidFill>
                    </a:lnL>
                    <a:lnR w="28080">
                      <a:solidFill>
                        <a:srgbClr val="333399"/>
                      </a:solidFill>
                    </a:lnR>
                    <a:lnT w="28080">
                      <a:solidFill>
                        <a:srgbClr val="333399"/>
                      </a:solidFill>
                    </a:lnT>
                    <a:lnB w="2808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132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0080"/>
                          </a:solidFill>
                          <a:latin typeface="Arial"/>
                        </a:rPr>
                        <a:t>2.________________________________________________________________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3399"/>
                      </a:solidFill>
                    </a:lnL>
                    <a:lnR w="28080">
                      <a:solidFill>
                        <a:srgbClr val="333399"/>
                      </a:solidFill>
                    </a:lnR>
                    <a:lnT w="28080">
                      <a:solidFill>
                        <a:srgbClr val="333399"/>
                      </a:solidFill>
                    </a:lnT>
                    <a:lnB w="2808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0080"/>
                          </a:solidFill>
                          <a:latin typeface="Arial"/>
                        </a:rPr>
                        <a:t>     </a:t>
                      </a:r>
                      <a:r>
                        <a:rPr b="1" lang="en-US" sz="2000" spc="-1" strike="noStrike">
                          <a:solidFill>
                            <a:srgbClr val="800080"/>
                          </a:solidFill>
                          <a:latin typeface="Arial"/>
                        </a:rPr>
                        <a:t>1 2  3  4 (see rubric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3399"/>
                      </a:solidFill>
                    </a:lnL>
                    <a:lnR w="28080">
                      <a:solidFill>
                        <a:srgbClr val="333399"/>
                      </a:solidFill>
                    </a:lnR>
                    <a:lnT w="28080">
                      <a:solidFill>
                        <a:srgbClr val="333399"/>
                      </a:solidFill>
                    </a:lnT>
                    <a:lnB w="2808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130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3.________________________________________________________________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3399"/>
                      </a:solidFill>
                    </a:lnL>
                    <a:lnR w="28080">
                      <a:solidFill>
                        <a:srgbClr val="333399"/>
                      </a:solidFill>
                    </a:lnR>
                    <a:lnT w="28080">
                      <a:solidFill>
                        <a:srgbClr val="333399"/>
                      </a:solidFill>
                    </a:lnT>
                    <a:lnB w="2808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     </a:t>
                      </a:r>
                      <a:r>
                        <a:rPr b="1" lang="en-US" sz="20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1  2  3  4 </a:t>
                      </a: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see rubric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3399"/>
                      </a:solidFill>
                    </a:lnL>
                    <a:lnR w="28080">
                      <a:solidFill>
                        <a:srgbClr val="333399"/>
                      </a:solidFill>
                    </a:lnR>
                    <a:lnT w="28080">
                      <a:solidFill>
                        <a:srgbClr val="333399"/>
                      </a:solidFill>
                    </a:lnT>
                    <a:lnB w="2808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132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4.________________________________________________________________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3399"/>
                      </a:solidFill>
                    </a:lnL>
                    <a:lnR w="28080">
                      <a:solidFill>
                        <a:srgbClr val="333399"/>
                      </a:solidFill>
                    </a:lnR>
                    <a:lnT w="28080">
                      <a:solidFill>
                        <a:srgbClr val="333399"/>
                      </a:solidFill>
                    </a:lnT>
                    <a:lnB w="2808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     </a:t>
                      </a:r>
                      <a:r>
                        <a:rPr b="1" lang="en-US" sz="20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1 2  3  4 (see rubric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3399"/>
                      </a:solidFill>
                    </a:lnL>
                    <a:lnR w="28080">
                      <a:solidFill>
                        <a:srgbClr val="333399"/>
                      </a:solidFill>
                    </a:lnR>
                    <a:lnT w="28080">
                      <a:solidFill>
                        <a:srgbClr val="333399"/>
                      </a:solidFill>
                    </a:lnT>
                    <a:lnB w="28080">
                      <a:solidFill>
                        <a:srgbClr val="3333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7" name=""/>
          <p:cNvSpPr/>
          <p:nvPr/>
        </p:nvSpPr>
        <p:spPr>
          <a:xfrm>
            <a:off x="304920" y="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__________________  Date___________________ Assignment_________________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85800" y="1523880"/>
            <a:ext cx="41911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stand how parts work together to make a whole produ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85800" y="287964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y personal learning goal is to describe how 3 parts work toge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4419720"/>
            <a:ext cx="35812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" y="4264200"/>
            <a:ext cx="4191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r learning goal is to become skilled at distinguishing concept “X” from common misconcept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85800" y="5546880"/>
            <a:ext cx="44956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y personal learning goal is to   distinguish 3 concepts from common misconce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Re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880" y="182844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iew on the cards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5791320" y="3962520"/>
            <a:ext cx="2743200" cy="2317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990720" y="1066680"/>
            <a:ext cx="716256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reak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3124080" y="2590920"/>
            <a:ext cx="3276720" cy="2803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Now that we set Objectives and Essential Questions...what’s nex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880" y="20570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ook at questions 6 and 7 on Figure 13.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flect on page 18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did you say?  WH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62120" y="533520"/>
            <a:ext cx="2192040" cy="15904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7162920" y="4800600"/>
            <a:ext cx="1346040" cy="17524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3886200" y="3917880"/>
            <a:ext cx="4419720" cy="88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600" spc="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Book Antiqua"/>
              </a:rPr>
              <a:t>works</a:t>
            </a:r>
            <a:endParaRPr b="1" i="1" lang="en-US" sz="9600" spc="1" strike="noStrike">
              <a:ln w="9360">
                <a:solidFill>
                  <a:srgbClr val="ff6600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Book Antiqua"/>
              <a:ea typeface="Book Antiqua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3625920"/>
            <a:ext cx="3809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onotype Corsiva"/>
              </a:rPr>
              <a:t>that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1339920"/>
            <a:ext cx="9144000" cy="228852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600" spc="-1" strike="noStrike">
                <a:solidFill>
                  <a:srgbClr val="000000"/>
                </a:solidFill>
                <a:latin typeface="Monotype Corsiva"/>
              </a:rPr>
              <a:t>Classroom Instruction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ossed Terms Literacy Strate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pages 185-19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t a part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 the cube and tape toge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ss the cube and talk about/explain the term or phrase that comes up on the to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all the phrases, by taking tu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858000" y="5029200"/>
            <a:ext cx="1371600" cy="137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380880"/>
            <a:ext cx="784872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tting Objectives and Providing Feedb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2819520"/>
            <a:ext cx="914400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Feedback should be “corrective” in nat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Feedback should be time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Feedback should be specific to a criter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Students can effectively provide their own feedba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1143000"/>
            <a:ext cx="9144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Generalizations from research 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Providing Feedb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152280"/>
            <a:ext cx="9144000" cy="47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cc99"/>
                </a:solidFill>
                <a:latin typeface="Times New Roman"/>
              </a:rPr>
              <a:t>John Hattie—reviewed 7,827 studies on learning and instruction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52280" y="1504800"/>
            <a:ext cx="8686800" cy="3385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66"/>
                </a:solidFill>
                <a:latin typeface="Comic Sans MS"/>
              </a:rPr>
              <a:t>Conclusion… “The most powerful single innovation that enhances achievement is feedback. The simplest prescription for improving education must be ‘dollops’ of feedback.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152280"/>
            <a:ext cx="9144000" cy="47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cc99"/>
                </a:solidFill>
                <a:latin typeface="Times New Roman"/>
              </a:rPr>
              <a:t>John Hattie—reviewed 7,827 studies on learning and instruction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1981080"/>
            <a:ext cx="8686800" cy="2837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66"/>
                </a:solidFill>
                <a:latin typeface="Comic Sans MS"/>
              </a:rPr>
              <a:t>…</a:t>
            </a:r>
            <a:r>
              <a:rPr b="1" lang="en-US" sz="3600" spc="-1" strike="noStrike">
                <a:solidFill>
                  <a:srgbClr val="ccff66"/>
                </a:solidFill>
                <a:latin typeface="Comic Sans MS"/>
              </a:rPr>
              <a:t>reported that providing students with specific information about their standing in terms of </a:t>
            </a:r>
            <a:r>
              <a:rPr b="1" lang="en-US" sz="3600" spc="-1" strike="noStrike" u="sng">
                <a:solidFill>
                  <a:srgbClr val="ccff66"/>
                </a:solidFill>
                <a:uFillTx/>
                <a:latin typeface="Comic Sans MS"/>
              </a:rPr>
              <a:t>particular objectives</a:t>
            </a:r>
            <a:r>
              <a:rPr b="1" lang="en-US" sz="3600" spc="-1" strike="noStrike">
                <a:solidFill>
                  <a:srgbClr val="ccff66"/>
                </a:solidFill>
                <a:latin typeface="Comic Sans MS"/>
              </a:rPr>
              <a:t> increased their achievement by 37 percentile point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533520" y="457200"/>
            <a:ext cx="8610480" cy="30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How do you provide feedback in a way that stud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33624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Know what they are learning and how well the are progress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33624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an explain what they need to do to get bett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 rot="20250000">
            <a:off x="2819160" y="4267080"/>
            <a:ext cx="297180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Rubrics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0880" y="2362320"/>
            <a:ext cx="8610840" cy="30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coring Guides that explain levels of  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otentially, they focus students on “the learning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Use in conjunction with checklists, when appropri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276720" y="0"/>
            <a:ext cx="2361960" cy="976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Rubrics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4" name=""/>
          <p:cNvSpPr/>
          <p:nvPr/>
        </p:nvSpPr>
        <p:spPr>
          <a:xfrm>
            <a:off x="2978640" y="1143000"/>
            <a:ext cx="30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What are the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228600"/>
            <a:ext cx="9144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Feedback should be specific to a criterion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What is the focus of the criteria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28600" y="2438280"/>
            <a:ext cx="8686800" cy="1556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criteria focus on th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ppearanc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the product, the student will be more likely to attend to the appeara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" y="4419720"/>
            <a:ext cx="8915400" cy="10688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criteria focus on th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evel of learn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the student will be more likely to attend to the level of lear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Rubric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10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Rubista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Teach-nolog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Rubrics 4 teacher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er Assessment/Re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view process using a checklist. Constructive comments, or rubric (experimental design) or project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2057400" y="2286000"/>
            <a:ext cx="4648320" cy="3803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1" dur="indefinite" restart="never" nodeType="tmRoot">
          <p:childTnLst>
            <p:seq>
              <p:cTn id="232" restart="whenNotActive" nodeType="interactiveSeq" fill="hold">
                <p:stCondLst>
                  <p:cond evt="onClick">
                    <p:tgtEl>
                      <p:spTgt spid="142"/>
                    </p:tgtEl>
                  </p:cond>
                </p:stCondLst>
                <p:childTnLst>
                  <p:par>
                    <p:cTn id="233" fill="hold">
                      <p:stCondLst>
                        <p:cond evt="onClick">
                          <p:tgtEl>
                            <p:spTgt spid="142"/>
                          </p:tgtEl>
                        </p:cond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36" dur="1" fill="hold"/>
                                        <p:tgtEl>
                                          <p:spTgt spid="1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lf-Assess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 can complete the rubric with an “explanation column” before the teacher uses the assessment rubri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teacher assesses the student using the same rubric (however, it is not the one the student wrote 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you use the data from the student and teacher is subject to differenti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80880" y="380880"/>
            <a:ext cx="8458200" cy="599868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388784" dir="2300697" blurRad="0" rotWithShape="0">
              <a:srgbClr val="0099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ssential Questions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hat strategies are effective for increasing student achievemen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How can teachers use setting objectives, writing essential questions, and providing feedback in a PLE or Unit Pla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earning Goals: Participants wi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Gain an understanding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instructional strategies that research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indicates can have a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significant influence on student achievement (specifically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333399"/>
                </a:solidFill>
                <a:uFillTx/>
                <a:latin typeface="Arial"/>
              </a:rPr>
              <a:t>setting objectives and writing essential questions,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and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333399"/>
                </a:solidFill>
                <a:uFillTx/>
                <a:latin typeface="Arial"/>
              </a:rPr>
              <a:t>providing feedback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Become skilled a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how to effectively set Unit or PLE objectives (learning goals),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personal learning goals, essential questions, and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providing feedb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5867280"/>
            <a:ext cx="8381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 will embed these skills into my staff development in addition to literacy strategies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view for meaning: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769644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ke time to review on card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6400800" y="4724280"/>
            <a:ext cx="2438280" cy="2060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Lunch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1371600" y="228564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Identifying Similarities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and Differenc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earch show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at students need explicit structure when first learning to identify similarities and differ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phic and symbolic representations can help students understand and use processes for identifying sims and dif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day’s 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hods are divided into 4 s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a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ify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ing Metaph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ing Analo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 into content groups and go to one modules…approx. 30 minute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complete, there will be a jigsaw style discussion s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69343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371600" y="1981080"/>
            <a:ext cx="64771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ummarize th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key point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of the station and present to the group.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Give an exampl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of the strategy and explain how you will either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explicitly teach i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or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use it in your content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view on Ca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2133720" y="1676520"/>
            <a:ext cx="4495680" cy="421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rea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teach reflects as learn"/>
          <p:cNvPicPr/>
          <p:nvPr/>
        </p:nvPicPr>
        <p:blipFill>
          <a:blip r:embed="rId1"/>
          <a:stretch/>
        </p:blipFill>
        <p:spPr>
          <a:xfrm>
            <a:off x="457200" y="380880"/>
            <a:ext cx="7924680" cy="5667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arning Goal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 understand the research behind using MI in your classroom (specifically nonlinguisti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experience the various uses of nonlinguistic represent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create a lesson plan or lesson plan sketch using this strategy to tap into the visual learners b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228600" y="914400"/>
          <a:ext cx="8839080" cy="5572080"/>
        </p:xfrm>
        <a:graphic>
          <a:graphicData uri="http://schemas.openxmlformats.org/drawingml/2006/table">
            <a:tbl>
              <a:tblPr/>
              <a:tblGrid>
                <a:gridCol w="2438280"/>
                <a:gridCol w="6400800"/>
              </a:tblGrid>
              <a:tr h="241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146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169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" name=""/>
          <p:cNvSpPr/>
          <p:nvPr/>
        </p:nvSpPr>
        <p:spPr>
          <a:xfrm>
            <a:off x="457200" y="0"/>
            <a:ext cx="845820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What Works in Schools- Robert Marzan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62320" y="838080"/>
            <a:ext cx="67816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 Guaranteed and Viable Curriculum                        2.  Challenging Goals and Effective Feedback          3.  Parent and Community Involvement                     4.  Safe and Orderly Environment                               5.  Collegiality and Professionali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666880" y="3352680"/>
            <a:ext cx="4496040" cy="14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.  Instructional Strategies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.  Classroom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.  Classroom Curriculum Desig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380880" y="1828800"/>
            <a:ext cx="1905120" cy="1374120"/>
            <a:chOff x="380880" y="1828800"/>
            <a:chExt cx="1905120" cy="1374120"/>
          </a:xfrm>
        </p:grpSpPr>
        <p:pic>
          <p:nvPicPr>
            <p:cNvPr id="54" name="" descr="Click To Download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762120" y="1828800"/>
              <a:ext cx="990360" cy="9255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55" name=""/>
            <p:cNvSpPr/>
            <p:nvPr/>
          </p:nvSpPr>
          <p:spPr>
            <a:xfrm>
              <a:off x="380880" y="2743200"/>
              <a:ext cx="19051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Arial"/>
                </a:rPr>
                <a:t> 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Arial"/>
                </a:rPr>
                <a:t>Schoo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380880" y="3352680"/>
            <a:ext cx="1905120" cy="1374120"/>
            <a:chOff x="380880" y="3352680"/>
            <a:chExt cx="1905120" cy="1374120"/>
          </a:xfrm>
        </p:grpSpPr>
        <p:pic>
          <p:nvPicPr>
            <p:cNvPr id="57" name="" descr=""/>
            <p:cNvPicPr/>
            <p:nvPr/>
          </p:nvPicPr>
          <p:blipFill>
            <a:blip r:embed="rId3"/>
            <a:stretch/>
          </p:blipFill>
          <p:spPr>
            <a:xfrm>
              <a:off x="762120" y="3352680"/>
              <a:ext cx="106668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380880" y="4267080"/>
              <a:ext cx="1905120" cy="459720"/>
            </a:xfrm>
            <a:prstGeom prst="rect">
              <a:avLst/>
            </a:prstGeom>
            <a:solidFill>
              <a:srgbClr val="ffd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Arial"/>
                </a:rPr>
                <a:t> 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Arial"/>
                </a:rPr>
                <a:t>Teach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457200" y="4800600"/>
            <a:ext cx="1905120" cy="1679040"/>
            <a:chOff x="457200" y="4800600"/>
            <a:chExt cx="1905120" cy="1679040"/>
          </a:xfrm>
        </p:grpSpPr>
        <p:pic>
          <p:nvPicPr>
            <p:cNvPr id="60" name="" descr=""/>
            <p:cNvPicPr/>
            <p:nvPr/>
          </p:nvPicPr>
          <p:blipFill>
            <a:blip r:embed="rId4"/>
            <a:stretch/>
          </p:blipFill>
          <p:spPr>
            <a:xfrm>
              <a:off x="693720" y="4800600"/>
              <a:ext cx="116676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57200" y="6019920"/>
              <a:ext cx="1905120" cy="45972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Arial"/>
                </a:rPr>
                <a:t> 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Arial"/>
                </a:rPr>
                <a:t>Stud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2666880" y="5013360"/>
            <a:ext cx="632484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9.   Home Enviro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. Learning Intelligence/ Background Knowled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1. Motiv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nonlinguistic representatio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09480" y="1905120"/>
            <a:ext cx="7696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Arial"/>
              </a:rPr>
              <a:t>Students: create graphi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Arial"/>
              </a:rPr>
              <a:t>representations, ment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Arial"/>
              </a:rPr>
              <a:t>pictures, physical models, drawings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Arial"/>
              </a:rPr>
              <a:t>and participate in kinestheti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Arial"/>
              </a:rPr>
              <a:t>activity in order to assimila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Arial"/>
              </a:rPr>
              <a:t>knowled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3520" y="762120"/>
            <a:ext cx="1218960" cy="1447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543800" y="4800600"/>
            <a:ext cx="1219320" cy="1447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Where do we begin.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Reflect on past practices..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 page 14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y do we teach the way we d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y is variety the spice of lif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 we know about the brain and learning? (Bookabl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380880" y="533520"/>
            <a:ext cx="8305920" cy="59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ntique Olive"/>
              </a:rPr>
              <a:t>How to implement RBIS (especially nonlinguistic) in your classroom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oncept Maps – see appendix in book (pg.357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Frayer Mod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Knowledge Rating Cha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Models – physical and ment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Kinesthetic activ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toryboar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Fold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5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500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500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1" dur="500"/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500"/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teri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1143000" y="1523880"/>
            <a:ext cx="3314880" cy="41436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5181480" y="1523880"/>
            <a:ext cx="3359160" cy="434340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1378440" y="6019920"/>
            <a:ext cx="65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dhelper.com/teachers/graphic_organizers_kwl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8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8" dur="8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8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8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2214720" y="557280"/>
            <a:ext cx="4714560" cy="5743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471760" y="547560"/>
            <a:ext cx="4200480" cy="576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1714680" y="1523880"/>
            <a:ext cx="5715000" cy="381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2362320" y="685800"/>
            <a:ext cx="46278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99ff"/>
                </a:solidFill>
                <a:latin typeface="Arial"/>
              </a:rPr>
              <a:t>Comparing Animal and Plant Cells Venn Diagr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457200" y="1523880"/>
          <a:ext cx="9144000" cy="58104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  <a:gridCol w="3048120"/>
              </a:tblGrid>
              <a:tr h="581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nimal Cell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lant Cell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2133720" y="2362320"/>
            <a:ext cx="5715000" cy="380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9" name=""/>
          <p:cNvGraphicFramePr/>
          <p:nvPr/>
        </p:nvGraphicFramePr>
        <p:xfrm>
          <a:off x="609480" y="380880"/>
          <a:ext cx="7315200" cy="837720"/>
        </p:xfrm>
        <a:graphic>
          <a:graphicData uri="http://schemas.openxmlformats.org/drawingml/2006/table">
            <a:tbl>
              <a:tblPr/>
              <a:tblGrid>
                <a:gridCol w="3657600"/>
                <a:gridCol w="3657600"/>
              </a:tblGrid>
              <a:tr h="837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me__________________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e ______________________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0" name=""/>
          <p:cNvSpPr/>
          <p:nvPr/>
        </p:nvSpPr>
        <p:spPr>
          <a:xfrm>
            <a:off x="1440" y="2412000"/>
            <a:ext cx="212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1523880" y="1600200"/>
          <a:ext cx="6202440" cy="3994920"/>
        </p:xfrm>
        <a:graphic>
          <a:graphicData uri="http://schemas.openxmlformats.org/drawingml/2006/table">
            <a:tbl>
              <a:tblPr/>
              <a:tblGrid>
                <a:gridCol w="1240560"/>
                <a:gridCol w="1240560"/>
                <a:gridCol w="1240560"/>
                <a:gridCol w="1240200"/>
                <a:gridCol w="1240560"/>
              </a:tblGrid>
              <a:tr h="799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8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9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9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8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2" name=""/>
          <p:cNvSpPr/>
          <p:nvPr/>
        </p:nvSpPr>
        <p:spPr>
          <a:xfrm>
            <a:off x="961920" y="416160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rayer Model…why is it better than regular note cards?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-57240" y="-47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1447920" y="1523880"/>
          <a:ext cx="6381720" cy="479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1523880"/>
                    <a:ext cx="6381720" cy="479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24080" y="228600"/>
            <a:ext cx="6324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Factors Influencing Achievement we as teachers can contr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28600" y="3276720"/>
            <a:ext cx="8610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. Instructional Strategies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7. Classroom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8. Classroom Curriculum 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380880" y="990720"/>
            <a:ext cx="3124080" cy="1956960"/>
            <a:chOff x="380880" y="990720"/>
            <a:chExt cx="3124080" cy="1956960"/>
          </a:xfrm>
        </p:grpSpPr>
        <p:pic>
          <p:nvPicPr>
            <p:cNvPr id="66" name="" descr=""/>
            <p:cNvPicPr/>
            <p:nvPr/>
          </p:nvPicPr>
          <p:blipFill>
            <a:blip r:embed="rId1"/>
            <a:stretch/>
          </p:blipFill>
          <p:spPr>
            <a:xfrm>
              <a:off x="1005840" y="990720"/>
              <a:ext cx="1749240" cy="137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"/>
            <p:cNvSpPr/>
            <p:nvPr/>
          </p:nvSpPr>
          <p:spPr>
            <a:xfrm>
              <a:off x="380880" y="2366280"/>
              <a:ext cx="3124080" cy="581400"/>
            </a:xfrm>
            <a:prstGeom prst="rect">
              <a:avLst/>
            </a:prstGeom>
            <a:solidFill>
              <a:srgbClr val="ffd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Arial"/>
                </a:rPr>
                <a:t>     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Arial"/>
                </a:rPr>
                <a:t>Teache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Knowledge Rating Chart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2895480" y="1905120"/>
            <a:ext cx="3726000" cy="3962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els – physical and ment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step 4 photo a"/>
          <p:cNvPicPr/>
          <p:nvPr/>
        </p:nvPicPr>
        <p:blipFill>
          <a:blip r:embed="rId1"/>
          <a:stretch/>
        </p:blipFill>
        <p:spPr>
          <a:xfrm>
            <a:off x="609480" y="1676520"/>
            <a:ext cx="3772080" cy="255276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mickey-mouse-ears.jpg"/>
          <p:cNvPicPr/>
          <p:nvPr/>
        </p:nvPicPr>
        <p:blipFill>
          <a:blip r:embed="rId2"/>
          <a:stretch/>
        </p:blipFill>
        <p:spPr>
          <a:xfrm>
            <a:off x="5562720" y="3886200"/>
            <a:ext cx="2286000" cy="172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1219320" y="1295280"/>
            <a:ext cx="3595680" cy="36576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imagedemosm.aspx?picid=467"/>
          <p:cNvPicPr/>
          <p:nvPr/>
        </p:nvPicPr>
        <p:blipFill>
          <a:blip r:embed="rId2"/>
          <a:stretch/>
        </p:blipFill>
        <p:spPr>
          <a:xfrm>
            <a:off x="6172200" y="304920"/>
            <a:ext cx="2070000" cy="480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Kinesthetic activ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33520" y="1106640"/>
            <a:ext cx="769608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lecules (solid, liquid, ga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on” says..with muscles, bones, anatomical po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pcorn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tation vs. Rev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kill building (P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ng/Dance (peristalsis, villi, poop)/YDIX so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much mor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2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bservations/Prior Knowledge/Bi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son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son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2057400" y="380880"/>
            <a:ext cx="4289400" cy="601992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 txBox="1"/>
          <p:nvPr/>
        </p:nvSpPr>
        <p:spPr>
          <a:xfrm>
            <a:off x="6934320" y="914400"/>
            <a:ext cx="10382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.  Hat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609480" y="4648320"/>
            <a:ext cx="10670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.  Scary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1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85" dur="50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8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3" dur="8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8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8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2590920" y="457200"/>
            <a:ext cx="4910040" cy="571500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 txBox="1"/>
          <p:nvPr/>
        </p:nvSpPr>
        <p:spPr>
          <a:xfrm>
            <a:off x="7010280" y="762120"/>
            <a:ext cx="144792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. Face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609480" y="4648320"/>
            <a:ext cx="221004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.  Saxaphone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8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5" dur="8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8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8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13" dur="50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8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1" dur="8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8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8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2209680" y="1066680"/>
            <a:ext cx="4438800" cy="442116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 txBox="1"/>
          <p:nvPr/>
        </p:nvSpPr>
        <p:spPr>
          <a:xfrm>
            <a:off x="7010280" y="762120"/>
            <a:ext cx="144792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.  Carrots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5105520"/>
            <a:ext cx="144792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.  Bread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8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3" dur="8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8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8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41" dur="50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8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9" dur="8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8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8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43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Arial"/>
              </a:rPr>
              <a:t>Foldables…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" descr="Concept Map"/>
          <p:cNvPicPr/>
          <p:nvPr/>
        </p:nvPicPr>
        <p:blipFill>
          <a:blip r:embed="rId1"/>
          <a:stretch/>
        </p:blipFill>
        <p:spPr>
          <a:xfrm>
            <a:off x="533520" y="533520"/>
            <a:ext cx="8153280" cy="567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457200" y="969840"/>
            <a:ext cx="8001000" cy="57103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Identifying similarities and differenc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Summarizing and note tak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Reinforcing effort and providing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Homework and pract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Nonlinguistic represent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ooperative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Setting objectives and providing feedbac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Generating and testing hypothe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ues, questions, and advance organiz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762120" y="76320"/>
            <a:ext cx="487656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ff99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Classroom Instruction That 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solidFill>
                <a:srgbClr val="ff99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5791320" y="76320"/>
            <a:ext cx="17524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6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Book Antiqua"/>
              </a:rPr>
              <a:t>works</a:t>
            </a:r>
            <a:endParaRPr b="1" i="1" lang="en-US" sz="9600" spc="1" strike="noStrike">
              <a:ln w="0">
                <a:noFill/>
              </a:ln>
              <a:solidFill>
                <a:srgbClr val="ffff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Book Antiqua"/>
              <a:ea typeface="Book Antiqua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8" dur="2000" fill="hold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" descr="Concept Map Examples for  Middle and High School"/>
          <p:cNvPicPr/>
          <p:nvPr/>
        </p:nvPicPr>
        <p:blipFill>
          <a:blip r:embed="rId1"/>
          <a:stretch/>
        </p:blipFill>
        <p:spPr>
          <a:xfrm>
            <a:off x="1523880" y="457200"/>
            <a:ext cx="5678640" cy="617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" descr="Causes and Effects"/>
          <p:cNvPicPr/>
          <p:nvPr/>
        </p:nvPicPr>
        <p:blipFill>
          <a:blip r:embed="rId1"/>
          <a:stretch/>
        </p:blipFill>
        <p:spPr>
          <a:xfrm>
            <a:off x="304920" y="1066680"/>
            <a:ext cx="8381880" cy="434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Causes and Effects Examples for Middle and HIgh School"/>
          <p:cNvPicPr/>
          <p:nvPr/>
        </p:nvPicPr>
        <p:blipFill>
          <a:blip r:embed="rId1"/>
          <a:stretch/>
        </p:blipFill>
        <p:spPr>
          <a:xfrm>
            <a:off x="4572000" y="457200"/>
            <a:ext cx="3906720" cy="594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" descr="Venn Diagram"/>
          <p:cNvPicPr/>
          <p:nvPr/>
        </p:nvPicPr>
        <p:blipFill>
          <a:blip r:embed="rId1"/>
          <a:stretch/>
        </p:blipFill>
        <p:spPr>
          <a:xfrm>
            <a:off x="1066680" y="685800"/>
            <a:ext cx="6705720" cy="5300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" descr="Venn Diagram Examples for  Middle and High School"/>
          <p:cNvPicPr/>
          <p:nvPr/>
        </p:nvPicPr>
        <p:blipFill>
          <a:blip r:embed="rId1"/>
          <a:stretch/>
        </p:blipFill>
        <p:spPr>
          <a:xfrm>
            <a:off x="838080" y="304920"/>
            <a:ext cx="6186600" cy="632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Arial"/>
              </a:rPr>
              <a:t>Basic Fol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mburg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tdo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c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hut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urri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2362320" y="2666880"/>
            <a:ext cx="1247760" cy="118764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>
            <a:off x="1143000" y="5029200"/>
            <a:ext cx="1817640" cy="144612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3"/>
          <a:stretch/>
        </p:blipFill>
        <p:spPr>
          <a:xfrm>
            <a:off x="6629400" y="1523880"/>
            <a:ext cx="2259000" cy="137340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4"/>
          <a:stretch/>
        </p:blipFill>
        <p:spPr>
          <a:xfrm>
            <a:off x="6705720" y="3352680"/>
            <a:ext cx="2087280" cy="128772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5"/>
          <a:stretch/>
        </p:blipFill>
        <p:spPr>
          <a:xfrm>
            <a:off x="6705720" y="5334120"/>
            <a:ext cx="1477800" cy="122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762120" y="228600"/>
            <a:ext cx="4495680" cy="632448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5638680" y="1676520"/>
            <a:ext cx="28195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Let’s Play!!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0000"/>
                </a:solidFill>
                <a:uFillTx/>
                <a:latin typeface="Arial"/>
              </a:rPr>
              <a:t>Review Strategy on Card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2133360" y="1905120"/>
            <a:ext cx="6095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id you lear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2666880" y="2971800"/>
            <a:ext cx="2979720" cy="335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Reflection</a:t>
            </a: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90360" y="1828440"/>
            <a:ext cx="73911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8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Complete page 176 (reflection) honestly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791320" y="3825720"/>
            <a:ext cx="2971800" cy="2654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990720" y="609480"/>
            <a:ext cx="8076960" cy="2025720"/>
          </a:xfrm>
          <a:prstGeom prst="rect">
            <a:avLst/>
          </a:prstGeom>
          <a:solidFill>
            <a:srgbClr val="660066"/>
          </a:solidFill>
          <a:ln w="0">
            <a:noFill/>
          </a:ln>
          <a:effectLst>
            <a:outerShdw dist="153753" dir="2700000" blurRad="0" rotWithShape="0">
              <a:srgbClr val="3366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etting Objectives and              Providing Feedba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5029200" y="1752480"/>
            <a:ext cx="40384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Read pgs. 173-178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6" name=""/>
          <p:cNvSpPr/>
          <p:nvPr/>
        </p:nvSpPr>
        <p:spPr>
          <a:xfrm>
            <a:off x="380880" y="3581280"/>
            <a:ext cx="822960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irst Turn, Last Turn –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iteracy Strateg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228600" y="1179360"/>
            <a:ext cx="8458200" cy="356616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When students know what they are </a:t>
            </a:r>
            <a:r>
              <a:rPr b="1" lang="en-US" sz="4400" spc="-1" strike="noStrike" u="sng">
                <a:solidFill>
                  <a:srgbClr val="ffff00"/>
                </a:solidFill>
                <a:uFillTx/>
                <a:latin typeface="Comic Sans MS"/>
              </a:rPr>
              <a:t>learning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, their performance, on average, has been shown to b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3600" spc="-1" strike="noStrike" u="sng">
                <a:solidFill>
                  <a:srgbClr val="ffff00"/>
                </a:solidFill>
                <a:uFillTx/>
                <a:latin typeface="Comic Sans MS"/>
              </a:rPr>
              <a:t>27 percentile points higher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than students who do not know what they are learning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7T21:04:43Z</dcterms:created>
  <dc:creator>Debra Pickering</dc:creator>
  <dc:description/>
  <dc:language>en-US</dc:language>
  <cp:lastModifiedBy>Monica Burgio-Daigler</cp:lastModifiedBy>
  <dcterms:modified xsi:type="dcterms:W3CDTF">2010-08-11T16:48:40Z</dcterms:modified>
  <cp:revision>102</cp:revision>
  <dc:subject/>
  <dc:title>Slide 1</dc:title>
</cp:coreProperties>
</file>