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DFF-4189-4AF9-915E-DE061421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673-D95F-4D01-AECA-48B926FD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1DD5-19E7-4761-9C24-39CC819C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7A8-AC51-4E04-BBC9-5C905D96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931-EA08-4A5A-824C-199ACB59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B09-B988-412D-B6AE-CC12CE50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92B-EC82-4F82-8EA3-B8BD4B31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E27-198C-47A4-A5DA-5EC3B45E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AE1-4657-4DD0-999C-59C91271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116-A0D3-4075-9359-58061BCD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6ED-995B-4998-8695-96EF3585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593-80A2-4A14-8CEF-CEBA5F7E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0692-572F-4D26-8068-1C4A6E5DE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60.xml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t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se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pha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solid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quid, gas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lasma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14400" y="990720"/>
            <a:ext cx="739152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oughts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at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lor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mo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n'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t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90720" y="838080"/>
            <a:ext cx="70866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 of matter s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st on the period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ble of 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30600" y="298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i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s matter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ither cre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r destroy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La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nserv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att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14400" y="1828800"/>
            <a:ext cx="7315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croscopic partic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makes mo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sitively (+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ged partic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at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rot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gatively (-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ged particl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an at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ectro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utrons ha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r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utral char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or no charge)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nucleus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de of the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ic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on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etro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66680" y="1523880"/>
            <a:ext cx="70866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me up wi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idea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at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66680" y="1523880"/>
            <a:ext cx="66294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mocritu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8080" y="1523880"/>
            <a:ext cx="76964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ench chemist wh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me up with the la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conservation of 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7720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1523880"/>
            <a:ext cx="79246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voisi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295280" y="1523880"/>
            <a:ext cx="67057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me up with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Theor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at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90720" y="1523880"/>
            <a:ext cx="71625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ohn Dalt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762120" y="1523880"/>
            <a:ext cx="74674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utherford's stud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found neutr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43000" y="1523880"/>
            <a:ext cx="70102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ames Chadwi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66680" y="1523880"/>
            <a:ext cx="6858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.J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om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14400" y="152388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discove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lectr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2324160"/>
            <a:ext cx="28958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1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s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66680" y="914400"/>
            <a:ext cx="739152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many element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on the Period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ble of Elemen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781360" y="2247840"/>
            <a:ext cx="35812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9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14400" y="1676520"/>
            <a:ext cx="75438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many of the 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found naturall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Earth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ynthet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19320" y="1676520"/>
            <a:ext cx="70102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man-mad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66680" y="1066680"/>
            <a:ext cx="61722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ows how man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ons and electr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lement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43000" y="1143000"/>
            <a:ext cx="66294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NUMBER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47640" y="3048120"/>
            <a:ext cx="7848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Mass-Atomic numb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90720" y="1676520"/>
            <a:ext cx="7315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do yo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d out how many neutr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lement's atom ha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981080" y="1600200"/>
            <a:ext cx="51818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1st element s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t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iodic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ydroge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62040" y="1486080"/>
            <a:ext cx="6019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ements which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uctile and malle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219320" y="2133720"/>
            <a:ext cx="68580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meta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562040" y="1638360"/>
            <a:ext cx="60199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number, symbol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 of matter, atomic ma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409760" y="1409760"/>
            <a:ext cx="63244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n element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it appears o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iodic Table Of Elemen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8080" y="1066680"/>
            <a:ext cx="77724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lement with the s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of protons that ha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erent number of neutr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219320" y="1371600"/>
            <a:ext cx="67053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otop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qui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486080" y="1447920"/>
            <a:ext cx="617220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rcur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14400" y="990720"/>
            <a:ext cx="74674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ure substance who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allest unit is made up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s of more than one el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914400"/>
            <a:ext cx="7696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wo or more substan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ome together bu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NOT make a new pure subst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x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14400" y="990720"/>
            <a:ext cx="73915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sample of mat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hasthe s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sition and properties throug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stanc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roughou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iform mix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808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tes that a given compou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always made of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me proportion by ma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66680" y="990720"/>
            <a:ext cx="71629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law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finite proportio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&amp; Mixt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67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838080"/>
            <a:ext cx="7924680" cy="50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hat elements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are in NaHCO3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1104840"/>
            <a:ext cx="7848720" cy="514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dium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ydroge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rb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3 oxygen atoms?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432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tt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to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cientis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eriodic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ab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lemen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&amp; Mixtur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ything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mas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es up spa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Monica Burgio</cp:lastModifiedBy>
  <dcterms:modified xsi:type="dcterms:W3CDTF">2008-10-29T22:03:56Z</dcterms:modified>
  <cp:revision>57</cp:revision>
  <dc:subject/>
  <dc:title>No Slide Title</dc:title>
</cp:coreProperties>
</file>