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454-4993-4038-BE61-1B90822A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C0E-5AE6-4951-A08C-E611905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0CE-A312-4FD6-9E87-A563986B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1CA-84AF-48F7-B886-E236E958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0BB-90FA-48F4-9147-FA83195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2A7-74FD-4973-A79E-B9B90995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4DA-08FF-4E18-B841-47B07FFE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A71-B3B6-4E69-9A89-767E261C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5BC-AFF3-4EDC-99E2-EB196179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47D-0281-4C6E-A052-48E89FB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CAD-8530-4739-B2A3-359F341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09D-4D61-4C65-9720-8CE43AE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F480-1426-46C6-877B-4240BE34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60.xml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solid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, ga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lasm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1440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ught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o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o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n'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838080"/>
            <a:ext cx="7086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0600" y="298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i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matter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ither cre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 destroy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40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scopic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makes mo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itively (+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o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gatively (-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c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ons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al 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or no charge)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cleus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i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e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680" y="1523880"/>
            <a:ext cx="70866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dea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1523880"/>
            <a:ext cx="6629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critu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523880"/>
            <a:ext cx="7696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nch chemist wh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7720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523880"/>
            <a:ext cx="7924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voisi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5280" y="152388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Theo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90720" y="1523880"/>
            <a:ext cx="71625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 Dal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152388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utherford's stud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found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43000" y="1523880"/>
            <a:ext cx="70102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es Chadwi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.J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m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discov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lectr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2324160"/>
            <a:ext cx="2895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914400"/>
            <a:ext cx="73915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781360" y="224784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1676520"/>
            <a:ext cx="7543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of the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natural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Eart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1676520"/>
            <a:ext cx="7010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an-mad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1066680"/>
            <a:ext cx="6172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how ma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elec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143000"/>
            <a:ext cx="6629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47640" y="30481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Mass-Atomic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90720" y="1676520"/>
            <a:ext cx="7315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do y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d out how many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's atom ha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81080" y="1600200"/>
            <a:ext cx="51818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1st element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62040" y="148608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 which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ctile and malle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133720"/>
            <a:ext cx="6858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et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562040" y="1638360"/>
            <a:ext cx="6019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, symbol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, atomic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09760" y="1409760"/>
            <a:ext cx="63244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element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it appears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8080" y="1066680"/>
            <a:ext cx="7772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with 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protons that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number of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19320" y="1371600"/>
            <a:ext cx="67053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top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86080" y="1447920"/>
            <a:ext cx="61722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rcur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re substance wh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st unit is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of more than one el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substa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me together b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make a new pure subs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ample of ma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has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ition and properties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form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that a given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lways made of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e proportion by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 proporti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838080"/>
            <a:ext cx="7924680" cy="50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element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are in NaHCO3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1104840"/>
            <a:ext cx="7848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diu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ydroge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oxygen atom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43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ma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s up sp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Monica Burgio</cp:lastModifiedBy>
  <dcterms:modified xsi:type="dcterms:W3CDTF">2008-10-29T22:03:56Z</dcterms:modified>
  <cp:revision>57</cp:revision>
  <dc:subject/>
  <dc:title>No Slide Title</dc:title>
</cp:coreProperties>
</file>