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019-A584-4A51-90A0-F8E530EF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05C-ED8A-4EF0-8BA1-07C11E1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515-9F8D-454E-9D23-2F25B436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47F-B0DF-40B0-92FF-73D8CB62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244-049C-4E89-8059-776B222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20D-99C0-4678-B2B1-89B6D571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E6A-4093-4BA5-A0BD-ACD36D3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5D3-9D64-4A4B-B084-48ED1ACC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C5A-A7F6-46EE-861C-03D8EDA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838-ADC1-4511-9D20-836BD32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24D-A53A-48C1-B48D-2EE379C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D1C-333C-4317-9DFE-734C5A3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7DAC-C1B9-4496-A0FB-0A515FE45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60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solid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, ga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las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ught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o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n'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838080"/>
            <a:ext cx="7086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0600" y="298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matter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ither cre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 destroy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scopic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makes mo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itively (+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o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gatively (-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on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al 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or no charge)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e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680" y="1523880"/>
            <a:ext cx="70866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dea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1523880"/>
            <a:ext cx="6629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critu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523880"/>
            <a:ext cx="7696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nch chemist wh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720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523880"/>
            <a:ext cx="7924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oisi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Theo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90720" y="1523880"/>
            <a:ext cx="71625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 Dal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52388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utherford's stud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found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000" y="1523880"/>
            <a:ext cx="7010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es Chadwi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.J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discov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lectr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2324160"/>
            <a:ext cx="2895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400"/>
            <a:ext cx="73915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781360" y="224784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676520"/>
            <a:ext cx="7543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of the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natur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art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1676520"/>
            <a:ext cx="7010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an-mad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how ma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elec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143000"/>
            <a:ext cx="6629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47640" y="30481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Mass-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90720" y="1676520"/>
            <a:ext cx="731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d out how many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's atom h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1600200"/>
            <a:ext cx="51818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1st element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62040" y="148608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which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ctile and malle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133720"/>
            <a:ext cx="6858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et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562040" y="1638360"/>
            <a:ext cx="6019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, symb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, atomic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09760" y="1409760"/>
            <a:ext cx="63244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element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it appears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with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protons tha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number of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19320" y="1371600"/>
            <a:ext cx="67053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top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86080" y="1447920"/>
            <a:ext cx="61722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cu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substance wh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unit is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of more than one e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subst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me together b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make a new pure sub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mple of ma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has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ition and properties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form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hat a given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lways made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e proportion by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 proporti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838080"/>
            <a:ext cx="7924680" cy="50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element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are in NaHCO3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104840"/>
            <a:ext cx="784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diu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ydrog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oxygen atom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ma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s up sp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onica Burgio</cp:lastModifiedBy>
  <dcterms:modified xsi:type="dcterms:W3CDTF">2008-10-29T22:03:56Z</dcterms:modified>
  <cp:revision>57</cp:revision>
  <dc:subject/>
  <dc:title>No Slide Title</dc:title>
</cp:coreProperties>
</file>