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3695-7DCA-4D40-83F8-62CFCBE63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C6CC-050E-42A2-A468-4D543C1C4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2D2C-8A79-4CC5-9540-4725327B1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69D9-9A96-40A1-8BB5-022CD7205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9DDD-02EB-40C3-B534-A08EF13D0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CC92-D5E6-4B2C-910B-EF3726652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BDE3-B567-448B-8BFF-5E7069E76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3E66-DF55-4476-8433-479B5C748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B3F2-5A34-4ACC-864F-7A253CE71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C43F-44D7-4CDD-B7EA-0D431D952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AA79-891D-4A37-A92E-9A5A8DFE5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10F0-525A-40B9-A68C-BA5E7705D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9633E-26F8-4E88-B1E6-EB62741FF6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" Target="slide17.xml"/><Relationship Id="rId7" Type="http://schemas.openxmlformats.org/officeDocument/2006/relationships/slide" Target="slide19.xml"/><Relationship Id="rId8" Type="http://schemas.openxmlformats.org/officeDocument/2006/relationships/slide" Target="slide21.xml"/><Relationship Id="rId9" Type="http://schemas.openxmlformats.org/officeDocument/2006/relationships/slide" Target="slide23.xml"/><Relationship Id="rId10" Type="http://schemas.openxmlformats.org/officeDocument/2006/relationships/slide" Target="slide25.xml"/><Relationship Id="rId11" Type="http://schemas.openxmlformats.org/officeDocument/2006/relationships/slide" Target="slide27.xml"/><Relationship Id="rId12" Type="http://schemas.openxmlformats.org/officeDocument/2006/relationships/slide" Target="slide29.xml"/><Relationship Id="rId13" Type="http://schemas.openxmlformats.org/officeDocument/2006/relationships/slide" Target="slide31.xml"/><Relationship Id="rId14" Type="http://schemas.openxmlformats.org/officeDocument/2006/relationships/slide" Target="slide33.xml"/><Relationship Id="rId15" Type="http://schemas.openxmlformats.org/officeDocument/2006/relationships/slide" Target="slide35.xml"/><Relationship Id="rId16" Type="http://schemas.openxmlformats.org/officeDocument/2006/relationships/slide" Target="slide37.xml"/><Relationship Id="rId17" Type="http://schemas.openxmlformats.org/officeDocument/2006/relationships/slide" Target="slide39.xml"/><Relationship Id="rId18" Type="http://schemas.openxmlformats.org/officeDocument/2006/relationships/slide" Target="slide41.xml"/><Relationship Id="rId19" Type="http://schemas.openxmlformats.org/officeDocument/2006/relationships/slide" Target="slide43.xml"/><Relationship Id="rId20" Type="http://schemas.openxmlformats.org/officeDocument/2006/relationships/slide" Target="slide45.xml"/><Relationship Id="rId21" Type="http://schemas.openxmlformats.org/officeDocument/2006/relationships/slide" Target="slide47.xml"/><Relationship Id="rId22" Type="http://schemas.openxmlformats.org/officeDocument/2006/relationships/slide" Target="slide49.xml"/><Relationship Id="rId23" Type="http://schemas.openxmlformats.org/officeDocument/2006/relationships/slide" Target="slide51.xml"/><Relationship Id="rId24" Type="http://schemas.openxmlformats.org/officeDocument/2006/relationships/slide" Target="slide53.xml"/><Relationship Id="rId25" Type="http://schemas.openxmlformats.org/officeDocument/2006/relationships/slide" Target="slide60.xml"/><Relationship Id="rId2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69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469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467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714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95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tter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2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se are th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our phas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matt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are solid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iquid, gas,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d plasma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5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914400" y="990720"/>
            <a:ext cx="739152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oughts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at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lor,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motio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n'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tter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8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990720" y="838080"/>
            <a:ext cx="708660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tate of matter see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ost on the periodic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able of elemen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30600" y="2987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id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2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tates matter 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either creat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or destroy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 the Law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Conserva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Matter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914400" y="1828800"/>
            <a:ext cx="73152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icroscopic particle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at makes mo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s of matt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1143000" y="1295280"/>
            <a:ext cx="6858000" cy="426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tt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867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867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ar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toms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8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ositively (+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arged particl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an atom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proton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1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egatively (-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arged particle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an atom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ar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lectrons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4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eutrons hav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is type of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arg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 a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eutral charg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(or no charge)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7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nucleus 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de of the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artic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a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otons and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uetrons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0" name="">
            <a:hlinkClick r:id="rId2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066680" y="1523880"/>
            <a:ext cx="708660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me up with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idea of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atom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990720" y="990720"/>
            <a:ext cx="708660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tom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1066680" y="1523880"/>
            <a:ext cx="662940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o 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mocritus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3" name="">
            <a:hlinkClick r:id="rId2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8080" y="1523880"/>
            <a:ext cx="769644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rench chemist who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me up with the law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conservation of matt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477200" y="4689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685800" y="1523880"/>
            <a:ext cx="792468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o 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voisier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7" name="">
            <a:hlinkClick r:id="rId2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1295280" y="1523880"/>
            <a:ext cx="67057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me up with th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tomic Theory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Matt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990720" y="1523880"/>
            <a:ext cx="716256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o 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John Dalton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0" name="">
            <a:hlinkClick r:id="rId2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762120" y="1523880"/>
            <a:ext cx="746748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utherford's studen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o found neutro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143000" y="1523880"/>
            <a:ext cx="701028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o 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James Chadwick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3" name="">
            <a:hlinkClick r:id="rId2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1066680" y="1523880"/>
            <a:ext cx="685800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J.J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oms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914400" y="1523880"/>
            <a:ext cx="731520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o discover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electron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6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124080" y="2324160"/>
            <a:ext cx="289584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11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cientis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1066680" y="914400"/>
            <a:ext cx="7391520" cy="541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ow many element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re on the Periodic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able of Elements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9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781360" y="2247840"/>
            <a:ext cx="358128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9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914400" y="1676520"/>
            <a:ext cx="754380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ow many of the elemen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re found naturally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n Earth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ynthetic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1219320" y="1676520"/>
            <a:ext cx="701028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 man-mad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5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1066680" y="1066680"/>
            <a:ext cx="6172200" cy="449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hows how many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otons and electro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 element ha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143000" y="1143000"/>
            <a:ext cx="662940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 th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TOMIC NUMBER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8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47640" y="3048120"/>
            <a:ext cx="78487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tomic Mass-Atomic numb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990720" y="1676520"/>
            <a:ext cx="731520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ow do yo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ind out how many neutro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 element's atom has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1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1981080" y="1600200"/>
            <a:ext cx="518184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1st element see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n the tab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eriodic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ab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28800" y="205740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ydrogen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4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1562040" y="1486080"/>
            <a:ext cx="601992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lements which ar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uctile and malleab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1219320" y="2133720"/>
            <a:ext cx="685800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 metal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7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1562040" y="1638360"/>
            <a:ext cx="601992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tomic number, symbol,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tate of matter, atomic mas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1409760" y="1409760"/>
            <a:ext cx="632448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 an element or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ow it appears on th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eriodic Table Of Elements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0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38080" y="1066680"/>
            <a:ext cx="7772400" cy="510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 element with the sam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umber of protons that hav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ifferent number of neutro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1219320" y="1371600"/>
            <a:ext cx="670536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 a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sotop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3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057400" y="190512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5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Daily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5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5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Double!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5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689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1828800" y="1752480"/>
            <a:ext cx="54100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iquid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et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486080" y="1447920"/>
            <a:ext cx="6172200" cy="39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ercury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8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914400" y="1828800"/>
            <a:ext cx="739152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lemen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914400" y="990720"/>
            <a:ext cx="7467480" cy="533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pure substance who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mallest unit is made up of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toms of more than one elem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 a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pound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1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762120" y="914400"/>
            <a:ext cx="769608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wo or more substanc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at come together bu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o NOT make a new pure substanc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 a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ixtur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4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914400" y="990720"/>
            <a:ext cx="7391520" cy="533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sample of matter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at hasthe sam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position and properties throughou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 a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stanc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7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sam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roughou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 a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niform mixtur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0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838080" y="990720"/>
            <a:ext cx="75438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tates that a given compoun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s always made of th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ame proportion by mas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1066680" y="990720"/>
            <a:ext cx="716292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 the law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finite proportions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3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pound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&amp; Mixtur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4671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2057400" y="1295280"/>
            <a:ext cx="4724280" cy="227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Final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Jeopardy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838080"/>
            <a:ext cx="7924680" cy="500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What elements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are in NaHCO3?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0"/>
                            </p:stCondLst>
                            <p:childTnLst>
                              <p:par>
                                <p:cTn id="43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685800" y="1104840"/>
            <a:ext cx="7848720" cy="514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What a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odium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ydrogen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arbon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3 oxygen atoms?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189" name="">
            <a:hlinkClick r:id="rId3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" dur="34320" fill="hold"/>
                                        <p:tgtEl>
                                          <p:spTgt spid="1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28600" y="304920"/>
            <a:ext cx="11430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Matter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7524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Atom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276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cientist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7242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Periodic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abl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2485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Element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7848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ompound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&amp; Mixture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5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839080" y="6553080"/>
            <a:ext cx="228600" cy="15264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ything tha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as mass an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akes up spac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7T17:16:48Z</dcterms:created>
  <dc:creator>Matt Hamlyn</dc:creator>
  <dc:description>email mhamlyn@jessamine.k12.ky.us</dc:description>
  <dc:language>en-US</dc:language>
  <cp:lastModifiedBy>Monica Burgio</cp:lastModifiedBy>
  <dcterms:modified xsi:type="dcterms:W3CDTF">2008-10-29T22:03:56Z</dcterms:modified>
  <cp:revision>57</cp:revision>
  <dc:subject/>
  <dc:title>No Slide Title</dc:title>
</cp:coreProperties>
</file>