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66B-66E1-4DC0-83B8-34134349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E1A-C3C9-4F77-A8B9-CCF1EDE6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E94-3CAE-4B15-8501-8233F76C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BC0-8639-4FED-B3EA-6C6E5C5C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BD9-60D3-4C41-9FA9-5D23FF33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69B-1F8D-44A2-995D-57C5BFF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8B8-59CE-43F7-BD0C-41ACE59F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78C-34F9-4A1C-89F3-10C8DFBF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D98-32C9-406F-A57E-AA31E6C2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3DC-E83C-4226-9063-81169413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9FD-CAB8-4A9C-92B0-AD400CC6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AC2-188E-417E-815E-A63940E8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3C22-8EC6-4565-90AC-77175521A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17B5060CC8944044&amp;sid=16EF44D2C70AA4044&amp;o=0&amp;qid=A67547A0E430EF0CA42DDAF43BC4C3CB&amp;io=0&amp;sv=0a30050b&amp;ask=ugly+toes&amp;uip=a8a97861&amp;en=js&amp;eo=&amp;pt=%20&amp;ac=24&amp;qs=31&amp;pg=1&amp;u=http%3A%2F%2Fimages.ask.com%2Ffr%3Fq%3Dugly%2Btoes%26desturi%3Dhttp%253A%252F%252Fwww.irishcultureandcustoms.com%252F1Kids%252FUglyFeet.html%26fm%3Di%26ac%3D24%26ftURI%3Dhttp%253A%252F%252Fimages.ask.com%253A80%252Ffr%253Fq%253Dugly%252Btoes%2526desturi%253Dhttp%25253A%25252F%25252Fwww.irishcultureandcustoms.com%25252F1Kids%25252FUglyFeet.html%2526imagesrc%253Dhttp%25253A%25252F%25252Fwww.irishcultureandcustoms.com%25252F1Kids%25252F3Pics%25252FUglyFeet.jpg%2526thumbsrc%253Dhttp%25253A%25252F%25252F65.214.37.88%25252Fts%25253Ft%25253D11648820988686711957%2526thumbuselocalisedstatic%253Dfalse%2526fn%253DUglyFeet.jpg%2526f%253D2%2526fm%253Di%2526ftbURI%253Dhttp%25253A%25252F%25252Fimages.ask.com%25252Fpictures%25253Fq%25253Dugly%25252Btoes%252526page%25253D1%26qt%3D0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exual Vs. Asexu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828800"/>
            <a:ext cx="7543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wo differences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produces more variation?  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for asexual repro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for sexual repro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259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7543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1800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80019" b="68423"/>
          <a:stretch/>
        </p:blipFill>
        <p:spPr>
          <a:xfrm>
            <a:off x="3670200" y="609480"/>
            <a:ext cx="901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8052" t="0" r="47850" b="68756"/>
          <a:stretch/>
        </p:blipFill>
        <p:spPr>
          <a:xfrm>
            <a:off x="5486400" y="1219320"/>
            <a:ext cx="12952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51772" t="0" r="21314" b="67747"/>
          <a:stretch/>
        </p:blipFill>
        <p:spPr>
          <a:xfrm>
            <a:off x="4038480" y="3505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76625" t="0" r="0" b="67747"/>
          <a:stretch/>
        </p:blipFill>
        <p:spPr>
          <a:xfrm>
            <a:off x="7391520" y="762120"/>
            <a:ext cx="8604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rcRect l="0" t="29629" r="64343" b="53706"/>
          <a:stretch/>
        </p:blipFill>
        <p:spPr>
          <a:xfrm>
            <a:off x="6248520" y="3429000"/>
            <a:ext cx="1904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6279" t="67708" r="0" b="11573"/>
          <a:stretch/>
        </p:blipFill>
        <p:spPr>
          <a:xfrm>
            <a:off x="1447920" y="838080"/>
            <a:ext cx="183492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47894" t="88431" r="0" b="519"/>
          <a:stretch/>
        </p:blipFill>
        <p:spPr>
          <a:xfrm>
            <a:off x="4800600" y="1523880"/>
            <a:ext cx="3657600" cy="9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30490" t="45858" r="37586" b="32390"/>
          <a:stretch/>
        </p:blipFill>
        <p:spPr>
          <a:xfrm>
            <a:off x="3276720" y="3429000"/>
            <a:ext cx="2438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3920" y="2514600"/>
            <a:ext cx="84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wermediaplus.com/player.asp?playlistID=43248&amp;segmentID=97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53352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de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7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Mitosis-a picture."/>
          <p:cNvPicPr/>
          <p:nvPr/>
        </p:nvPicPr>
        <p:blipFill>
          <a:blip r:embed="rId1"/>
          <a:stretch/>
        </p:blipFill>
        <p:spPr>
          <a:xfrm>
            <a:off x="3124080" y="457200"/>
            <a:ext cx="5143680" cy="614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90720"/>
            <a:ext cx="236232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438280"/>
            <a:ext cx="198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ppening to the parent cell as it becomes two daughter cells??  EX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209680"/>
            <a:ext cx="3886200" cy="3470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143000" y="457200"/>
            <a:ext cx="7191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re's Nothing Sexy about My-Toes-I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71800" y="228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tosi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5181480" cy="4665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09680" y="5105520"/>
            <a:ext cx="3657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24080" y="5181480"/>
            <a:ext cx="221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at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3505320"/>
            <a:ext cx="152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7:42:51Z</dcterms:created>
  <dc:creator>TCSD</dc:creator>
  <dc:description/>
  <dc:language>en-US</dc:language>
  <cp:lastModifiedBy>TCSD</cp:lastModifiedBy>
  <dcterms:modified xsi:type="dcterms:W3CDTF">2007-05-03T19:29:07Z</dcterms:modified>
  <cp:revision>6</cp:revision>
  <dc:subject/>
  <dc:title>Sexual Vs. Asexual</dc:title>
</cp:coreProperties>
</file>