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E67E-1480-4F38-9104-86F2094A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549D-A17F-4088-AC6B-6962A3EF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20E-09BD-446B-A2F3-B15033AC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386-5390-4748-A753-476AF751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EE4C-8EA7-4A5B-AC21-5DF7BECD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C91D-6603-48A4-B002-0AB7F045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42FF-22BC-42F1-ACAC-A12E8CCF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0383-F467-413F-AFC8-73775806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E23F-7EFA-49A4-98DB-C4F8437C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4025-8324-49DB-8278-398C6197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FFEA-1C6D-465B-98E4-776E425B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9340-7711-44D9-A57E-A508837E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652A-8417-409B-B0A8-DC22D6012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m.ask.com/r?t=an&amp;s=p&amp;uid=017B5060CC8944044&amp;sid=16EF44D2C70AA4044&amp;o=0&amp;qid=A67547A0E430EF0CA42DDAF43BC4C3CB&amp;io=0&amp;sv=0a30050b&amp;ask=ugly+toes&amp;uip=a8a97861&amp;en=js&amp;eo=&amp;pt=%20&amp;ac=24&amp;qs=31&amp;pg=1&amp;u=http%3A%2F%2Fimages.ask.com%2Ffr%3Fq%3Dugly%2Btoes%26desturi%3Dhttp%253A%252F%252Fwww.irishcultureandcustoms.com%252F1Kids%252FUglyFeet.html%26fm%3Di%26ac%3D24%26ftURI%3Dhttp%253A%252F%252Fimages.ask.com%253A80%252Ffr%253Fq%253Dugly%252Btoes%2526desturi%253Dhttp%25253A%25252F%25252Fwww.irishcultureandcustoms.com%25252F1Kids%25252FUglyFeet.html%2526imagesrc%253Dhttp%25253A%25252F%25252Fwww.irishcultureandcustoms.com%25252F1Kids%25252F3Pics%25252FUglyFeet.jpg%2526thumbsrc%253Dhttp%25253A%25252F%25252F65.214.37.88%25252Fts%25253Ft%25253D11648820988686711957%2526thumbuselocalisedstatic%253Dfalse%2526fn%253DUglyFeet.jpg%2526f%253D2%2526fm%253Di%2526ftbURI%253Dhttp%25253A%25252F%25252Fimages.ask.com%25252Fpictures%25253Fq%25253Dugly%25252Btoes%252526page%25253D1%26qt%3D0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exual Vs. Asexu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828800"/>
            <a:ext cx="75438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wo differences between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ne produces more variation?  WHY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for asexual reprod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for sexual reprod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05720" cy="2598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8080" y="4038480"/>
            <a:ext cx="754380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1800000" cy="3429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0" t="0" r="80019" b="68423"/>
          <a:stretch/>
        </p:blipFill>
        <p:spPr>
          <a:xfrm>
            <a:off x="3670200" y="609480"/>
            <a:ext cx="90180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18052" t="0" r="47850" b="68756"/>
          <a:stretch/>
        </p:blipFill>
        <p:spPr>
          <a:xfrm>
            <a:off x="5486400" y="1219320"/>
            <a:ext cx="1295280" cy="1523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rcRect l="51772" t="0" r="21314" b="67747"/>
          <a:stretch/>
        </p:blipFill>
        <p:spPr>
          <a:xfrm>
            <a:off x="4038480" y="3505320"/>
            <a:ext cx="990720" cy="1523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rcRect l="76625" t="0" r="0" b="67747"/>
          <a:stretch/>
        </p:blipFill>
        <p:spPr>
          <a:xfrm>
            <a:off x="7391520" y="762120"/>
            <a:ext cx="860400" cy="1523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rcRect l="0" t="29629" r="64343" b="53706"/>
          <a:stretch/>
        </p:blipFill>
        <p:spPr>
          <a:xfrm>
            <a:off x="6248520" y="3429000"/>
            <a:ext cx="19047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76279" t="67708" r="0" b="11573"/>
          <a:stretch/>
        </p:blipFill>
        <p:spPr>
          <a:xfrm>
            <a:off x="1447920" y="838080"/>
            <a:ext cx="183492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47894" t="88431" r="0" b="519"/>
          <a:stretch/>
        </p:blipFill>
        <p:spPr>
          <a:xfrm>
            <a:off x="4800600" y="1523880"/>
            <a:ext cx="3657600" cy="9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rcRect l="30490" t="45858" r="37586" b="32390"/>
          <a:stretch/>
        </p:blipFill>
        <p:spPr>
          <a:xfrm>
            <a:off x="3276720" y="3429000"/>
            <a:ext cx="2438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3920" y="2514600"/>
            <a:ext cx="84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owermediaplus.com/player.asp?playlistID=43248&amp;segmentID=971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743200" y="533520"/>
            <a:ext cx="4038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ide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-79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5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Mitosis-a picture."/>
          <p:cNvPicPr/>
          <p:nvPr/>
        </p:nvPicPr>
        <p:blipFill>
          <a:blip r:embed="rId1"/>
          <a:stretch/>
        </p:blipFill>
        <p:spPr>
          <a:xfrm>
            <a:off x="3124080" y="457200"/>
            <a:ext cx="5143680" cy="6149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90720"/>
            <a:ext cx="2362320" cy="4952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438280"/>
            <a:ext cx="198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appening to the parent cell as it becomes two daughter cells??  EXPL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2209680"/>
            <a:ext cx="3886200" cy="3470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1143000" y="457200"/>
            <a:ext cx="71913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ere's Nothing Sexy about My-Toes-Is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971800" y="228600"/>
            <a:ext cx="3048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tosi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85800" y="1295280"/>
            <a:ext cx="5181480" cy="4665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09680" y="5105520"/>
            <a:ext cx="3657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124080" y="5181480"/>
            <a:ext cx="22100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at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3505320"/>
            <a:ext cx="152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7:42:51Z</dcterms:created>
  <dc:creator>TCSD</dc:creator>
  <dc:description/>
  <dc:language>en-US</dc:language>
  <cp:lastModifiedBy>TCSD</cp:lastModifiedBy>
  <dcterms:modified xsi:type="dcterms:W3CDTF">2007-05-03T19:29:07Z</dcterms:modified>
  <cp:revision>6</cp:revision>
  <dc:subject/>
  <dc:title>Sexual Vs. Asexual</dc:title>
</cp:coreProperties>
</file>