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ryvale%20scoring%20guidance.doc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Scoring Your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ommon Formative Assessment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22860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ollaborative                        Scor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Design Matching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Assessmen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pre-test/post-test design provides a matching set of “bookend” assessments that are either the same or alternate forms of the same assess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improvement between the pre-test and post-test constitutes credible evidence of the teacher’s instructional success”-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. James Popham, </a:t>
            </a:r>
            <a:r>
              <a:rPr b="0" i="1" lang="en-US" sz="1600" spc="-1" strike="noStrike">
                <a:solidFill>
                  <a:srgbClr val="000000"/>
                </a:solidFill>
                <a:latin typeface="Garamond"/>
              </a:rPr>
              <a:t>Education Leadership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, February, 2003, pg. 1</a:t>
            </a:r>
            <a:r>
              <a:rPr b="0" i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rom Larry Ainsworth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Common Formative Assess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Garamond"/>
              </a:rPr>
              <a:t>Begin Agai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ose power stand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lect topic(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nwrap” your standard (what should students be able to know and do) – look back at deconstruction from beginning of the year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3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  Determine Big Ideas and Write Essential Ques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ssessment ite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pre-assessment (if differ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Scoring Guid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400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Collaborative Scoring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You will need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1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Scoring Guide created at last session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1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Your students’ paper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Garamond"/>
              </a:rPr>
              <a:t>Scoring Process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milar to process of grad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rformance Test or Extended Respon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urpose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s should discuss the correct answer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s should anticipate questionable answers (minimizes the what ifs?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oose a few papers (2-3) to score as a group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Process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rade papers with another perso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 should not score your own students’ pap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f it is unavoidable, try to cover the name of the student or have someone else double score the pap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Process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f you have questions while scoring, it is ok to ask your colleagu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core according to the scoring guide created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f necessary, convert rubric score to grade book gra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Process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6781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Tally on score shee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mplete the Reflection Sheet on your ow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iscuss with your group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The Next Step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re should be a CFA for each power standard your group chos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is time, you are going to create a CFA for an upcoming power standard that you will be teaching, but have not yet begun…or for beginning of next year!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The Next Step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is time you will also create a   pre-te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re-test will be given before you start the unit/topic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Garamond"/>
              </a:rPr>
              <a:t>The Value of Pre-Assess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-tests help teachers decide where to aim their early instruc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-tests indicate what sorts of skills, knowledge, or attitudes students have or do not hav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-assess to determine enabling sub-skills (skills necessary for the unit of study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rom Larry Ainsworth</a:t>
            </a:r>
            <a:r>
              <a:rPr b="0" i="1" lang="en-US" sz="1600" spc="-1" strike="noStrike">
                <a:solidFill>
                  <a:srgbClr val="000000"/>
                </a:solidFill>
                <a:latin typeface="Garamond"/>
              </a:rPr>
              <a:t> Common Formative Assessmen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0:09:13Z</dcterms:created>
  <dc:creator>Erie 1 Staff-Mobile Labs</dc:creator>
  <dc:description/>
  <cp:keywords/>
  <dc:language>en-US</dc:language>
  <cp:lastModifiedBy>Monica Daigler</cp:lastModifiedBy>
  <dcterms:modified xsi:type="dcterms:W3CDTF">2009-05-04T15:47:03Z</dcterms:modified>
  <cp:revision>10</cp:revision>
  <dc:subject/>
  <dc:title>Grading Your  Common Formative Assess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