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A2BE-F368-4EF1-91B8-7A571B339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A4F60-D37A-4426-8A34-5B510C220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292F3-09D5-4905-A72A-AF81C1A02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8CFCB-64E5-471C-B3BB-239D1B703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EF7C1-EC28-463B-ABCA-94B1AA3C3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B001E-A6E7-45F5-B8D8-390CF5678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CDAA9-EC21-4512-AD74-B2579AB3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D27E4-8C3C-4BC9-8220-BB570414E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38BBD-A314-471B-AE79-3036365D6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71199-DDB6-4754-9603-65D2F56AD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99AC-B930-44CD-A485-4C1A70992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66FBA-9282-42DE-9F9B-C8711BE45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34D2-B7BE-45FD-9026-A744E82CE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692C-D72C-42CF-B785-A80EA9FA0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eektowag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Intermediat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pts/areas/units do you believe your students are MOST successful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pts/areas/units do you believe your students struggle the MOST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4" name=""/>
          <p:cNvSpPr/>
          <p:nvPr/>
        </p:nvSpPr>
        <p:spPr>
          <a:xfrm>
            <a:off x="838080" y="1447920"/>
            <a:ext cx="7315200" cy="502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990720" y="1905120"/>
            <a:ext cx="6858000" cy="4132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perceptions let’s see how accurate our perceptions ar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rend and Gap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3-5 PI’s where there is trend data, recent Q’s asked, AND g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econstruction Template to Deconstruct the PI AND the Q’s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tent – Standard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kills –Standard 1,2,6,7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gnitive Lo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u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ction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12T16:47:11Z</dcterms:modified>
  <cp:revision>34</cp:revision>
  <dc:subject/>
  <dc:title>Slide 1</dc:title>
</cp:coreProperties>
</file>