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2C7D-685B-41D8-8709-8788A2595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AE13D-7AB1-4E28-802C-2048AFAAF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2612B-7C60-47A9-BB74-574F8DC4D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D6DA0-9933-44DC-A655-38C38A96D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7FB43-A414-4CAC-827A-0E563A990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A7BC6-0376-4723-BD04-EAF41B24E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7953E-793C-4E2D-AC63-B46355772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46DE5-CC23-4584-9BE8-EFE4E4AC5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628CC-C0F0-4704-9E64-024A333B4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13178-1BFA-421F-9F27-9DCF9A9FE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D2898-E18C-471E-9E92-B0B393476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0039F-F6AE-43E8-9818-0DF174D7A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CE54E-914E-4B1C-8258-085FC050D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089C-3641-4FDA-AA84-5417A5CDDF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heektowaga</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Intermediate</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cepts/areas/units do you believe your students are MOST successful wi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cepts/areas/units do you believe your students struggle the MOST wi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3"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4" name=""/>
          <p:cNvSpPr/>
          <p:nvPr/>
        </p:nvSpPr>
        <p:spPr>
          <a:xfrm>
            <a:off x="838080" y="1447920"/>
            <a:ext cx="7315200" cy="5029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990720" y="1905120"/>
            <a:ext cx="6858000" cy="4132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perceptions let’s see how accurate our perceptions ar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 at Trend and Gap Dat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3-5 PI’s where there is trend data, recent Q’s asked, AND ga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econstruction Template to Deconstruct the PI AND the Q’s f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ntent – Standard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kills –Standard 1,2,6,7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gnitive Lo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ugh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ction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9"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12T16:47:11Z</dcterms:modified>
  <cp:revision>34</cp:revision>
  <dc:subject/>
  <dc:title>Slide 1</dc:title>
</cp:coreProperties>
</file>