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4B63-4F57-40BB-B1E3-31E614938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0A1E5-6586-4CD1-811E-2A52D2248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A8B9E-2E2A-4F4A-B8B4-B8E3FC87B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0FFC0-3896-4DA1-9108-4F07D6D1D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57B0E-F923-4D17-9AE9-181F879E8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72AA3-4CEB-4017-85D3-80ADDEA7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FF1C9-87B9-4DD7-B2D1-AC3E9AF54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E77FF-C5A2-4CD5-A120-FB6075911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0AB61-7A56-498D-8CA9-E19588E5F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F3ACD-B19C-46BD-ADEE-E285F5CF1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B1AF7-4EA0-42AA-A726-F3A11861D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337A-7728-4946-984F-5A47CD22B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6DE2-1B9E-4ACF-BCF1-F543787CB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2CF7-DDC3-4549-9CA3-1E8C0E667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eektowag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Intermediat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pts/areas/units do you believe your students are MOST successful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pts/areas/units do you believe your students struggle the MOST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4" name=""/>
          <p:cNvSpPr/>
          <p:nvPr/>
        </p:nvSpPr>
        <p:spPr>
          <a:xfrm>
            <a:off x="838080" y="1447920"/>
            <a:ext cx="7315200" cy="502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990720" y="1905120"/>
            <a:ext cx="6858000" cy="413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perceptions let’s see how accurate our perceptions ar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rend and Gap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3-5 PI’s where there is trend data, recent Q’s asked, AND g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econstruction Template to Deconstruct the PI AND the Q’s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tent – Standard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kills –Standard 1,2,6,7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gnitive Lo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u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12T16:47:11Z</dcterms:modified>
  <cp:revision>34</cp:revision>
  <dc:subject/>
  <dc:title>Slide 1</dc:title>
</cp:coreProperties>
</file>