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13.wmf" ContentType="image/x-wmf"/>
  <Override PartName="/ppt/media/image8.wmf" ContentType="image/x-wmf"/>
  <Override PartName="/ppt/media/image7.wmf" ContentType="image/x-wmf"/>
  <Override PartName="/ppt/media/image11.gif" ContentType="image/gif"/>
  <Override PartName="/ppt/media/image9.wmf" ContentType="image/x-wmf"/>
  <Override PartName="/ppt/media/image14.png" ContentType="image/png"/>
  <Override PartName="/ppt/media/image6.gif" ContentType="image/gi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png" ContentType="image/png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1.wmf" ContentType="image/x-wmf"/>
  <Override PartName="/ppt/media/image24.wmf" ContentType="image/x-wmf"/>
  <Override PartName="/ppt/media/image25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2DAA-8E1A-4518-8689-5378DC03E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5CA6-C763-47FA-A229-5044D0C8F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04CC-0203-4A2C-90AC-015DDBAA1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BB8F-FF9A-4468-90B7-7506ABBE9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DFFA-8C7D-4797-AB3E-D3D981C3D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816A-109D-4F25-A812-20748F05F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356B-A317-4ECA-9529-3BEDCDD95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9ED5-CBF0-4D23-85B1-F847AFDE2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ACB9-BBD9-41CD-B9B0-ED27D521D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66D1-2681-4A55-BA1E-725167EF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EABB-4748-4ADA-A913-9035267A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38C2-FFEF-45AC-8DF8-BD6E9CC9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656B4-D20D-49AD-A665-CE72742B2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Essential%20Questions.pub" TargetMode="External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rubistar.4teachers.org/index.php" TargetMode="External"/><Relationship Id="rId2" Type="http://schemas.openxmlformats.org/officeDocument/2006/relationships/hyperlink" Target="http://teach-nology.com/web_tools/rubrics/science_fair/" TargetMode="External"/><Relationship Id="rId3" Type="http://schemas.openxmlformats.org/officeDocument/2006/relationships/hyperlink" Target="http://www.rubrics4teachers.com/" TargetMode="External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image" Target="../media/image23.wmf"/><Relationship Id="rId7" Type="http://schemas.openxmlformats.org/officeDocument/2006/relationships/image" Target="../media/image24.wmf"/><Relationship Id="rId8" Type="http://schemas.openxmlformats.org/officeDocument/2006/relationships/image" Target="../media/image25.wmf"/><Relationship Id="rId9" Type="http://schemas.openxmlformats.org/officeDocument/2006/relationships/image" Target="../media/image26.wmf"/><Relationship Id="rId10" Type="http://schemas.openxmlformats.org/officeDocument/2006/relationships/image" Target="../media/image27.wmf"/><Relationship Id="rId11" Type="http://schemas.openxmlformats.org/officeDocument/2006/relationships/image" Target="../media/image28.wmf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dgl.microsoft.com/mgnsrv.dll?1,en,bl01063_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80880" y="380880"/>
            <a:ext cx="87631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Intro question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s – name, subject(s) taught, an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cience vocabulary term explains you and why…and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nk-pair-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ill you use research-based instructional strategies to increase the learning in your classro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8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800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09480" y="2514600"/>
            <a:ext cx="3697560" cy="4343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609480"/>
            <a:ext cx="4267080" cy="1676520"/>
          </a:xfrm>
          <a:prstGeom prst="wedgeEllipseCallout">
            <a:avLst>
              <a:gd name="adj1" fmla="val -12314"/>
              <a:gd name="adj2" fmla="val 84282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objective is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86400" y="1523880"/>
            <a:ext cx="3657600" cy="2133720"/>
          </a:xfrm>
          <a:prstGeom prst="cloudCallout">
            <a:avLst>
              <a:gd name="adj1" fmla="val -6120"/>
              <a:gd name="adj2" fmla="val 80652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 need to learn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562720" y="4665600"/>
            <a:ext cx="3276360" cy="21924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 flipH="1">
            <a:off x="5486400" y="1523880"/>
            <a:ext cx="3657600" cy="2133720"/>
          </a:xfrm>
          <a:prstGeom prst="cloudCallout">
            <a:avLst>
              <a:gd name="adj1" fmla="val -5078"/>
              <a:gd name="adj2" fmla="val 79314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 have to complete this by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685800" y="1371600"/>
              <a:ext cx="7467480" cy="3657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762120" y="1447920"/>
            <a:ext cx="7162560" cy="342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Monotype Corsiva"/>
              </a:rPr>
              <a:t>To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Monotype Corsiva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Monotype Corsiva"/>
              </a:rPr>
              <a:t>Read Chapter 2 in 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Monotype Corsiva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Monotype Corsiva"/>
              </a:rPr>
              <a:t>Finish cell assignm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Monotype Corsiva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Monotype Corsiva"/>
              </a:rPr>
              <a:t>Work on cell analogy project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629400" y="22096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7543800" y="2133720"/>
            <a:ext cx="609480" cy="517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7467480" y="2819520"/>
            <a:ext cx="685800" cy="5824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7467480" y="3581280"/>
            <a:ext cx="685800" cy="584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09480" y="21276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ctivities/Assign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0" y="0"/>
            <a:ext cx="8915040" cy="6858000"/>
            <a:chOff x="0" y="0"/>
            <a:chExt cx="8915040" cy="685800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89150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625320" y="1371600"/>
              <a:ext cx="7664040" cy="3657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685800" y="1371600"/>
            <a:ext cx="7467480" cy="3657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Monotype Corsiva"/>
              </a:rPr>
              <a:t>As a result of what we do today, you will 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Monotype Corsiva"/>
              </a:rPr>
              <a:t>able to demonstrate that you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47920" y="2514600"/>
            <a:ext cx="647676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Monotype Corsiva"/>
              </a:rPr>
              <a:t>Understand how the cell organelles work together to keep the cell aliv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Monotype Corsiva"/>
              </a:rPr>
              <a:t>Are skilled at making comparisons of organelles to non-science exampl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1276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arning Go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066680"/>
            <a:ext cx="9144000" cy="585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Take notes on dens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Understand how the earth rotates and revol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Make a travel brochure for the human bod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Make a simple machin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Understand the relationship between cells and plants and hum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Write a report on science in the ne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Design a menu that includes a balance of foods from the food pyram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Know organelles and their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Activities/Assignments  or                    Learning Goals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ssential Q’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n essential ques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you effectively create and use essential 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or Objective…that is the question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ink to Document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7315200" y="2286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ersonal Learning Go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686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think of them like SMART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ay need to scaffold it for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it challenging but 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successes within a class period can lead to HUGE successes later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mentum bui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at page 177 and next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228600" y="914400"/>
          <a:ext cx="8763120" cy="5867280"/>
        </p:xfrm>
        <a:graphic>
          <a:graphicData uri="http://schemas.openxmlformats.org/drawingml/2006/table">
            <a:tbl>
              <a:tblPr/>
              <a:tblGrid>
                <a:gridCol w="4572000"/>
                <a:gridCol w="4191120"/>
              </a:tblGrid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rning Goal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edb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3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.___________________________________________________________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 2  3  4  (see rubri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3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2.___________________________________________________________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1 2  3  4 (see rubri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3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3.___________________________________________________________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1  2  3  4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see rubri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3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4.___________________________________________________________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1 2  3  4 (see rubri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304920" y="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__________________  Date___________________ Assignment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1523880"/>
            <a:ext cx="396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r learning goal is to understand how cell organelles work togeth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281952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y personal learning goal is to describe how 3 organelles work tog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4419720"/>
            <a:ext cx="3581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4114800"/>
            <a:ext cx="4191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r learning goal is to become skilled at making comparisons of organelles to non-science examp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5470560"/>
            <a:ext cx="4495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y personal learning goal is to   make 4 comparisons of organelles to non-science examp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an be done for units, individual PLE’s or both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some time to take a PLE or Unit and look at your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bjectives and learning goa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make some modif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1:  Complete NEW Figure 13.6 for a PLE or Unit of your ch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2: Pair-Sh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791320" y="3962520"/>
            <a:ext cx="2743200" cy="231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990720" y="1066680"/>
            <a:ext cx="71625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unch…YUMM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124080" y="2590920"/>
            <a:ext cx="3276720" cy="280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Now that we set Objectives and Essential Questions...what’s nex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ok at questions 6 and 7 on Figure 13.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flect on page 1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did you say?  WH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2192040" cy="15904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162920" y="4800600"/>
            <a:ext cx="1346040" cy="1752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3886200" y="3917880"/>
            <a:ext cx="441972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Book Antiqua"/>
              </a:rPr>
              <a:t>works</a:t>
            </a:r>
            <a:endParaRPr b="1" i="1" lang="en-US" sz="96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362592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tha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339920"/>
            <a:ext cx="9144000" cy="228852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0000"/>
                </a:solidFill>
                <a:latin typeface="Monotype Corsiva"/>
              </a:rPr>
              <a:t>Classroom Instructio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ossed Terms Literacy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pages 185-19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a part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 the cube and tape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ss the cube and talk about/explain the term or phrase that comes up on the 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all the phrases, by taking tu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858000" y="50292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380880"/>
            <a:ext cx="784872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tting Objectives and Providing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2819520"/>
            <a:ext cx="91440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Feedback should be “corrective” in n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Feedback should be time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Feedback should be specific to a criter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tudents can effectively provide their own feed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14300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Generalizations from research 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Providing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152280"/>
            <a:ext cx="9144000" cy="47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cc99"/>
                </a:solidFill>
                <a:latin typeface="Times New Roman"/>
              </a:rPr>
              <a:t>John Hattie—reviewed 7,827 studies on learning and instructio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1504800"/>
            <a:ext cx="8686800" cy="33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66"/>
                </a:solidFill>
                <a:latin typeface="Comic Sans MS"/>
              </a:rPr>
              <a:t>Conclusion… “The most powerful single innovation that enhances achievement is feedback. The simplest prescription for improving education must be ‘dollops’ of feedback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52280"/>
            <a:ext cx="9144000" cy="47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cc99"/>
                </a:solidFill>
                <a:latin typeface="Times New Roman"/>
              </a:rPr>
              <a:t>John Hattie—reviewed 7,827 studies on learning and instructio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1981080"/>
            <a:ext cx="8686800" cy="283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66"/>
                </a:solidFill>
                <a:latin typeface="Comic Sans MS"/>
              </a:rPr>
              <a:t>…</a:t>
            </a:r>
            <a:r>
              <a:rPr b="1" lang="en-US" sz="3600" spc="-1" strike="noStrike">
                <a:solidFill>
                  <a:srgbClr val="ccff66"/>
                </a:solidFill>
                <a:latin typeface="Comic Sans MS"/>
              </a:rPr>
              <a:t>reported that providing students with specific information about their standing in terms of </a:t>
            </a:r>
            <a:r>
              <a:rPr b="1" lang="en-US" sz="3600" spc="-1" strike="noStrike" u="sng">
                <a:solidFill>
                  <a:srgbClr val="ccff66"/>
                </a:solidFill>
                <a:uFillTx/>
                <a:latin typeface="Comic Sans MS"/>
              </a:rPr>
              <a:t>particular objectives</a:t>
            </a:r>
            <a:r>
              <a:rPr b="1" lang="en-US" sz="3600" spc="-1" strike="noStrike">
                <a:solidFill>
                  <a:srgbClr val="ccff66"/>
                </a:solidFill>
                <a:latin typeface="Comic Sans MS"/>
              </a:rPr>
              <a:t> increased their achievement by 37 percentile poin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33520" y="457200"/>
            <a:ext cx="861048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w do you provide feedback in a way that stud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362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Know what they are learning and how well the are prog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362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an explain what they need to do to get bet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 rot="20250000">
            <a:off x="2819160" y="4267080"/>
            <a:ext cx="29718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Rubric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0880" y="2362320"/>
            <a:ext cx="861084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coring Guides that explain levels of  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otentially, they focus students on “the learnin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se in conjunction with checklists, when appropr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276720" y="0"/>
            <a:ext cx="2361960" cy="97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Rubric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" name=""/>
          <p:cNvSpPr/>
          <p:nvPr/>
        </p:nvSpPr>
        <p:spPr>
          <a:xfrm>
            <a:off x="2978640" y="1143000"/>
            <a:ext cx="30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at are the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228600"/>
            <a:ext cx="914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Feedback should be specific to a criterion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What is the focus of the criteria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2438280"/>
            <a:ext cx="8686800" cy="1556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criteria focus on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peara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product, the student will be more likely to attend to the appear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4419720"/>
            <a:ext cx="8915400" cy="106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criteria focus on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vel of learn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 student will be more likely to attend to the level of lear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ubric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ubist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each-nolog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Rubrics 4 teach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er Assessment/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process using a checklist. Constructive comments, or rubric (experimental design) or projec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057400" y="2286000"/>
            <a:ext cx="4648320" cy="380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3" dur="indefinite" restart="never" nodeType="tmRoot">
          <p:childTnLst>
            <p:seq>
              <p:cTn id="244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245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8" dur="1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f-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can complete the rubric with an “explanation column” before the teacher uses the assessment rubr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acher assesses the student using the same rubric (however, it is not the one the student wrote 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you use the data from the student and teacher is subject to different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380880"/>
            <a:ext cx="8458200" cy="59986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388784" dir="2300697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sential Questions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hat strategies are effective for increasing student achievem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ow can teachers use setting objectives, writing essential questions, and providing feedback in a PLE or Unit Pla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arning Goals: Participants w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Gain an understanding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nstructional strategies that research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ndicates can have a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ignificant influence on student achievement (specifically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setting objectives and writing essential questions,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providing feedback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ecome skilled 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how to effectively set Unit or PLE objectives (learning goals),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ersonal learning goals, essential questions, and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roviding feed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586728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will embed these skills into my staff development in addition to literacy strategies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time to construct meaning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6964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the PLE/Unit from the 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e possibilities of feedback and align appropriate rubrics/checklists/assess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links to rubric site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self-assessment through survey giz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400800" y="4724280"/>
            <a:ext cx="2438280" cy="206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57200" y="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Californian FB"/>
              </a:rPr>
              <a:t>From the images below, choose two which reflect how you are feeling about our work today.  Explain why to your part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590920" y="1066680"/>
            <a:ext cx="1578960" cy="1752480"/>
            <a:chOff x="2590920" y="1066680"/>
            <a:chExt cx="1578960" cy="1752480"/>
          </a:xfrm>
        </p:grpSpPr>
        <p:sp>
          <p:nvSpPr>
            <p:cNvPr id="150" name=""/>
            <p:cNvSpPr/>
            <p:nvPr/>
          </p:nvSpPr>
          <p:spPr>
            <a:xfrm>
              <a:off x="2590920" y="1218960"/>
              <a:ext cx="414000" cy="520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Viner Hand ITC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1" name="" descr=""/>
            <p:cNvPicPr/>
            <p:nvPr/>
          </p:nvPicPr>
          <p:blipFill>
            <a:blip r:embed="rId1"/>
            <a:stretch/>
          </p:blipFill>
          <p:spPr>
            <a:xfrm>
              <a:off x="2690640" y="1066680"/>
              <a:ext cx="1479240" cy="175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" name=""/>
          <p:cNvGrpSpPr/>
          <p:nvPr/>
        </p:nvGrpSpPr>
        <p:grpSpPr>
          <a:xfrm>
            <a:off x="533520" y="1143000"/>
            <a:ext cx="1426680" cy="1638360"/>
            <a:chOff x="533520" y="1143000"/>
            <a:chExt cx="1426680" cy="1638360"/>
          </a:xfrm>
        </p:grpSpPr>
        <p:pic>
          <p:nvPicPr>
            <p:cNvPr id="153" name="" descr=""/>
            <p:cNvPicPr/>
            <p:nvPr/>
          </p:nvPicPr>
          <p:blipFill>
            <a:blip r:embed="rId2"/>
            <a:stretch/>
          </p:blipFill>
          <p:spPr>
            <a:xfrm>
              <a:off x="685800" y="1143000"/>
              <a:ext cx="127440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533520" y="1219320"/>
              <a:ext cx="414000" cy="520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Viner Hand ITC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4572000" y="990720"/>
            <a:ext cx="1676160" cy="1447200"/>
            <a:chOff x="4572000" y="990720"/>
            <a:chExt cx="1676160" cy="1447200"/>
          </a:xfrm>
        </p:grpSpPr>
        <p:pic>
          <p:nvPicPr>
            <p:cNvPr id="156" name="" descr=""/>
            <p:cNvPicPr/>
            <p:nvPr/>
          </p:nvPicPr>
          <p:blipFill>
            <a:blip r:embed="rId3"/>
            <a:stretch/>
          </p:blipFill>
          <p:spPr>
            <a:xfrm>
              <a:off x="5029200" y="1142640"/>
              <a:ext cx="121896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4572000" y="990720"/>
              <a:ext cx="414360" cy="520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Viner Hand ITC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6934320" y="914400"/>
            <a:ext cx="1304280" cy="1676520"/>
            <a:chOff x="6934320" y="914400"/>
            <a:chExt cx="1304280" cy="1676520"/>
          </a:xfrm>
        </p:grpSpPr>
        <p:pic>
          <p:nvPicPr>
            <p:cNvPr id="159" name="" descr=""/>
            <p:cNvPicPr/>
            <p:nvPr/>
          </p:nvPicPr>
          <p:blipFill>
            <a:blip r:embed="rId4"/>
            <a:stretch/>
          </p:blipFill>
          <p:spPr>
            <a:xfrm>
              <a:off x="7162560" y="914400"/>
              <a:ext cx="107604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6934320" y="914400"/>
              <a:ext cx="414000" cy="520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Viner Hand ITC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533520" y="3048120"/>
            <a:ext cx="1198080" cy="1752480"/>
            <a:chOff x="533520" y="3048120"/>
            <a:chExt cx="1198080" cy="1752480"/>
          </a:xfrm>
        </p:grpSpPr>
        <p:pic>
          <p:nvPicPr>
            <p:cNvPr id="162" name="" descr=""/>
            <p:cNvPicPr/>
            <p:nvPr/>
          </p:nvPicPr>
          <p:blipFill>
            <a:blip r:embed="rId5"/>
            <a:stretch/>
          </p:blipFill>
          <p:spPr>
            <a:xfrm>
              <a:off x="914400" y="3048120"/>
              <a:ext cx="81720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533520" y="3124080"/>
              <a:ext cx="414000" cy="520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Viner Hand ITC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2286000" y="2819520"/>
            <a:ext cx="1500120" cy="1676160"/>
            <a:chOff x="2286000" y="2819520"/>
            <a:chExt cx="1500120" cy="1676160"/>
          </a:xfrm>
        </p:grpSpPr>
        <p:pic>
          <p:nvPicPr>
            <p:cNvPr id="165" name="" descr=""/>
            <p:cNvPicPr/>
            <p:nvPr/>
          </p:nvPicPr>
          <p:blipFill>
            <a:blip r:embed="rId6"/>
            <a:stretch/>
          </p:blipFill>
          <p:spPr>
            <a:xfrm>
              <a:off x="2438280" y="2819520"/>
              <a:ext cx="134784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2286000" y="3962160"/>
              <a:ext cx="414360" cy="520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Viner Hand ITC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343400" y="2743200"/>
            <a:ext cx="1347840" cy="1600200"/>
            <a:chOff x="4343400" y="2743200"/>
            <a:chExt cx="1347840" cy="1600200"/>
          </a:xfrm>
        </p:grpSpPr>
        <p:pic>
          <p:nvPicPr>
            <p:cNvPr id="168" name="" descr=""/>
            <p:cNvPicPr/>
            <p:nvPr/>
          </p:nvPicPr>
          <p:blipFill>
            <a:blip r:embed="rId7"/>
            <a:stretch/>
          </p:blipFill>
          <p:spPr>
            <a:xfrm>
              <a:off x="4800600" y="2743200"/>
              <a:ext cx="89064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4343400" y="3504960"/>
              <a:ext cx="414360" cy="520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Viner Hand ITC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6400800" y="2819520"/>
            <a:ext cx="1599840" cy="1828800"/>
            <a:chOff x="6400800" y="2819520"/>
            <a:chExt cx="1599840" cy="1828800"/>
          </a:xfrm>
        </p:grpSpPr>
        <p:pic>
          <p:nvPicPr>
            <p:cNvPr id="171" name="" descr=""/>
            <p:cNvPicPr/>
            <p:nvPr/>
          </p:nvPicPr>
          <p:blipFill>
            <a:blip r:embed="rId8"/>
            <a:stretch/>
          </p:blipFill>
          <p:spPr>
            <a:xfrm flipH="1">
              <a:off x="6781320" y="2819520"/>
              <a:ext cx="121932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6400800" y="3581640"/>
              <a:ext cx="414360" cy="520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Viner Hand ITC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733920" y="4876920"/>
            <a:ext cx="1457280" cy="1675800"/>
            <a:chOff x="3733920" y="4876920"/>
            <a:chExt cx="1457280" cy="1675800"/>
          </a:xfrm>
        </p:grpSpPr>
        <p:pic>
          <p:nvPicPr>
            <p:cNvPr id="174" name="" descr=""/>
            <p:cNvPicPr/>
            <p:nvPr/>
          </p:nvPicPr>
          <p:blipFill>
            <a:blip r:embed="rId9"/>
            <a:stretch/>
          </p:blipFill>
          <p:spPr>
            <a:xfrm>
              <a:off x="4267080" y="5028840"/>
              <a:ext cx="92412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3733920" y="4876920"/>
              <a:ext cx="566640" cy="9471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Viner Hand ITC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85800" y="5029200"/>
            <a:ext cx="1828800" cy="1828800"/>
            <a:chOff x="685800" y="5029200"/>
            <a:chExt cx="1828800" cy="1828800"/>
          </a:xfrm>
        </p:grpSpPr>
        <p:pic>
          <p:nvPicPr>
            <p:cNvPr id="177" name="" descr=""/>
            <p:cNvPicPr/>
            <p:nvPr/>
          </p:nvPicPr>
          <p:blipFill>
            <a:blip r:embed="rId10"/>
            <a:stretch/>
          </p:blipFill>
          <p:spPr>
            <a:xfrm>
              <a:off x="1295280" y="5029200"/>
              <a:ext cx="121932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685800" y="5181480"/>
              <a:ext cx="533520" cy="520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Viner Hand ITC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5867280" y="4800600"/>
            <a:ext cx="1981080" cy="1832040"/>
            <a:chOff x="5867280" y="4800600"/>
            <a:chExt cx="1981080" cy="1832040"/>
          </a:xfrm>
        </p:grpSpPr>
        <p:pic>
          <p:nvPicPr>
            <p:cNvPr id="180" name="" descr=""/>
            <p:cNvPicPr/>
            <p:nvPr/>
          </p:nvPicPr>
          <p:blipFill>
            <a:blip r:embed="rId11"/>
            <a:stretch/>
          </p:blipFill>
          <p:spPr>
            <a:xfrm>
              <a:off x="6553080" y="4876920"/>
              <a:ext cx="129528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5867280" y="4800600"/>
              <a:ext cx="566640" cy="9471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Viner Hand ITC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5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000"/>
                            </p:stCondLst>
                            <p:childTnLst>
                              <p:par>
                                <p:cTn id="28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6000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750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9000"/>
                            </p:stCondLst>
                            <p:childTnLst>
                              <p:par>
                                <p:cTn id="30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50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350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228600" y="914400"/>
          <a:ext cx="8839080" cy="5572080"/>
        </p:xfrm>
        <a:graphic>
          <a:graphicData uri="http://schemas.openxmlformats.org/drawingml/2006/table">
            <a:tbl>
              <a:tblPr/>
              <a:tblGrid>
                <a:gridCol w="2438280"/>
                <a:gridCol w="6400800"/>
              </a:tblGrid>
              <a:tr h="241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4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457200" y="0"/>
            <a:ext cx="84582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What Works in Schools- Robert Marz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838080"/>
            <a:ext cx="6781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Guaranteed and Viable Curriculum                        2.  Challenging Goals and Effective Feedback          3.  Parent and Community Involvement                     4.  Safe and Orderly Environment                               5.  Collegiality and Professiona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66880" y="3352680"/>
            <a:ext cx="4496040" cy="14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  Instructional Strategies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  Classroom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  Classroom Curriculum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1828800"/>
            <a:ext cx="1905120" cy="1374120"/>
            <a:chOff x="380880" y="1828800"/>
            <a:chExt cx="1905120" cy="1374120"/>
          </a:xfrm>
        </p:grpSpPr>
        <p:pic>
          <p:nvPicPr>
            <p:cNvPr id="54" name="" descr="Click To Download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62120" y="1828800"/>
              <a:ext cx="990360" cy="925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5" name=""/>
            <p:cNvSpPr/>
            <p:nvPr/>
          </p:nvSpPr>
          <p:spPr>
            <a:xfrm>
              <a:off x="380880" y="2743200"/>
              <a:ext cx="1905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Scho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80880" y="3352680"/>
            <a:ext cx="1905120" cy="1374120"/>
            <a:chOff x="380880" y="3352680"/>
            <a:chExt cx="1905120" cy="1374120"/>
          </a:xfrm>
        </p:grpSpPr>
        <p:pic>
          <p:nvPicPr>
            <p:cNvPr id="57" name="" descr=""/>
            <p:cNvPicPr/>
            <p:nvPr/>
          </p:nvPicPr>
          <p:blipFill>
            <a:blip r:embed="rId3"/>
            <a:stretch/>
          </p:blipFill>
          <p:spPr>
            <a:xfrm>
              <a:off x="762120" y="3352680"/>
              <a:ext cx="10666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380880" y="4267080"/>
              <a:ext cx="1905120" cy="459720"/>
            </a:xfrm>
            <a:prstGeom prst="rect">
              <a:avLst/>
            </a:prstGeom>
            <a:solidFill>
              <a:srgbClr val="ffd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Teac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457200" y="4800600"/>
            <a:ext cx="1905120" cy="1679040"/>
            <a:chOff x="457200" y="4800600"/>
            <a:chExt cx="1905120" cy="1679040"/>
          </a:xfrm>
        </p:grpSpPr>
        <p:pic>
          <p:nvPicPr>
            <p:cNvPr id="60" name="" descr=""/>
            <p:cNvPicPr/>
            <p:nvPr/>
          </p:nvPicPr>
          <p:blipFill>
            <a:blip r:embed="rId4"/>
            <a:stretch/>
          </p:blipFill>
          <p:spPr>
            <a:xfrm>
              <a:off x="693720" y="4800600"/>
              <a:ext cx="116676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57200" y="6019920"/>
              <a:ext cx="1905120" cy="4597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Stud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2666880" y="5013360"/>
            <a:ext cx="63248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.   Home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. Learning Intelligence/ Background 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. Moti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24080" y="228600"/>
            <a:ext cx="6324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Factors Influencing Achievement we as teachers can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327672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 Instructional Strategies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 Classroom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. Classroom Curriculum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80880" y="990720"/>
            <a:ext cx="3124080" cy="1956960"/>
            <a:chOff x="380880" y="990720"/>
            <a:chExt cx="3124080" cy="1956960"/>
          </a:xfrm>
        </p:grpSpPr>
        <p:pic>
          <p:nvPicPr>
            <p:cNvPr id="66" name="" descr=""/>
            <p:cNvPicPr/>
            <p:nvPr/>
          </p:nvPicPr>
          <p:blipFill>
            <a:blip r:embed="rId1"/>
            <a:stretch/>
          </p:blipFill>
          <p:spPr>
            <a:xfrm>
              <a:off x="1005840" y="990720"/>
              <a:ext cx="1749240" cy="137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380880" y="2366280"/>
              <a:ext cx="3124080" cy="581400"/>
            </a:xfrm>
            <a:prstGeom prst="rect">
              <a:avLst/>
            </a:prstGeom>
            <a:solidFill>
              <a:srgbClr val="ffd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Arial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Arial"/>
                </a:rPr>
                <a:t>Teach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969840"/>
            <a:ext cx="8001000" cy="5710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Identifying similarities and differences (B-d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ummarizing and note tak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einforcing effort and providing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omework and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Nonlinguistic representations (C-d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operativ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tting objectives and providing feedback (A-d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enerating and testing hypo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ues, questions, and advance organiz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62120" y="76320"/>
            <a:ext cx="48765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lassroom Instruction That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791320" y="76320"/>
            <a:ext cx="1752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Book Antiqua"/>
              </a:rPr>
              <a:t>works</a:t>
            </a:r>
            <a:endParaRPr b="1" i="1" lang="en-US" sz="96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Book Antiqua"/>
              <a:ea typeface="Book Antiqua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" dur="2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Reflection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391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omplete page 176 (reflection) honestl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791320" y="3825720"/>
            <a:ext cx="2971800" cy="265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990720" y="609480"/>
            <a:ext cx="8076960" cy="2025720"/>
          </a:xfrm>
          <a:prstGeom prst="rect">
            <a:avLst/>
          </a:prstGeom>
          <a:solidFill>
            <a:srgbClr val="660066"/>
          </a:solidFill>
          <a:ln w="0">
            <a:noFill/>
          </a:ln>
          <a:effectLst>
            <a:outerShdw dist="153753" dir="27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tting Objectives and              Providing Feed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029200" y="1752480"/>
            <a:ext cx="4038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Read pgs. 173-178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3581280"/>
            <a:ext cx="82296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rst Turn, Last Turn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teracy Strate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8600" y="1179360"/>
            <a:ext cx="8458200" cy="3566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When students know what they are </a:t>
            </a:r>
            <a:r>
              <a:rPr b="1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learning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, their performance, on average, has been shown to 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27 percentile points higher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han students who do not know what they are learn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7T21:04:43Z</dcterms:created>
  <dc:creator>Debra Pickering</dc:creator>
  <dc:description/>
  <dc:language>en-US</dc:language>
  <cp:lastModifiedBy>Monica Burgio</cp:lastModifiedBy>
  <dcterms:modified xsi:type="dcterms:W3CDTF">2008-10-28T01:27:07Z</dcterms:modified>
  <cp:revision>99</cp:revision>
  <dc:subject/>
  <dc:title>Slide 1</dc:title>
</cp:coreProperties>
</file>