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E94-3F86-4BC9-AFEF-CC9BEF43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2AC-EA85-407F-814A-438A8B8A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100-D1D6-4A61-BBB0-F710830D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E61-AB5B-4862-A71F-BB4C7F22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251-2A85-4BD5-932C-A3F0C74F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A43-9B22-4A03-87C4-E07A2053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6A32-8564-42D8-B8D0-B784EB40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58B-B071-496C-8402-17021CF2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AA5-B9A2-4619-9812-883D04D1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9D2-F0E0-4A4F-873B-6021AD52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E52-9774-4E22-9A82-F8B24043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990-EC9F-4A85-B597-39FCCF18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45F4-BC01-4225-8615-9D9E5A1D5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Essential%20Questions.pub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index.php" TargetMode="External"/><Relationship Id="rId2" Type="http://schemas.openxmlformats.org/officeDocument/2006/relationships/hyperlink" Target="http://teach-nology.com/web_tools/rubrics/science_fair/" TargetMode="External"/><Relationship Id="rId3" Type="http://schemas.openxmlformats.org/officeDocument/2006/relationships/hyperlink" Target="http://www.rubrics4teachers.com/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gl.microsoft.com/mgnsrv.dll?1,en,bl01063_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Intro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 – name, subject(s) taught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cience vocabulary term explains you and why…an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-pair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use research-based instructional strategies to increase the learning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69756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480"/>
            <a:ext cx="4267080" cy="1676520"/>
          </a:xfrm>
          <a:prstGeom prst="wedgeEllipseCallout">
            <a:avLst>
              <a:gd name="adj1" fmla="val -12314"/>
              <a:gd name="adj2" fmla="val 8428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bjective 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6120"/>
              <a:gd name="adj2" fmla="val 80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need to lear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62720" y="4665600"/>
            <a:ext cx="3276360" cy="2192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5486400" y="1523880"/>
            <a:ext cx="3657600" cy="2133720"/>
          </a:xfrm>
          <a:prstGeom prst="cloudCallout">
            <a:avLst>
              <a:gd name="adj1" fmla="val -5078"/>
              <a:gd name="adj2" fmla="val 7931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have to complete this by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1371600"/>
              <a:ext cx="746748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62120" y="1447920"/>
            <a:ext cx="716256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Read Chapter 2 in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Finish cell assignme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Work on cell analogy proj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609480" cy="51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67480" y="28195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467480" y="3581280"/>
            <a:ext cx="685800" cy="58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ties/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915040" cy="6858000"/>
            <a:chOff x="0" y="0"/>
            <a:chExt cx="8915040" cy="6858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915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25320" y="1371600"/>
              <a:ext cx="7664040" cy="365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1371600"/>
            <a:ext cx="746748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s a result of what we do today, you will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ble to demonstrate that yo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514600"/>
            <a:ext cx="64767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Understand how the cell organelles work together to keep the cell a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Are skilled at making comparisons of organelles to non-science ex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ing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66680"/>
            <a:ext cx="9144000" cy="585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ake notes on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how the earth rotates and revo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travel brochure for the human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ke a simple mach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nderstand the relationship between cells and plants and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rite a report on science in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sign a menu that includes a balance of foods from the food pyram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Know organelles and thei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ctivities/Assignments  or                    Learning Goal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sential Q’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ssential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effectively create and use essential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r Objective…that is the questio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 to Documen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al Learning Go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of them like SMAR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need to scaffold it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challenging but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successes within a class period can lead to HUGE successes la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mentum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page 177 and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914400"/>
          <a:ext cx="8763120" cy="5867280"/>
        </p:xfrm>
        <a:graphic>
          <a:graphicData uri="http://schemas.openxmlformats.org/drawingml/2006/table">
            <a:tbl>
              <a:tblPr/>
              <a:tblGrid>
                <a:gridCol w="4572000"/>
                <a:gridCol w="419112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Goa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 2  3  4 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2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  2  3  4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.__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 2  3  4 (see rubri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0492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__________________  Date___________________ Assignment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52388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learning goal is to understand how cell organelles work toge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8195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describe how 3 organelles work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19720"/>
            <a:ext cx="358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11480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learning goal is to become skilled at making comparisons of organelles to non-scienc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47056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 personal learning goal is to   make 4 comparisons of organelles to non-science ex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n be done for units, individual PLE’s or bo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some time to take a PLE or Unit and look at you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ctives and learning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ke some modif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Complete NEW Figure 13.6 for a PLE or Unit of you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Pair-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74320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unch…YUMM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27672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w that we set Objectives and Essential Questions...what’s n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t questions 6 and 7 on Figure 13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 on page 1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you say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192040" cy="1590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62920" y="4800600"/>
            <a:ext cx="1346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86200" y="3917880"/>
            <a:ext cx="4419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6259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t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3992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Monotype Corsiva"/>
              </a:rPr>
              <a:t>Classroom Instruc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ssed Terms Literac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185-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the cube and tap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the cube and talk about/explain the term or phrase that comes up on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ll the phrases, by taking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784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Objectives and 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1952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“corrective” i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tim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eedback should be specific to a criter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udents can effectively provide their own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143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eneralizations from research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rovid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504800"/>
            <a:ext cx="868680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Conclusion… “The most powerful single innovation that enhances achievement is feedback. The simplest prescription for improving education must be ‘dollops’ of feedback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99"/>
                </a:solidFill>
                <a:latin typeface="Times New Roman"/>
              </a:rPr>
              <a:t>John Hattie—reviewed 7,827 studies on learning and instr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981080"/>
            <a:ext cx="86868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reported that providing students with specific information about their standing in terms of </a:t>
            </a:r>
            <a:r>
              <a:rPr b="1" lang="en-US" sz="3600" spc="-1" strike="noStrike" u="sng">
                <a:solidFill>
                  <a:srgbClr val="ccff66"/>
                </a:solidFill>
                <a:uFillTx/>
                <a:latin typeface="Comic Sans MS"/>
              </a:rPr>
              <a:t>particular objectives</a:t>
            </a:r>
            <a:r>
              <a:rPr b="1" lang="en-US" sz="3600" spc="-1" strike="noStrike">
                <a:solidFill>
                  <a:srgbClr val="ccff66"/>
                </a:solidFill>
                <a:latin typeface="Comic Sans MS"/>
              </a:rPr>
              <a:t> increased their achievement by 37 percentile poi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4572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provide feedback in a way that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 what they are learning and how well the are prog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explain what they need to do to get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20250000">
            <a:off x="2819160" y="426708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2362320"/>
            <a:ext cx="86108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oring Guides that explain levels of  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tentially, they focus students on “the le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in conjunction with checklists,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76720" y="0"/>
            <a:ext cx="236196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ubric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2978640" y="1143000"/>
            <a:ext cx="30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eedback should be specific to a criter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the focus of the criteri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438280"/>
            <a:ext cx="8686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product, the student will be more likely to attend to the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riteria focus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l of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tudent will be more likely to attend to the level of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i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ch-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brics 4 teach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er Assessment/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ocess using a checklist. Constructive comments, or rubric (experimental design) or projec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648320" cy="38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8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an complete the rubric with an “explanation column” before the teacher uses the assessment rub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assesses the student using the same rubric (however, it is not the one the student wrote 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use the data from the student and teacher is subject to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80880"/>
            <a:ext cx="8458200" cy="5998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8784" dir="2300697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strategies are effective for increasing student achie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can teachers use setting objectives, writing essential questions, and providing feedback in a PLE or Unit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Goals: Participants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ain an understand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ructional strategies that research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dicates can have 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ificant influence on student achievement (specificall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etting objectives and writing essential question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roviding feedbac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ecome skilled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to effectively set Unit or PLE objectives (learning goals)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sonal learning goals, essential questions,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id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8672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ill embed these skills into my staff development in addition to literacy strategi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ime to construct meani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he PLE/Unit from the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possibilities of feedback and align appropriate rubrics/checklists/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inks to rubric sit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elf-assessment through survey giz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43828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Californian FB"/>
              </a:rPr>
              <a:t>From the images below, choose two which reflect how you are feeling about our work today.  Explain why to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90920" y="1066680"/>
            <a:ext cx="1578960" cy="1752480"/>
            <a:chOff x="2590920" y="1066680"/>
            <a:chExt cx="1578960" cy="1752480"/>
          </a:xfrm>
        </p:grpSpPr>
        <p:sp>
          <p:nvSpPr>
            <p:cNvPr id="150" name=""/>
            <p:cNvSpPr/>
            <p:nvPr/>
          </p:nvSpPr>
          <p:spPr>
            <a:xfrm>
              <a:off x="2590920" y="121896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690640" y="1066680"/>
              <a:ext cx="14792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33520" y="1143000"/>
            <a:ext cx="1426680" cy="1638360"/>
            <a:chOff x="533520" y="1143000"/>
            <a:chExt cx="1426680" cy="16383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685800" y="1143000"/>
              <a:ext cx="127440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33520" y="121932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572000" y="990720"/>
            <a:ext cx="1676160" cy="1447200"/>
            <a:chOff x="4572000" y="990720"/>
            <a:chExt cx="1676160" cy="144720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5029200" y="1142640"/>
              <a:ext cx="1218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0" y="99072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934320" y="914400"/>
            <a:ext cx="1304280" cy="1676520"/>
            <a:chOff x="6934320" y="914400"/>
            <a:chExt cx="1304280" cy="1676520"/>
          </a:xfrm>
        </p:grpSpPr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7162560" y="914400"/>
              <a:ext cx="1076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934320" y="91440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3520" y="3048120"/>
            <a:ext cx="1198080" cy="1752480"/>
            <a:chOff x="533520" y="3048120"/>
            <a:chExt cx="1198080" cy="175248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914400" y="3048120"/>
              <a:ext cx="8172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33520" y="3124080"/>
              <a:ext cx="4140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86000" y="2819520"/>
            <a:ext cx="1500120" cy="1676160"/>
            <a:chOff x="2286000" y="2819520"/>
            <a:chExt cx="1500120" cy="167616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2438280" y="2819520"/>
              <a:ext cx="13478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286000" y="396216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343400" y="2743200"/>
            <a:ext cx="1347840" cy="1600200"/>
            <a:chOff x="4343400" y="2743200"/>
            <a:chExt cx="1347840" cy="1600200"/>
          </a:xfrm>
        </p:grpSpPr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4800600" y="2743200"/>
              <a:ext cx="8906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343400" y="350496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400800" y="2819520"/>
            <a:ext cx="1599840" cy="1828800"/>
            <a:chOff x="6400800" y="2819520"/>
            <a:chExt cx="1599840" cy="1828800"/>
          </a:xfrm>
        </p:grpSpPr>
        <p:pic>
          <p:nvPicPr>
            <p:cNvPr id="171" name="" descr=""/>
            <p:cNvPicPr/>
            <p:nvPr/>
          </p:nvPicPr>
          <p:blipFill>
            <a:blip r:embed="rId8"/>
            <a:stretch/>
          </p:blipFill>
          <p:spPr>
            <a:xfrm flipH="1">
              <a:off x="6781320" y="2819520"/>
              <a:ext cx="1219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400800" y="3581640"/>
              <a:ext cx="41436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733920" y="4876920"/>
            <a:ext cx="1457280" cy="1675800"/>
            <a:chOff x="3733920" y="4876920"/>
            <a:chExt cx="1457280" cy="1675800"/>
          </a:xfrm>
        </p:grpSpPr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4267080" y="5028840"/>
              <a:ext cx="9241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733920" y="4876920"/>
              <a:ext cx="566640" cy="94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85800" y="5029200"/>
            <a:ext cx="1828800" cy="1828800"/>
            <a:chOff x="685800" y="5029200"/>
            <a:chExt cx="1828800" cy="1828800"/>
          </a:xfrm>
        </p:grpSpPr>
        <p:pic>
          <p:nvPicPr>
            <p:cNvPr id="177" name="" descr=""/>
            <p:cNvPicPr/>
            <p:nvPr/>
          </p:nvPicPr>
          <p:blipFill>
            <a:blip r:embed="rId10"/>
            <a:stretch/>
          </p:blipFill>
          <p:spPr>
            <a:xfrm>
              <a:off x="1295280" y="5029200"/>
              <a:ext cx="1219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85800" y="5181480"/>
              <a:ext cx="53352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867280" y="4800600"/>
            <a:ext cx="1981080" cy="1832040"/>
            <a:chOff x="5867280" y="4800600"/>
            <a:chExt cx="1981080" cy="1832040"/>
          </a:xfrm>
        </p:grpSpPr>
        <p:pic>
          <p:nvPicPr>
            <p:cNvPr id="180" name="" descr=""/>
            <p:cNvPicPr/>
            <p:nvPr/>
          </p:nvPicPr>
          <p:blipFill>
            <a:blip r:embed="rId11"/>
            <a:stretch/>
          </p:blipFill>
          <p:spPr>
            <a:xfrm>
              <a:off x="6553080" y="4876920"/>
              <a:ext cx="12952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867280" y="4800600"/>
              <a:ext cx="566640" cy="94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iner Hand ITC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914400"/>
          <a:ext cx="8839080" cy="5572080"/>
        </p:xfrm>
        <a:graphic>
          <a:graphicData uri="http://schemas.openxmlformats.org/drawingml/2006/table">
            <a:tbl>
              <a:tblPr/>
              <a:tblGrid>
                <a:gridCol w="2438280"/>
                <a:gridCol w="6400800"/>
              </a:tblGrid>
              <a:tr h="24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57200" y="0"/>
            <a:ext cx="8458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at Works in Schools- Robert Marz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838080"/>
            <a:ext cx="6781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Guaranteed and Viable Curriculum                        2.  Challenging Goals and Effective Feedback          3.  Parent and Community Involvement                     4.  Safe and Orderly Environment                               5.  Collegiality and Profession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352680"/>
            <a:ext cx="44960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Instructional Strategie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 Classroo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Classroom Curriculu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828800"/>
            <a:ext cx="1905120" cy="1374120"/>
            <a:chOff x="380880" y="1828800"/>
            <a:chExt cx="1905120" cy="1374120"/>
          </a:xfrm>
        </p:grpSpPr>
        <p:pic>
          <p:nvPicPr>
            <p:cNvPr id="54" name="" descr="Click To Downloa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828800"/>
              <a:ext cx="990360" cy="92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380880" y="2743200"/>
              <a:ext cx="190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880" y="3352680"/>
            <a:ext cx="1905120" cy="1374120"/>
            <a:chOff x="380880" y="3352680"/>
            <a:chExt cx="1905120" cy="137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62120" y="3352680"/>
              <a:ext cx="1066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267080"/>
              <a:ext cx="1905120" cy="45972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7200" y="4800600"/>
            <a:ext cx="1905120" cy="1679040"/>
            <a:chOff x="457200" y="4800600"/>
            <a:chExt cx="1905120" cy="167904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93720" y="4800600"/>
              <a:ext cx="1166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6019920"/>
              <a:ext cx="1905120" cy="459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5013360"/>
            <a:ext cx="6324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 Hom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Learning Intelligence/ Backgroun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2286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ctors Influencing Achievement we as teachers ca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327672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Instructional Strategies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Classroom Curriculu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0880" y="990720"/>
            <a:ext cx="3124080" cy="1956960"/>
            <a:chOff x="380880" y="990720"/>
            <a:chExt cx="3124080" cy="19569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005840" y="990720"/>
              <a:ext cx="1749240" cy="137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80880" y="2366280"/>
              <a:ext cx="3124080" cy="581400"/>
            </a:xfrm>
            <a:prstGeom prst="rect">
              <a:avLst/>
            </a:prstGeom>
            <a:solidFill>
              <a:srgbClr val="ffd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69840"/>
            <a:ext cx="8001000" cy="571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dentifying similarities and differences (B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arizing and note t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mework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nlinguistic representations (C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tting objectives and providing feedback (A-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ing and testing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ues, questions, and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7632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assroom Instruction That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91320" y="7632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ook Antiqua"/>
              </a:rPr>
              <a:t>works</a:t>
            </a:r>
            <a:endParaRPr b="1" i="1" lang="en-US" sz="9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Book Antiqua"/>
              <a:ea typeface="Book Antiqu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plete page 176 (reflection) honestl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91320" y="3825720"/>
            <a:ext cx="297180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609480"/>
            <a:ext cx="8076960" cy="2025720"/>
          </a:xfrm>
          <a:prstGeom prst="rect">
            <a:avLst/>
          </a:prstGeom>
          <a:solidFill>
            <a:srgbClr val="660066"/>
          </a:solidFill>
          <a:ln w="0">
            <a:noFill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tting Objectives and              Providing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0" y="17524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 pgs. 173-17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5812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Turn, Last Turn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cy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179360"/>
            <a:ext cx="8458200" cy="3566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en students know what they are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learning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their performance, on average, has been shown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27 percentile points highe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an students who do not know what they are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04:43Z</dcterms:created>
  <dc:creator>Debra Pickering</dc:creator>
  <dc:description/>
  <dc:language>en-US</dc:language>
  <cp:lastModifiedBy>Monica Burgio</cp:lastModifiedBy>
  <dcterms:modified xsi:type="dcterms:W3CDTF">2008-10-28T01:27:07Z</dcterms:modified>
  <cp:revision>99</cp:revision>
  <dc:subject/>
  <dc:title>Slide 1</dc:title>
</cp:coreProperties>
</file>