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E5D-A021-4EC3-B0AB-B917B814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666-B960-4CB1-8D6C-6246392E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CAA-D6D7-4DE1-8BBC-16EEEBC8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7B5-C444-41A3-8D1D-D7FC9EBD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DE4-CCBC-4F5D-A0CF-86B884CF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8C9-F1BC-4E14-B701-394C7DE2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E41-E970-4C2F-BE37-344C40E3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B04-9085-4787-84F5-F5F0141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D72-219B-48E7-BFEF-404CC4F1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A31-758D-4F84-B5A0-5B28BA9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C30-50F0-465E-A17E-5A82C78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614-14C6-4B36-AF1F-1C1EC107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F9C4-4079-444F-B600-8AA03FC24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cience vocabulary term explains you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cell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cell analogy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the cell organelles work together to keep the cell a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re skilled at making comparisons of organelles to non-science ex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85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how the earth rotates and revo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human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cells and plants and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scienc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Know organelles and thei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91440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52388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understand how cell organelles work toge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195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organelle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11480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become skilled at making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7056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make 4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n be done for units, individual PLE’s or bo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some time to take a PLE or Unit and look at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ctives and learning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some modif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Complete NEW Figure 13.6 for a PLE or Unit of you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Pair-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nch…YUM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ime to construct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he PLE/Unit from the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possibilities of feedback and align appropriate rubrics/checklists/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inks to rubric si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elf-assessment through survey giz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Californian FB"/>
              </a:rPr>
              <a:t>From the images below, choose two which reflect how you are feeling about our work today.  Explain why to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1066680"/>
            <a:ext cx="1578960" cy="1752480"/>
            <a:chOff x="2590920" y="1066680"/>
            <a:chExt cx="1578960" cy="1752480"/>
          </a:xfrm>
        </p:grpSpPr>
        <p:sp>
          <p:nvSpPr>
            <p:cNvPr id="150" name=""/>
            <p:cNvSpPr/>
            <p:nvPr/>
          </p:nvSpPr>
          <p:spPr>
            <a:xfrm>
              <a:off x="2590920" y="121896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690640" y="1066680"/>
              <a:ext cx="14792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33520" y="1143000"/>
            <a:ext cx="1426680" cy="1638360"/>
            <a:chOff x="533520" y="1143000"/>
            <a:chExt cx="1426680" cy="16383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685800" y="1143000"/>
              <a:ext cx="1274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33520" y="121932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2000" y="990720"/>
            <a:ext cx="1676160" cy="1447200"/>
            <a:chOff x="4572000" y="990720"/>
            <a:chExt cx="1676160" cy="144720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029200" y="1142640"/>
              <a:ext cx="1218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0" y="99072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914400"/>
            <a:ext cx="1304280" cy="1676520"/>
            <a:chOff x="6934320" y="914400"/>
            <a:chExt cx="1304280" cy="167652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7162560" y="914400"/>
              <a:ext cx="1076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934320" y="91440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3048120"/>
            <a:ext cx="1198080" cy="1752480"/>
            <a:chOff x="533520" y="3048120"/>
            <a:chExt cx="1198080" cy="175248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914400" y="3048120"/>
              <a:ext cx="817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33520" y="312408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86000" y="2819520"/>
            <a:ext cx="1500120" cy="1676160"/>
            <a:chOff x="2286000" y="2819520"/>
            <a:chExt cx="1500120" cy="167616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2438280" y="2819520"/>
              <a:ext cx="1347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286000" y="39621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43400" y="2743200"/>
            <a:ext cx="1347840" cy="1600200"/>
            <a:chOff x="4343400" y="2743200"/>
            <a:chExt cx="1347840" cy="1600200"/>
          </a:xfrm>
        </p:grpSpPr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800600" y="2743200"/>
              <a:ext cx="8906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343400" y="35049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400800" y="2819520"/>
            <a:ext cx="1599840" cy="1828800"/>
            <a:chOff x="6400800" y="2819520"/>
            <a:chExt cx="1599840" cy="1828800"/>
          </a:xfrm>
        </p:grpSpPr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 flipH="1">
              <a:off x="6781320" y="281952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00800" y="358164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33920" y="4876920"/>
            <a:ext cx="1457280" cy="1675800"/>
            <a:chOff x="3733920" y="4876920"/>
            <a:chExt cx="1457280" cy="1675800"/>
          </a:xfrm>
        </p:grpSpPr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4267080" y="5028840"/>
              <a:ext cx="9241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733920" y="487692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5800" y="5029200"/>
            <a:ext cx="1828800" cy="1828800"/>
            <a:chOff x="685800" y="5029200"/>
            <a:chExt cx="1828800" cy="1828800"/>
          </a:xfrm>
        </p:grpSpPr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1295280" y="502920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85800" y="5181480"/>
              <a:ext cx="53352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867280" y="4800600"/>
            <a:ext cx="1981080" cy="1832040"/>
            <a:chOff x="5867280" y="4800600"/>
            <a:chExt cx="1981080" cy="1832040"/>
          </a:xfrm>
        </p:grpSpPr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>
              <a:off x="6553080" y="4876920"/>
              <a:ext cx="12952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867280" y="480060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(B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(C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(A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</cp:lastModifiedBy>
  <dcterms:modified xsi:type="dcterms:W3CDTF">2008-10-28T01:27:07Z</dcterms:modified>
  <cp:revision>99</cp:revision>
  <dc:subject/>
  <dc:title>Slide 1</dc:title>
</cp:coreProperties>
</file>