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DB3-6458-41FF-A62C-B929FD5A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7C1-372D-4B07-8856-D20601C8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384-3448-425A-B1A0-6A9DFA56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503-9C9B-4AAC-AB5B-0C401883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BE1-983B-47CC-8D91-76407B95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7E2-5836-4C7B-910C-E60FF368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789-60BC-4E56-9EFB-3186063E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324-5073-4901-A751-EEE1936E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16C-0604-431B-8F42-8C6B777A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505-7DDE-4314-91CA-387205E6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D03-5BBD-41E0-AD7C-ABA4796A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2F2-D119-4494-8BED-E1ABFE0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DA46-7A6C-4E20-A1A6-494FC1EA7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17809" r="0" b="0"/>
          <a:stretch/>
        </p:blipFill>
        <p:spPr>
          <a:xfrm>
            <a:off x="-328680" y="609480"/>
            <a:ext cx="9549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6832" t="14811" r="0" b="0"/>
          <a:stretch/>
        </p:blipFill>
        <p:spPr>
          <a:xfrm>
            <a:off x="1447920" y="1143000"/>
            <a:ext cx="6400800" cy="5261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609480" y="762120"/>
            <a:ext cx="2057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153640" cy="5680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80880" y="304920"/>
            <a:ext cx="221004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8" descr=""/>
          <p:cNvPicPr/>
          <p:nvPr/>
        </p:nvPicPr>
        <p:blipFill>
          <a:blip r:embed="rId1"/>
          <a:stretch/>
        </p:blipFill>
        <p:spPr>
          <a:xfrm>
            <a:off x="1762200" y="228600"/>
            <a:ext cx="53244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to “Ea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Jackson 5-rockin robin lyrics.mp3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05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00320" y="628560"/>
            <a:ext cx="47433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33440" y="581040"/>
            <a:ext cx="46771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0:52:06Z</dcterms:created>
  <dc:creator>Burgio Daigler, Monica</dc:creator>
  <dc:description/>
  <dc:language>en-US</dc:language>
  <cp:lastModifiedBy>Burgio Daigler, Monica</cp:lastModifiedBy>
  <dcterms:modified xsi:type="dcterms:W3CDTF">2012-05-01T01:08:07Z</dcterms:modified>
  <cp:revision>4</cp:revision>
  <dc:subject/>
  <dc:title>Slide 1</dc:title>
</cp:coreProperties>
</file>