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F19-8896-4D3B-9DCF-45F33340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076-9A02-4B84-B76E-4029565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ACA-4C17-494D-8077-CD56CDA5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E38-703C-43C8-99B8-27F6DC5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CEA-FB8B-432B-9BFF-B6895F1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4FE-B298-463F-A0CF-C144A0D1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576-B9C1-48B5-B883-1830A98F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481-4ED1-4F26-B013-6EC2C5CE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F99-754D-4FA9-8D99-1F1317AC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BF7-9226-4B99-A23F-70F7329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D1F-ED30-46B8-930A-829530B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761-9A5D-4CE4-A1F7-0EC44EE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09D-A48E-4FB0-837F-A5C8C70E4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17809" r="0" b="0"/>
          <a:stretch/>
        </p:blipFill>
        <p:spPr>
          <a:xfrm>
            <a:off x="-328680" y="609480"/>
            <a:ext cx="9549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6832" t="14811" r="0" b="0"/>
          <a:stretch/>
        </p:blipFill>
        <p:spPr>
          <a:xfrm>
            <a:off x="1447920" y="1143000"/>
            <a:ext cx="6400800" cy="526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09480" y="762120"/>
            <a:ext cx="2057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153640" cy="5680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304920"/>
            <a:ext cx="221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8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53244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to “E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Jackson 5-rockin robin lyrics.mp3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05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00320" y="628560"/>
            <a:ext cx="474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33440" y="581040"/>
            <a:ext cx="4677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0:52:06Z</dcterms:created>
  <dc:creator>Burgio Daigler, Monica</dc:creator>
  <dc:description/>
  <dc:language>en-US</dc:language>
  <cp:lastModifiedBy>Burgio Daigler, Monica</cp:lastModifiedBy>
  <dcterms:modified xsi:type="dcterms:W3CDTF">2012-05-01T01:08:07Z</dcterms:modified>
  <cp:revision>4</cp:revision>
  <dc:subject/>
  <dc:title>Slide 1</dc:title>
</cp:coreProperties>
</file>