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7DE-B658-4550-B092-D23DF4F1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378-140C-486F-8F06-B8A1DC10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3B8-6ECC-4604-A87D-7F18B267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A52-20FC-4B61-99E2-4E8BE8E0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828-6529-4911-B4C9-4DC8F3EF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98B-3C02-4BFE-A930-947CBA33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E24-EF51-4C24-B1C4-752F8FB3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F74-799B-41F6-93BC-5E1B7A15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6C7-A07B-4B0C-8108-BE4FEEF4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FA8-6ACB-4054-BEF7-292977FF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1A9-692B-481F-ACAD-5D806F10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300-95DD-40A4-927C-A15550D0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172A-347C-443F-AE1C-690A0C368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17809" r="0" b="0"/>
          <a:stretch/>
        </p:blipFill>
        <p:spPr>
          <a:xfrm>
            <a:off x="-328680" y="609480"/>
            <a:ext cx="9549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6832" t="14811" r="0" b="0"/>
          <a:stretch/>
        </p:blipFill>
        <p:spPr>
          <a:xfrm>
            <a:off x="1447920" y="1143000"/>
            <a:ext cx="6400800" cy="5261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609480" y="762120"/>
            <a:ext cx="2057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153640" cy="5680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80880" y="304920"/>
            <a:ext cx="221004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8" descr=""/>
          <p:cNvPicPr/>
          <p:nvPr/>
        </p:nvPicPr>
        <p:blipFill>
          <a:blip r:embed="rId1"/>
          <a:stretch/>
        </p:blipFill>
        <p:spPr>
          <a:xfrm>
            <a:off x="1762200" y="228600"/>
            <a:ext cx="53244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to “Ea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Jackson 5-rockin robin lyrics.mp3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05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00320" y="628560"/>
            <a:ext cx="47433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33440" y="581040"/>
            <a:ext cx="46771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0:52:06Z</dcterms:created>
  <dc:creator>Burgio Daigler, Monica</dc:creator>
  <dc:description/>
  <dc:language>en-US</dc:language>
  <cp:lastModifiedBy>Burgio Daigler, Monica</cp:lastModifiedBy>
  <dcterms:modified xsi:type="dcterms:W3CDTF">2012-05-01T01:08:07Z</dcterms:modified>
  <cp:revision>4</cp:revision>
  <dc:subject/>
  <dc:title>Slide 1</dc:title>
</cp:coreProperties>
</file>