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E07-9EAB-46B1-8B3B-443B5478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AA8-2A0F-412C-8A4C-48303C72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E25-35FA-41E4-B4F2-33B56D8F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9A6-A33A-49A1-9CCD-963460DF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8FF-240D-4CE4-84A1-22BA9FE7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D7A-EE72-4EA0-B368-7F358B7B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FB1-B2F8-4397-9B64-CA1BCC52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C9F-F346-41F4-8ADC-9E3A44BA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296-2004-47B4-809B-3DA69135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8F6-A038-4937-8641-308DE9CE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169-8A4B-443B-A7CB-480F87EA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E3B-F98B-4618-8182-DFDE48FC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CCE6-6E15-4490-899B-F52B5FD12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17809" r="0" b="0"/>
          <a:stretch/>
        </p:blipFill>
        <p:spPr>
          <a:xfrm>
            <a:off x="-328680" y="609480"/>
            <a:ext cx="9549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16832" t="14811" r="0" b="0"/>
          <a:stretch/>
        </p:blipFill>
        <p:spPr>
          <a:xfrm>
            <a:off x="1447920" y="1143000"/>
            <a:ext cx="6400800" cy="52610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609480" y="762120"/>
            <a:ext cx="2057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153640" cy="5680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380880" y="304920"/>
            <a:ext cx="221004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8" descr=""/>
          <p:cNvPicPr/>
          <p:nvPr/>
        </p:nvPicPr>
        <p:blipFill>
          <a:blip r:embed="rId1"/>
          <a:stretch/>
        </p:blipFill>
        <p:spPr>
          <a:xfrm>
            <a:off x="1762200" y="228600"/>
            <a:ext cx="532440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to “Ea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Jackson 5-rockin robin lyrics.mp3" descr=""/>
          <p:cNvPicPr/>
          <p:nvPr/>
        </p:nvPicPr>
        <p:blipFill>
          <a:blip r:embed="rId1"/>
          <a:stretch/>
        </p:blipFill>
        <p:spPr>
          <a:xfrm>
            <a:off x="3886200" y="2438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05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200320" y="628560"/>
            <a:ext cx="47433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33440" y="581040"/>
            <a:ext cx="46771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0:52:06Z</dcterms:created>
  <dc:creator>Burgio Daigler, Monica</dc:creator>
  <dc:description/>
  <dc:language>en-US</dc:language>
  <cp:lastModifiedBy>Burgio Daigler, Monica</cp:lastModifiedBy>
  <dcterms:modified xsi:type="dcterms:W3CDTF">2012-05-01T01:08:07Z</dcterms:modified>
  <cp:revision>4</cp:revision>
  <dc:subject/>
  <dc:title>Slide 1</dc:title>
</cp:coreProperties>
</file>