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97F-89D3-4E1F-9716-9677BB19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124-E90B-4985-B0F3-B8CF8355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184-2588-4CC6-88B1-7E9121E2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8C8-7A3C-45EB-ABF1-3FB4B59E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3CB-FECE-4CA6-90B5-70FC3E49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D2D-8BA6-4CA1-B8D0-E9C353A6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3A8-DF45-460D-8A57-494ED6D9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D23-CF21-4FAC-B9CE-99D09B95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689-0EE7-4BF0-B369-6890A258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F90-3814-435A-A81D-1A2B1E4A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96A-582C-4FCA-8CB5-9C1D4E4D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E59-C1EC-457C-886D-DFC3D4A8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0D02-9E68-433A-A637-FDCCC6ED0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Secondary+Method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Week #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arousel Good and Bad Teach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eer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hrough your patner’s 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warm and cool feedba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BD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32720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LE/UB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ke PL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PL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UBD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44956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re and Contras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1:05:27Z</dcterms:created>
  <dc:creator>Monica Burgio</dc:creator>
  <dc:description/>
  <dc:language>en-US</dc:language>
  <cp:lastModifiedBy>Monica Burgio</cp:lastModifiedBy>
  <dcterms:modified xsi:type="dcterms:W3CDTF">2009-02-11T00:06:56Z</dcterms:modified>
  <cp:revision>5</cp:revision>
  <dc:subject/>
  <dc:title>Classroom Management Discussion</dc:title>
</cp:coreProperties>
</file>