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810E-F9A8-4A0F-BE8E-A2428FE3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AA6-9B5E-4461-BE64-D3E3C451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CF5-9B07-4F42-BB64-71F0FCD0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5F32-D342-40E0-A167-A4A6E774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CBA4-1394-40B0-B449-3237CFE7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5E0-EF77-4285-9570-FE0E28FC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2545-5A2A-4BB2-BAC4-573152C8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BB4-7A63-4F16-932C-492937F7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603-39DE-42D3-890B-B1FBAB4E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FBA3-8773-4595-8AE9-8C62AD72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E3B3-F4D5-4149-B8AC-04DDB9DE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14C6-44B0-4158-9104-28AEA9B6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6630-B6FA-4F61-ABA1-C35F1E1CB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onicabd.wikispaces.com/Secondary+Methods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Week #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arousel Good and Bad Teach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eer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 through your patner’s 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e warm and cool feedbac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BD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327204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LE/UB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ke PL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ok at PL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ok at UBD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44956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mpare and Contras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781680" y="60948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1:05:27Z</dcterms:created>
  <dc:creator>Monica Burgio</dc:creator>
  <dc:description/>
  <dc:language>en-US</dc:language>
  <cp:lastModifiedBy>Monica Burgio</cp:lastModifiedBy>
  <dcterms:modified xsi:type="dcterms:W3CDTF">2009-02-11T00:06:56Z</dcterms:modified>
  <cp:revision>5</cp:revision>
  <dc:subject/>
  <dc:title>Classroom Management Discussion</dc:title>
</cp:coreProperties>
</file>