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155-B9E1-44B3-A331-C018AEBB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24F-E8E0-45E9-99E1-2A4C24DF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977-AE81-424B-826C-28ADDFFF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F76-066D-4AA5-8622-FB82537D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134-39E2-4E84-9186-6959703B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89C-7B77-4353-91A0-058F909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1F6-78CE-4AEC-9E06-96447689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A97-8220-4988-912D-B89DB405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C1A-8716-467C-890B-36C53C59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F96-76B1-40CE-9701-BBB96AB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DA5-F5C5-4CB7-AC1C-D7A0FA4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473-DD47-4882-B685-3A8B16C9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2295-5515-4428-B474-9B5BC214E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econdary+Method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Week #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arousel Good and Bad Teac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your patner’s 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warm and cool feed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BD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32720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E/UB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ke PL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L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UBD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4956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e and Contras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05:27Z</dcterms:created>
  <dc:creator>Monica Burgio</dc:creator>
  <dc:description/>
  <dc:language>en-US</dc:language>
  <cp:lastModifiedBy>Monica Burgio</cp:lastModifiedBy>
  <dcterms:modified xsi:type="dcterms:W3CDTF">2009-02-11T00:06:56Z</dcterms:modified>
  <cp:revision>5</cp:revision>
  <dc:subject/>
  <dc:title>Classroom Management Discussion</dc:title>
</cp:coreProperties>
</file>