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0D5-DE6B-4DE6-B965-CB2B80E5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DCF-C36D-4B56-B4C6-E797E124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582-C86E-4282-8C73-98BA39EA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FFC0-1768-4D8A-8AE6-B2ECAC62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A42-CABD-4EEF-B047-C5CFD803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730-B98D-4AC4-9DD5-634B2EB1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22A-437F-4387-BFDC-4DE8D220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5E4-122D-4949-93DF-16F0C410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7F5-C25E-4F68-80AB-A68324D7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868-ADC3-44D4-BD01-1AF0F54F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42A-215E-4C29-ABBD-C55135C4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F5D-F814-4658-9321-F7D7B572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1301-F1F5-4ABF-BB03-5D9831AC2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onicabd.wikispaces.com/Secondary+Method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Week #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arousel Good and Bad Teach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eer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hrough your patner’s 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e warm and cool feedba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BD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327204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LE/UB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ke PL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at PL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at UBD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44956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are and Contras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81680" y="60948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1:05:27Z</dcterms:created>
  <dc:creator>Monica Burgio</dc:creator>
  <dc:description/>
  <dc:language>en-US</dc:language>
  <cp:lastModifiedBy>Monica Burgio</cp:lastModifiedBy>
  <dcterms:modified xsi:type="dcterms:W3CDTF">2009-02-11T00:06:56Z</dcterms:modified>
  <cp:revision>5</cp:revision>
  <dc:subject/>
  <dc:title>Classroom Management Discussion</dc:title>
</cp:coreProperties>
</file>