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A4D0-02D0-4E88-A59D-1538F932E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FA982-75D4-45C6-BB29-6CE903A4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1AF3-2CB4-4149-B04F-6096E07D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7CCAB-9EB2-4DEB-9778-8075FBE71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D5EFF-FB9A-4B1F-B396-9AA527DB0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ECD23-5215-462E-9A80-E3C89A09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5FD1-1F66-423D-80C5-7C3F956B7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3FF2-0EF9-49B1-B9AF-414F6E44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ED820-8372-4758-BEBC-145BA2DB9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B91C-4C48-42FE-A730-78B66ACDD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088C-380B-4146-8C49-229ACCDC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F729-98C9-476A-A00B-22E052B8A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18AC-188A-4815-ABB6-FEF8BB7EA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2DC4-8828-4E04-A036-21A090515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3"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5"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7"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Erie 1 Staff-Mobile Labs</cp:lastModifiedBy>
  <dcterms:modified xsi:type="dcterms:W3CDTF">2008-08-01T14:55:20Z</dcterms:modified>
  <cp:revision>11</cp:revision>
  <dc:subject/>
  <dc:title>What is                 Curriculum Mapping?</dc:title>
</cp:coreProperties>
</file>