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3A31-8CF4-41F8-AB6C-5AD6FF53B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1952E-505A-42BC-ADFA-11E599E51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61ADE-690A-4041-9346-21D135748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8E3E3-F8EA-490F-B286-6346E049B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C45D9-4B75-46D1-9DDF-EFAB66B5D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B8F6-FCC9-426D-95B4-13ACAC04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3DF6-E0B9-4AE4-AE48-C322AED4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6D27A-96E6-46BD-BB71-B34D2EC3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DFD3-E3CF-4F64-8AE5-FBA7C0DBD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31B4F-5081-445A-985F-287C84DC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C764-0F19-4815-859E-53A0E0B6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7D8F-D225-4643-92A1-07E28286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F60E-6E89-4D10-89CE-E9A2A8AE7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1A36-4171-49E1-AAF5-AB1FF00A0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3"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5"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7"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Erie 1 Staff-Mobile Labs</cp:lastModifiedBy>
  <dcterms:modified xsi:type="dcterms:W3CDTF">2008-08-01T14:55:20Z</dcterms:modified>
  <cp:revision>11</cp:revision>
  <dc:subject/>
  <dc:title>What is                 Curriculum Mapping?</dc:title>
</cp:coreProperties>
</file>