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9BC5-6D14-48B5-9894-9FA1A4A5F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2D31-8A05-4A10-83B7-25325269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9ED91-255F-4806-8B44-28C44789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9EDC-4938-44B4-B440-8F03B8112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C8CB8-14AB-4662-9584-46E5BA981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10F46-9A42-4765-A9BE-790FA50D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3B19-9548-4E2B-90A2-1520F007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20EA-2F39-4B45-A726-1016BE039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DD79-1E36-495A-88A5-8CF4E881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36D5-3D5B-42D3-9CB5-EA791CBA4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AAA3-03BC-4BF0-AC7A-5DD06EE9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C50A-46FE-4303-B4E6-602F6405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ED9A-D426-4D2B-9D7F-7C5D4D010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092C-999B-4783-A018-DB7CC55D0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3"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5"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7"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Erie 1 Staff-Mobile Labs</cp:lastModifiedBy>
  <dcterms:modified xsi:type="dcterms:W3CDTF">2008-08-01T14:55:20Z</dcterms:modified>
  <cp:revision>11</cp:revision>
  <dc:subject/>
  <dc:title>What is                 Curriculum Mapping?</dc:title>
</cp:coreProperties>
</file>