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003E-DD23-47C9-B71C-347DE3274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56E9D-1FEF-490F-A1C1-3D250BB72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A979-89EB-4EF1-B4D8-A77943FF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5C04D-63FA-4F73-BD8C-B8C0A6498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6DD0D-685E-4D6C-A3B8-938427201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3AE1-0F78-42F3-A997-8BF5AA43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2DAF0-2D5D-4798-BCA7-020404644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24C4D-5487-446D-B923-6460A845C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B1F81-CCE1-4F66-A7C9-A3030A3B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D2A6-AF9A-42FD-AFD3-9903DDD93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88DB1-78C6-4B63-AAF4-CF927B7BB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DC20-D32C-4B4C-886F-9B9F6D4EE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93C9-D8DA-4EEF-8C37-56CF1621D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4E02-8C9A-4A22-8714-5C4EF7282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visit PreK-1</a:t>
            </a:r>
            <a:endParaRPr b="0" lang="en-US" sz="6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B</a:t>
            </a:r>
            <a:r>
              <a:rPr b="0" lang="en-US" sz="4400" spc="-1" strike="noStrike">
                <a:solidFill>
                  <a:srgbClr val="000000"/>
                </a:solidFill>
                <a:latin typeface="Wingdings"/>
                <a:ea typeface="Wingdings"/>
              </a:rPr>
              <a:t></a:t>
            </a:r>
            <a:r>
              <a:rPr b="0" lang="en-US" sz="4400" spc="-1" strike="noStrike">
                <a:solidFill>
                  <a:srgbClr val="000000"/>
                </a:solidFill>
                <a:latin typeface="Arial"/>
              </a:rPr>
              <a:t>D and what does it look like at each level???</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Skills into map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or attach resources, lessons with skills and/or conten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5"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7"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9"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 </cp:lastModifiedBy>
  <dcterms:modified xsi:type="dcterms:W3CDTF">2008-08-04T17:24:09Z</dcterms:modified>
  <cp:revision>12</cp:revision>
  <dc:subject/>
  <dc:title>What is                 Curriculum Mapping?</dc:title>
</cp:coreProperties>
</file>