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A5E9-56F4-4526-9548-015BBF660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D1199-1B16-4CD2-8773-E1EE739D7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08E3C-DC75-4A8F-A7B3-FA3EB5354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1EDB0-A62A-4813-B166-366E7FBE6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0F322-4A49-4FD4-B6E2-7A13A603D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B51C9-B37D-47F0-AFED-CD54A304F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08ED2-33D5-46AC-816C-73A4DDB89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40544-AFCE-4F2F-8C01-B103E09C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83C84-CE97-495E-9FD4-157D9FB09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6F74-92E7-405C-B8A9-679780457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D227-5D80-4D38-B166-107AD8F9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E067-7602-46BE-AFAC-F2F3254D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359B-C79C-4053-89D0-2BAB372C4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6D26-5A05-420F-B856-113EE8A4A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visit PreK-1</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B</a:t>
            </a:r>
            <a:r>
              <a:rPr b="0" lang="en-US" sz="4400" spc="-1" strike="noStrike">
                <a:solidFill>
                  <a:srgbClr val="000000"/>
                </a:solidFill>
                <a:latin typeface="Wingdings"/>
                <a:ea typeface="Wingdings"/>
              </a:rPr>
              <a:t></a:t>
            </a:r>
            <a:r>
              <a:rPr b="0" lang="en-US" sz="4400" spc="-1" strike="noStrike">
                <a:solidFill>
                  <a:srgbClr val="000000"/>
                </a:solidFill>
                <a:latin typeface="Arial"/>
              </a:rPr>
              <a:t>D and what does it look like at each level???</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Skills into map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or attach resources, lessons with skills and/or conten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5"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7"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9"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 </cp:lastModifiedBy>
  <dcterms:modified xsi:type="dcterms:W3CDTF">2008-08-04T17:24:09Z</dcterms:modified>
  <cp:revision>12</cp:revision>
  <dc:subject/>
  <dc:title>What is                 Curriculum Mapping?</dc:title>
</cp:coreProperties>
</file>