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3E2-CB20-447A-83B3-6E306A0B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A75-3D38-4C32-A935-D3A23EB6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E22-75EB-4A93-978F-6A7FF7E0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445-1FFD-4409-ABD9-DA718521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EF51-3763-4DD7-80DC-EBA9A155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CC17-1670-4D4E-8B7E-5C99E092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0F76-7887-4A09-9E53-11358CCF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2F1A-357D-4CFB-BDE5-2D52BE42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EB6D-5C9E-4A5D-9C61-D4413B2D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5CBF-6136-4494-9E16-1A1A053C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20C5-E8DF-4A43-A44D-5D55E545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501E-C5FA-4F79-B26A-E2920033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7525-B8E9-4614-AE4E-4BDADCA3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C5FE-730B-42AD-893F-CAF96F1C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7DA3-8CF5-432C-B291-63671A7E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B469-42F4-4ED1-B905-2EF2CB84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34B5-B2AD-4E1A-9656-2C9DC53A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74D-5A59-4AC6-80C5-42B11F9A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EAF4-258B-44AD-88BA-2200BE9E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E22-C9D8-4E13-8D70-A24B8C3E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C9EB-F50E-4CFB-82A3-FF397200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8E4-80F0-422A-88E0-E0D610CA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F573-0D4D-4560-B70C-5C58AEF3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29D-DEBE-418D-A965-6DB748E7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6970-5277-4160-BA15-913064DF0F7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DD88-CA23-4C2E-867A-496F389659A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tarpoint M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hare the Gaps: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en are these concepts taugh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e they spirale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grad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nual Improvement Pl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ach course should create a STATISTICAL goal for their “high stakes” assessment and what skills/PIs they are going to attempt to improve this y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Teacher Identified Topics: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would you like more PD 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would you like more time to work 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ay 3: tentatively self direct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08-26T18:07:56Z</dcterms:modified>
  <cp:revision>9</cp:revision>
  <dc:subject/>
  <dc:title>Starpoint PD Science</dc:title>
</cp:coreProperties>
</file>