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5657-7BA4-47CB-9F47-F20EB942B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A961-C529-493F-80C8-3F9913D9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3B9D-50CB-4E53-A6A7-435CA80A7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72DE-13C9-41FE-ABC4-DD4E93911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72E1-47B3-4D53-AF72-B40C1374F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5072-979D-4BDB-8F15-141A00E5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704B-6B94-496E-BFAC-97C2DEFE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6116-2468-4A9F-BFCC-5F4F6CEF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2B8B-8886-422C-9F83-EFE1423B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DEAE-5F07-4421-9140-AA7A5636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F8E5-2B2A-4D31-B67F-8C370E1F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91E8-B8BE-4109-A840-A8CF0DB8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9A03-9360-48C2-9279-A158F816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752D-E5BC-450C-A42A-10319E44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39CC-C42E-4784-A47E-6B15915F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97C0-BB29-4B04-B181-0538C2EF6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6EF2-9208-4366-B5E5-2A5701507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3FF2-12B7-4FCD-8C64-7D3A73A8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FAE6-F4B1-4639-918E-ACC378C5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76A4-41CD-4433-A47E-3566DD20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02C2-3A04-478F-B482-CA500530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2ADF-7A6C-439A-AAE2-40840C8D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B40D-5B29-420A-AAF8-84FAEE13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633C-C03E-4517-8A48-DBB18CC1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EA00-7F72-45AD-AD3A-868EA30256B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E445-E9B2-45C1-9785-3D3464FB27A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tarpoint MS PD</a:t>
            </a:r>
            <a:br>
              <a:rPr sz="7200"/>
            </a:b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cience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4792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Welcome Back!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Icebreaker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ince We Last Met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-185760">
              <a:spcBef>
                <a:spcPts val="1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ince we last met, life has been like what book, movie or song title?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ake 2 minutes to think and write on note-car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plain why this choice captures your experiences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Warm-Up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the Power PI’s in your content are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? 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38098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your students’ biggest g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do they struggle the mo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s Perception Reality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Power PI’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 over time?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36576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your students’ biggest g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4956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oritize top 3-5 improvement points based on gaps in trended (power PI) areas firs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construct Top 3 Gap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1905120" y="4343400"/>
            <a:ext cx="5105160" cy="1523880"/>
          </a:xfrm>
          <a:custGeom>
            <a:avLst/>
            <a:gdLst>
              <a:gd name="textAreaLeft" fmla="*/ 893160 w 5105160"/>
              <a:gd name="textAreaRight" fmla="*/ 3701160 w 5105160"/>
              <a:gd name="textAreaTop" fmla="*/ 204120 h 1523880"/>
              <a:gd name="textAreaBottom" fmla="*/ 13197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3048120"/>
            <a:ext cx="39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Create Annual Improvement Go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hare the Gaps: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153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en are these concepts taught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1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re they spiraled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1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grad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nnual Improvement Pla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ach course should create a STATISTICAL goal for their “high stakes” assessment and what skills/PIs they are going to attempt to improve this ye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bbd71"/>
                </a:solidFill>
                <a:latin typeface="Arial"/>
              </a:rPr>
              <a:t>Teacher Identified Topics: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would you like more PD o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would you like more time to work o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1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ay 3: tentatively self direct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7:55:30Z</dcterms:created>
  <dc:creator>Monica Burgio Daigler</dc:creator>
  <dc:description/>
  <dc:language>en-US</dc:language>
  <cp:lastModifiedBy>Monica Burgio Daigler</cp:lastModifiedBy>
  <dcterms:modified xsi:type="dcterms:W3CDTF">2009-08-26T18:07:56Z</dcterms:modified>
  <cp:revision>9</cp:revision>
  <dc:subject/>
  <dc:title>Starpoint PD Science</dc:title>
</cp:coreProperties>
</file>