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606-A43F-40FF-BC19-137E0C0D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543-1B55-4C1A-96E2-4515866C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020-4DEC-43DA-B52A-8FF5F907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557-71F7-459A-AE0D-C16A405C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F213-F1B6-4626-B7CC-CCD4DF98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2055-38F0-41CC-9177-6D394E02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3339-445A-454B-A5FA-08F0A977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9458-27C7-40E2-AE14-C20D8A05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816D-6E84-4CE3-AD6E-6E4066C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37FC-53A9-4E2A-A9C4-8D2B5424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9C6F-0C67-40A5-A306-6D461EB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A58-AB2A-4DBE-9471-9DA14E3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DF9E-B4F3-4563-9237-192B9A2F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AE1B-05B4-417E-AB89-0057D5C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78BF-8AE8-4513-9BF7-9A3736AC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35B0-3AF1-4075-A433-6732CF99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59D0-4CE0-47BB-A528-E680CB32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66A-E3D6-40D5-9121-9F07A2B9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279-B761-4F7B-85FF-CBDA78E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810-99B1-4FF0-8DAA-301F91D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5B2-7A2B-42DF-A693-81C50AE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39C-A648-4139-B886-D669CE45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781-22EE-4707-B5F3-CFC2F75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01E-A4A1-4E21-89A2-6EBB14A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F38F-DC3E-4603-AF87-C88B06DCB2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DFB4-ACC6-45ED-8C48-F5A58704B0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hare the Gaps: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are these concepts taugh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e they spiral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grad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Teacher Identified Topics: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ould you like more PD 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ould you like more time to work 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y 3: tentatively self direc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8-26T18:07:56Z</dcterms:modified>
  <cp:revision>9</cp:revision>
  <dc:subject/>
  <dc:title>Starpoint PD Science</dc:title>
</cp:coreProperties>
</file>