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D9A-BFA6-43D8-A406-D482444F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6FA-3147-4FF9-8B92-26662C83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1A4-0CB2-4F0F-8ABF-2A4301D7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0E2-92C8-439C-BE17-B6E1AC5E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E14B-419A-4D29-9F26-9063AF30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80B1-CBA7-4179-9DEF-102EB88C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E861-97A5-4BF7-A9AD-F754769C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3217-A9B1-470C-8BD7-6F5B603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6E1E-A3ED-4892-BAB3-199C03AD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1834-3A96-404B-AC6E-66594AE4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692C-08D8-4245-A159-4A56DD6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20D-F4D4-4918-B314-68CEC37C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2C8C-1B5C-4809-A1E4-CF113701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8129-734E-400A-95AE-433A938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C1FE-DEC5-4D9C-ABA1-31AEAA7C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3DCB-CBFD-4315-B02F-8F52F5F0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D95C-2CC0-49EF-BA61-65C0CD12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3D6-9F02-4FDF-A4AC-21230A8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54E-C808-4307-A838-E9BF34A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89D-E0FF-408D-9F4B-F8B6AC43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FAB-3170-4492-9E1D-EFDA723F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862-6CE8-4B80-B56C-91EBF517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BEF-1125-468C-8D9B-9587ACC9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6CD-E32D-44FC-ABD6-2E7DA68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7817-7DBD-4801-A719-4967E87EB4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803F-9038-445D-8A10-8E8B6D8957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hare the Gaps: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are these concepts taugh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e they spiral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grad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Teacher Identified Topics: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ould you like more PD 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ould you like more time to work 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y 3: tentatively self direct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8-26T18:07:56Z</dcterms:modified>
  <cp:revision>9</cp:revision>
  <dc:subject/>
  <dc:title>Starpoint PD Science</dc:title>
</cp:coreProperties>
</file>