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4DF-DF57-4D0B-8B2E-C701B0E5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AE4-9F3D-47A8-9A08-6B317F0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999-AB4E-4B85-A376-7F8A7C96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A3A-DA6A-40BA-9302-057E3E8F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AA6D-BD50-41FF-9891-463F5610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E08C-4E09-4D41-8312-F4DAE5E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3BC-10DB-4754-A52A-D5989471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992-3D9E-4DCF-AB8C-A4D453F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9A23-7890-49D7-8970-378CA93B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78C-C2B3-474F-8266-E5EF267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A7E-F059-47F7-93D8-F0AC398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EB4-D117-4AE2-AAAE-34BA211B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E99-0CC1-4459-BC9C-154B95A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B4BD-7E87-4750-B118-C52BB01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1E50-DA85-43F7-8BB1-EA38D734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C061-2078-438D-B074-CA0A125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AAAF-344E-478B-AA1E-7B957B0C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FA3-0C07-4A5D-B724-799AF750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1B9-716A-49A8-BF58-1346F63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978-ABDF-4BF7-9DA5-82B3D8D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943-8792-495D-8324-634DFC6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9FE-4C70-4A5E-A6C5-A9DA5A4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FDA-EE57-4402-8308-5A09931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98C-3BB4-4C9F-8948-4B566DD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979-43FA-45D0-8EF8-50C5FB17D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12C7-210C-42B7-A9AF-7B9DC4C5C7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276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ame or different from last year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Dell_Laptop</cp:lastModifiedBy>
  <dcterms:modified xsi:type="dcterms:W3CDTF">2010-09-01T12:31:33Z</dcterms:modified>
  <cp:revision>11</cp:revision>
  <dc:subject/>
  <dc:title>Starpoint PD Science</dc:title>
</cp:coreProperties>
</file>