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655-F8DC-4B4C-97EF-7A2A79BB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6D0F-E460-4F2E-9856-E41DC464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E9A-773D-4028-ACBD-CC39299D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9415-5887-46FD-8BAA-CFDAE5E4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A073-AF89-41E2-A3E7-6684E2B2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BA92-619A-4168-926C-56FC801B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8CBD-8F5D-43C7-857B-3C96D8AC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67F3-D365-43CE-8879-91CDDE6E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F2C6-4171-4E2F-82A1-EDC1AF31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B667-B6FB-4723-82CC-97C6DCEC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A8D7-3693-4AE6-8C13-43DD9827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70A1-E1F8-4B73-99BE-0CADBE90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213D-F172-4DEE-A65D-A68B9B64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0575-F8CF-413A-A4DC-C42F98F3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34AB-5A73-470B-9B30-2B5F3665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102B-602B-47A8-99D3-7FAA1DB9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6201-8C35-42A8-B3C4-620133EA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332A-A165-4C7B-9978-374E262B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8AF-4ECC-46A9-9B1F-4640B385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287E-F16C-4CAF-BE79-26B5705D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703-D9ED-427D-BED0-ED36E80A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631-5BF3-4B3C-BB4B-38CD11BA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C5F-E2D9-498E-B7CD-3EE242D4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988-0DCE-4DC9-9E05-33E15112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4CBA-C3F7-460C-9824-9AF2FECB8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8B36-B0B2-4E0D-BFF2-0E162BFE45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tarpoint H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33520" y="327672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ame or different from last year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nual Improvement Pl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course should create a STATISTICAL goal for their “high stakes” assessment and what skills/PIs they are going to attempt to improve this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Dell_Laptop</cp:lastModifiedBy>
  <dcterms:modified xsi:type="dcterms:W3CDTF">2010-09-01T12:31:33Z</dcterms:modified>
  <cp:revision>11</cp:revision>
  <dc:subject/>
  <dc:title>Starpoint PD Science</dc:title>
</cp:coreProperties>
</file>