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169-5E58-42B6-BB1B-F236105A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0A9-A313-4087-A7D6-D89C2F48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FFF-C38A-43AF-AF34-6F158FC4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777-9016-439F-A092-68B17652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907E-2B30-4B14-A0AA-4A9370C3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F256-2209-497E-9F4C-43372266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6059-8616-4A5A-A68B-50AE6F27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90D5-33D4-4BB2-91BC-7E892C10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1793-22A6-4539-B8AC-E261C7BD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BC63-EA03-462A-A5F1-A968ADDC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6E61-BB65-4B24-925E-E9943BD0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684-0C50-4DC5-AC02-0D71EDE0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14CE-EC9E-41E7-8808-4DA21B82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A616-6A2D-490A-A517-7E877D35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5905-21B0-4543-991C-0018A8B5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A8D3-D31E-48E5-AFAD-831E764F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8F5F-D919-4816-8EBF-DA12B9D8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2FD-151A-45BE-B9BA-980FCBBD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8B7-F0F7-4355-A5E6-07550FA6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E90-74A9-49A6-A1AD-D8D5A5F5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CCC-B08D-466B-BED9-D1BE5B8C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F91-D8BA-4555-9319-F9E68386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1C0-5763-41E8-A2D6-891D53A7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6DE-E011-4097-B467-07100BDE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E10B-B124-4DD2-B2C8-ABAC848D5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427D-957E-4D56-A5AA-43E18D44F2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tarpoint H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3520" y="327672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ame or different from last year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nual Improvement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ourse should create a STATISTICAL goal for their “high stakes” assessment and what skills/PIs they are going to attempt to improve this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Dell_Laptop</cp:lastModifiedBy>
  <dcterms:modified xsi:type="dcterms:W3CDTF">2010-09-01T12:31:33Z</dcterms:modified>
  <cp:revision>11</cp:revision>
  <dc:subject/>
  <dc:title>Starpoint PD Science</dc:title>
</cp:coreProperties>
</file>