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2AF-C691-4B81-9B79-4EFB5F78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2E7-A6E4-4344-AE77-6B5BC42D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1E5-6C24-4484-BAFC-F7B743DE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95F-3BE2-4ACF-9CAA-0C450F3E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93DC-C404-493A-A180-D54C5A00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AD2D-0A3E-449A-BFCB-AA4EB45E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93EE-8918-4873-85DF-238A97A0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5310-3093-4B7D-AFD4-CA6F6E8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6C7B-D5C9-4641-BFE9-6A4B741C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371C-5F4B-4C73-88B2-4FEA34FE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A317-7AF5-4F66-88E5-6550A7C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0BE-842E-442D-822D-268F523F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F399-5B4B-4AD1-BC80-E025B8F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6137-B3F8-4D7D-ACDD-A8343E16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CC38-896B-4555-B325-3034476E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5131-76AA-49F7-B54E-6F81A526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5F6-76F9-4907-9242-1700188A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472-9FB0-45F3-B537-9678C84A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9F9-6364-4217-B14E-CEBAA9B6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14F-7321-473B-9FD0-2E495E11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F1F-27A8-4B5A-B374-96E0520E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091-CC77-4696-AB71-681FB15D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624-8500-4BB1-ADB6-F358DCE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852-F14F-42C8-A515-EAF7996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C885-DCDF-4C91-9241-5F1C1CFAE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0FE3-4A6E-4DF9-A86F-6A9B21180A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276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ame or different from last year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Dell_Laptop</cp:lastModifiedBy>
  <dcterms:modified xsi:type="dcterms:W3CDTF">2010-09-01T12:31:33Z</dcterms:modified>
  <cp:revision>11</cp:revision>
  <dc:subject/>
  <dc:title>Starpoint PD Science</dc:title>
</cp:coreProperties>
</file>