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F34-D2FE-47F2-A4B8-E8A77C6E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320-2487-4562-9B18-E69265A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60C-1E3E-49C5-B896-23CD8880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965-977F-4B7E-A9EF-092AFCE5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25D-6316-4B59-B980-EE4D333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D08-9E0A-478A-92B6-DCB822A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1EE-6D84-40A9-B3EA-6EF9DF4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AFF5-1262-49E0-9E1B-7536B35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ECED-CA13-4A1D-9C8B-AC5B540A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44A-846F-440E-9E23-E69ADDB7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8585-E743-420F-A875-4A2D437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D8C-0F62-44CC-A601-D1A62323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81B-9623-41EC-AAEF-77BBA92D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D42-AC48-4AFC-BF7C-04EF85B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9CE-E83F-4F21-AFAA-2D1BDBC0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FEF9-3219-477F-A258-3BBE3953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E0DA-5760-4366-9736-93199B82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450-CDBA-467D-9F44-D4EB15A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EF-0472-4998-95BC-B63347CE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4AB-E37D-4A07-A781-E615948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383-BB77-411C-82D1-8092DA66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3E9-66CE-4257-82A7-E21D363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364-9B38-4D4B-A21E-D49BA2D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152-C06C-4FFD-ACE5-8E1E2E9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389E-1F3E-4846-81CF-FB91689320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5A96-D5A5-4CF2-94F9-C772316E49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uilding Common Mid-Term Assessmen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for the H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nd implement common mid-term assessments by January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for Regents Level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ic Regents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use old Regents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be collaboratively sco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 Nov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Gil Lic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to Make Sure They Are Aligned to Analyze Data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data and deconstruction as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’s/MU’s to focus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s and Trends (Power PI’s)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dd other PI’s/MU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ze Assessment Alignment – will help with alignment and analysis for scoring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: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09Z</dcterms:modified>
  <cp:revision>9</cp:revision>
  <dc:subject/>
  <dc:title>Starpoint PD Science</dc:title>
</cp:coreProperties>
</file>