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944-0748-47C3-BACA-32FFB97C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1FA-CF19-4523-839F-07A0F10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DD3-76CE-4540-B728-1D0C7174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0E4-DE88-4184-9BE6-A3A00AE1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9805-1A34-4409-B2CE-59D55BBD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D933-9150-4748-8A15-98C9A2B5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A69-CB89-4AB0-B50F-B388635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D58F-A2E9-46F5-AA0D-C62FEDDF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CFAC-4919-4559-AC08-B2D9A0CC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3066-6983-43E9-8F5A-DA18A6F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54A0-868D-4765-8AAA-DBCAFE8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8FA-7F40-426D-B40D-38EE6543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7D95-003E-47FC-91E4-4EF7F265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7DFD-C05E-415D-8694-66B908A2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E6F3-0B73-496A-BED3-FB940DDA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8626-A06F-4486-A855-2D032556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14D6-306B-4D6F-AFC4-07405BBA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9C0-C71E-42F3-9698-03F751A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CBD-235A-4EAE-889C-BFB8BB51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5CF-217D-4098-ADBF-E6471616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F11-4CB6-457B-8CCC-6CEA8FAA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DAA-7C41-460A-B036-42EEE0B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388-6CA7-4EB2-A147-22D8F618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1D2-6C19-4935-8138-0B4E454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99DD-C370-46C4-9476-0B451A6E23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3CB0-A737-416E-AD6A-3E1D1794A2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Building Common Mid-Term Assessmen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for the H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nd implement common mid-term assessments by January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for Regents Level Cour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mic Regents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use old Regents Ques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be collaboratively sco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e Nov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Gil Lic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ow to Make Sure They Are Aligned to Analyze Data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data and deconstruction as gu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’s/MU’s to focus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ps and Trends (Power PI’s)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add other PI’s/MU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815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ilize Assessment Alignment – will help with alignment and analysis for scoring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: 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8-26T18:07:09Z</dcterms:modified>
  <cp:revision>9</cp:revision>
  <dc:subject/>
  <dc:title>Starpoint PD Science</dc:title>
</cp:coreProperties>
</file>