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9A36-9284-4818-8C6C-8A93E1B5F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41FB-8D7D-4607-989C-D5C917D7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759A-D5E2-4701-96C8-00766A8B4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014B-69CF-418E-A948-3727742DA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C1E2-40CE-41ED-AEDC-426933689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5058-B435-49F8-96FB-E7A4DE51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93DF-F1F0-4A40-BDF9-CCC3337C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93B0-5C47-4599-87EC-65088A0C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C65C-8213-4D7C-8C35-A48B487B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7BAD-FD90-4E8F-AC78-2045336B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EDC1-6C62-4B7E-8B8D-EDDDABD0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A041-54F2-4557-9C09-AC3CB2EA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AC3F-C8E1-4B51-A1B1-D7AB73C6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5FD6-FC12-46DC-8D92-54E9DD37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94F3-1AFB-4E4E-8060-1344A7B3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117B-DCAE-42BC-84D5-5AB761AB2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5856-52D5-48A7-89B9-87FEA74DF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1D1D-6287-46F3-8794-2248BBA6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E53D-43B1-45A8-8D1E-FB904F74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EC39-DFD3-420E-9D0F-29810BD5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0932-6B76-4847-8809-35AD21A1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2297-2949-422F-BDCD-52622074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BE26-5F1E-46A7-B1DA-5D24FB37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E994-F035-481F-9A27-19D4E88B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FF9D-CA7F-4061-BEA5-7D116434550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2078-62F0-4555-A130-C783065F6EB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onicabd.wikispaces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tarpoint HS PD</a:t>
            </a:r>
            <a:br>
              <a:rPr sz="7200"/>
            </a:b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cience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4792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Welcome Back!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Icebreaker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ince We Last Met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-185760">
              <a:spcBef>
                <a:spcPts val="1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ince we last met, life has been like what book, movie or song title?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ake 2 minutes to think and write on note-car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plain why this choice captures your experiences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Warm-Up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the Power PI’s in your content are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? 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38098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your students’ biggest g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do they struggle the mo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s Perception Reality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Power PI’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 over time?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36576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your students’ biggest g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4956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oritize top 3-5 improvement points based on gaps in trended (power PI) areas firs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construct Top 3 Gap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1905120" y="4343400"/>
            <a:ext cx="5105160" cy="1523880"/>
          </a:xfrm>
          <a:custGeom>
            <a:avLst/>
            <a:gdLst>
              <a:gd name="textAreaLeft" fmla="*/ 893160 w 5105160"/>
              <a:gd name="textAreaRight" fmla="*/ 3701160 w 5105160"/>
              <a:gd name="textAreaTop" fmla="*/ 204120 h 1523880"/>
              <a:gd name="textAreaBottom" fmla="*/ 13197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3048120"/>
            <a:ext cx="39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Create Annual Improvement Go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nnual Improvement Pla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course should create a STATISTICAL goal for their “high stakes” assessment and what skills/PIs they are going to attempt to improve this y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Building Common Mid-Term Assessment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al for the H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 and implement common mid-term assessments by January 20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ly for Regents Level Cour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mic Regents Ex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y to use old Regents Ques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ll be collaboratively sco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e Nov.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o Gil Lic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How to Make Sure They Are Aligned to Analyze Data…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data and deconstruction as gu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’s/MU’s to focus 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ps and Trends (Power PI’s) FIR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n add other PI’s/MU’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4038480"/>
            <a:ext cx="81536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tilize Assessment Alignment – will help with alignment and analysis for scoring gu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ources: 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WI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7:55:30Z</dcterms:created>
  <dc:creator>Monica Burgio Daigler</dc:creator>
  <dc:description/>
  <dc:language>en-US</dc:language>
  <cp:lastModifiedBy>Monica Burgio Daigler</cp:lastModifiedBy>
  <dcterms:modified xsi:type="dcterms:W3CDTF">2009-08-26T18:07:09Z</dcterms:modified>
  <cp:revision>9</cp:revision>
  <dc:subject/>
  <dc:title>Starpoint PD Science</dc:title>
</cp:coreProperties>
</file>