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101-AF90-4B5D-AAF1-4C7DF854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C6F-3E3A-4EAA-B5E8-E162E419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524-0B84-4374-A20B-3C9FF016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FB8C-32A7-4F2E-9007-F740BB51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6AE4-7181-4C1E-A755-B1AFDDF2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FCDF-DDEE-47BC-99FE-2DF572E0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F15D-E934-4BAC-B4E5-F7B0ACB3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A82E-D7E6-4876-998D-96B9FC94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644B-C509-44DA-8B40-8E90B368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3AAF-9D6F-4EB5-AB6F-7F3F0D08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2433-7FBA-41EC-BF56-8A57B216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4E4-ADE3-4BE7-8DB3-1B8ABB09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A357-AA35-4E1D-A7B4-96CEC9CE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2A53-A88A-453A-8C17-D51785DB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37F3-8926-4713-BAA0-DEF79198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B3C3-8F25-4BAE-BE16-99C1FF63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247F-90F3-43D4-9A00-687E8324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3F21-FFE8-4F82-86E4-901EA514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B44-71CB-4811-BDAF-B8A19492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4B3-4822-4FC6-9F3F-EE41AC91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0C5-FA82-4F3B-94B8-017889E5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6E2-6A73-48E3-A743-57073A86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153-37DE-4ECE-8742-DB1B32B6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3D4D-B155-4F3A-AF31-6AC6CA8B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CC8C-CA83-4E37-AF10-57FB5015469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96B2-F8F5-4663-A661-A4592AEDF2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onicabd.wikispace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tarpoint H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nual Improvement Pl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course should create a STATISTICAL goal for their “high stakes” assessment and what skills/PIs they are going to attempt to improve this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Building Common Mid-Term Assessment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 for the H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nd implement common mid-term assessments by January 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for Regents Level Cour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mic Regents Ex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 to use old Regents Ques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ll be collaboratively sco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e Nov.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Gil Lic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How to Make Sure They Are Aligned to Analyze Data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data and deconstruction as gu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’s/MU’s to focus 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ps and Trends (Power PI’s) FIR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add other PI’s/MU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4038480"/>
            <a:ext cx="8153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tilize Assessment Alignment – will help with alignment and analysis for scoring gu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: 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08-26T18:07:09Z</dcterms:modified>
  <cp:revision>9</cp:revision>
  <dc:subject/>
  <dc:title>Starpoint PD Science</dc:title>
</cp:coreProperties>
</file>