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1C12-4AA0-412F-B773-0FCF5923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7FEA-D289-49C9-96B1-42599856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C962-5A2D-4354-B7A1-9FE4AB47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24AC-81B4-402D-BA0B-3D77C58E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4286-C765-4AAB-81E7-4259ED3E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7FD3-C99D-4C9E-B4DC-CE28737E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F337-6091-4D15-B817-513158B6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DF59-FDF1-4F20-B98A-2E34DEEC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B933-89B8-4497-8E50-4BA564D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2109-2321-4385-AC95-F79354B8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81CF-4E2D-407D-B590-4D203539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C227-D5A5-47B9-A2DD-9F22F4CE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8500-CDA8-4516-A7A7-7D2D263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17F5-DAB0-4ED7-AC54-3A932686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BB4E-CD72-4060-A9C7-AE11E1F5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E5A8-64E2-404B-99DF-F317EA82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B03B-8133-46C6-8391-AB7C6D95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B728-CBFE-476F-A1FF-A3DDC233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C94D-6AD6-453C-ACCB-1A502265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49DB-E280-4254-A88C-5103F16C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09CA-C3D6-48FE-BDC7-E1CDCBCA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C303-4264-4AD6-B5AA-F5ECC97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7D8E-100A-4DB2-A11B-23E0DE48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5578-5F64-4370-AF9E-561FBA9E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E189-47A5-4A6B-B40A-8507B61643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A51-53FC-4708-9BB9-EFA559732E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tarpoint Music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bf25a"/>
                </a:solidFill>
                <a:latin typeface="Tahoma"/>
              </a:rPr>
              <a:t>Secure the Learning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w let’s take the concepts from the map and see where learning is introduced, developed, secured and extend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will create benchmarks around SECURED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cc"/>
                </a:solidFill>
                <a:latin typeface="Tahoma"/>
              </a:rPr>
              <a:t>Introductions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a pi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how the picture relates to how you feel about curriculum and curriculum mapp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Goal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733920"/>
            <a:ext cx="3505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 though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urrent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Macro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cc"/>
                </a:solidFill>
                <a:latin typeface="Tahoma"/>
              </a:rPr>
              <a:t>Mission Statement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all Musi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-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-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are you now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rriculum maps (on computer) for what you are CURRENTLY tea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12408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505320"/>
            <a:ext cx="5029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Music K-12, Band 4-12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rus 3-12, Orchestra 4-12, Strings 4-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28600" y="1676520"/>
          <a:ext cx="8610120" cy="4529520"/>
        </p:xfrm>
        <a:graphic>
          <a:graphicData uri="http://schemas.openxmlformats.org/drawingml/2006/table">
            <a:tbl>
              <a:tblPr/>
              <a:tblGrid>
                <a:gridCol w="1721880"/>
                <a:gridCol w="1722240"/>
                <a:gridCol w="1722240"/>
                <a:gridCol w="1721880"/>
                <a:gridCol w="1721880"/>
              </a:tblGrid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ess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abu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and 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676520" y="83808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304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it/Concep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(Nouns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43200" y="228600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37339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rb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1430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81280" y="533520"/>
            <a:ext cx="26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ubrics, Tests, Perform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48520" y="2133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00600" y="35053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ms,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05720" y="5335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 Curriculum Gui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6400440" y="40384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Let’s Put on Master Documen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8001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nce the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Mission Statemen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is in hand, the existing K-12 curriculum needs to be reviewed to determine which parts of the program  address the mission statement and learning standards.  Map out the program areas that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re not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consistent with the mi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25a"/>
                </a:solidFill>
                <a:latin typeface="Tahoma"/>
              </a:rPr>
              <a:t>The Gap Analy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the task of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iculum mapp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s completed, identify any content that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 being taught but should be tau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f25a"/>
                </a:solidFill>
                <a:latin typeface="Tahoma"/>
              </a:rPr>
              <a:t>Unneeded Repetition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re there any areas where there are repetitions that are unneed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0:42Z</dcterms:created>
  <dc:creator>Monica Daigler</dc:creator>
  <dc:description/>
  <dc:language>en-US</dc:language>
  <cp:lastModifiedBy>Monica Daigler</cp:lastModifiedBy>
  <dcterms:modified xsi:type="dcterms:W3CDTF">2009-03-04T14:08:54Z</dcterms:modified>
  <cp:revision>8</cp:revision>
  <dc:subject/>
  <dc:title>Starpoint Music</dc:title>
</cp:coreProperties>
</file>