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F2F17-3140-4401-8856-7FC71D6E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0059-C8E9-484C-AB5C-893E2AF4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B7EF-A25D-401A-9C8F-1BCBC089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CBC1-8C24-4A1F-8FEE-87FDB53E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221F-4C5E-433E-98E1-97AF69DA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D5C3-F7A3-4A7B-BBB4-608E90CA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9BEE-0081-485A-9DDC-066D4D53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99A7-CD9F-4633-964B-B7A10B39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BC14-763B-49B1-9C4C-828DE506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8618-E49A-468F-AB21-EC54F912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1D35-91C7-4F42-91E8-F6E96517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2614-7644-4F78-BE8B-DD298BE8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314F-A263-4A0D-8F30-733B0318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54B7-C10D-442E-8684-BDEDF8C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698B-CCD8-4F8E-B26C-29685D27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409C-45E9-4671-B5DD-25C56369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332C-ADAA-4CA1-B134-2DF83AF5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DDD0-B4EE-44F1-8911-C1680961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82E6-630E-44F9-8DDF-0F625D5C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01263-80CF-4353-93E7-BD922F1E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8B91F-3897-4773-958D-9835909B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ECE1-65D5-4719-8333-78DBFBC7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46507-3432-4A33-9FDC-0F7CC59D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528E1-4550-4371-8426-82974330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D16C-C78C-418D-9EE1-A02D76769B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5327-4055-45AD-A272-65C555DEB03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tarpoint Music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ebf25a"/>
                </a:solidFill>
                <a:latin typeface="Tahoma"/>
              </a:rPr>
              <a:t>Secure the Learning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w let’s take the concepts from the map and see where learning is introduced, developed, secured and extend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 will create benchmarks around SECURED learn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cc"/>
                </a:solidFill>
                <a:latin typeface="Tahoma"/>
              </a:rPr>
              <a:t>Introductions</a:t>
            </a:r>
            <a:endParaRPr b="0" lang="en-US" sz="7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k a pi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ribe how the picture relates to how you feel about curriculum and curriculum mapp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Your Goals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3733920"/>
            <a:ext cx="35053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 thought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Current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Macro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Bench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cc"/>
                </a:solidFill>
                <a:latin typeface="Tahoma"/>
              </a:rPr>
              <a:t>Mission Statement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verall Musi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-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-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-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9-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ere are you now?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curriculum maps (on computer) for what you are CURRENTLY teach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124080"/>
            <a:ext cx="990360" cy="2590920"/>
          </a:xfrm>
          <a:custGeom>
            <a:avLst/>
            <a:gdLst>
              <a:gd name="textAreaLeft" fmla="*/ 0 w 990360"/>
              <a:gd name="textAreaRight" fmla="*/ 357480 w 9903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3505320"/>
            <a:ext cx="5029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l Music K-12, Band 4-12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orus 3-12, Orchestra 4-12, Strings 4-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28600" y="1676520"/>
          <a:ext cx="8610120" cy="4529520"/>
        </p:xfrm>
        <a:graphic>
          <a:graphicData uri="http://schemas.openxmlformats.org/drawingml/2006/table">
            <a:tbl>
              <a:tblPr/>
              <a:tblGrid>
                <a:gridCol w="1721880"/>
                <a:gridCol w="1722240"/>
                <a:gridCol w="1722240"/>
                <a:gridCol w="1721880"/>
                <a:gridCol w="1721880"/>
              </a:tblGrid>
              <a:tr h="94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ki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sess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abul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and 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676520" y="83808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304920"/>
            <a:ext cx="3047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nit/Concept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Nouns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43200" y="2286000"/>
            <a:ext cx="763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37339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erb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11430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81280" y="533520"/>
            <a:ext cx="2667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ubrics, Tests, Performanc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248520" y="213372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800600" y="35053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rms, Wor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7772400" y="1143000"/>
            <a:ext cx="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705720" y="533520"/>
            <a:ext cx="2133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 Curriculum Guid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 rot="5400000">
            <a:off x="6400440" y="4038480"/>
            <a:ext cx="3352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s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Let’s Put on Master Document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71600"/>
            <a:ext cx="800100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Once the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Mission Statement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is in hand, the existing K-12 curriculum needs to be reviewed to determine which parts of the program  address the mission statement and learning standards.  Map out the program areas that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re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and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re not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consistent with the mis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25a"/>
                </a:solidFill>
                <a:latin typeface="Tahoma"/>
              </a:rPr>
              <a:t>The Gap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ce the task of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urriculum mapping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s completed, identify any content that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not being taught but should be tau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f25a"/>
                </a:solidFill>
                <a:latin typeface="Tahoma"/>
              </a:rPr>
              <a:t>Unneeded Repetitions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re there any areas where there are repetitions that are unneed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50:42Z</dcterms:created>
  <dc:creator>Monica Daigler</dc:creator>
  <dc:description/>
  <dc:language>en-US</dc:language>
  <cp:lastModifiedBy>Monica Daigler</cp:lastModifiedBy>
  <dcterms:modified xsi:type="dcterms:W3CDTF">2009-03-04T14:08:54Z</dcterms:modified>
  <cp:revision>8</cp:revision>
  <dc:subject/>
  <dc:title>Starpoint Music</dc:title>
</cp:coreProperties>
</file>