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A472E-3FAC-4960-AD61-499B52D5F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DEF99-4077-457B-9B20-6DDBDB224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0E7B7-BAE4-4EEC-9053-169654BC0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78068-338B-4550-9D2C-15B692CB4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38183-F0E7-4651-822C-9CAB4E4A3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57F5E-55C1-4405-9CBC-E562CFF27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313F9-5341-4F05-89A8-B9BD4F7BB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FA7FF-1EDF-43CC-ADAE-EDB73702D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20856-1ABC-49A5-AAC6-674D78932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A7523-6F49-4C2E-A15A-C7FFA9D17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FB586-F05A-48AB-9870-3927BB573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B3DA2-9458-488D-80E5-354F125A1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2A4C1-253E-4B2C-986B-454BE0A7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D4EEE-99CF-436F-8D96-1BEDE78A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9EFB0-3E87-4605-AC37-5A216A6DF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43E17-FD28-4832-9CD7-C748331C1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EC194-51AD-4198-BB2D-708709742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9F867-EE04-4932-80A0-1A7CCCAD0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C4767-7050-47A1-B928-767EEC995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5C736-D3A0-4AF2-8E7B-E5A05BE36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FEE61-C58D-45ED-8FED-AE89FF5D2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F1986-1A4A-45C2-884F-6FBB7282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D4A56-7C9E-4E88-8ACF-E84CB6C1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CC1EB-B897-433C-8D5D-DB658D0B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61782-C14B-49E4-9BBD-463A162732F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5A76A-6842-4334-B253-4B5E109E460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Starpoint Music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ebf25a"/>
                </a:solidFill>
                <a:latin typeface="Tahoma"/>
              </a:rPr>
              <a:t>Secure the Learning</a:t>
            </a:r>
            <a:endParaRPr b="0" lang="en-US" sz="4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ow let’s take the concepts from the map and see where learning is introduced, developed, secured and extende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e will create benchmarks around SECURED learnin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ffffcc"/>
                </a:solidFill>
                <a:latin typeface="Tahoma"/>
              </a:rPr>
              <a:t>Introductions</a:t>
            </a:r>
            <a:endParaRPr b="0" lang="en-US" sz="7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ick a pictu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scribe how the picture relates to how you feel about curriculum and curriculum mapp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Your Goals…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2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3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2895480" y="3733920"/>
            <a:ext cx="350532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y thoughts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f25a"/>
                </a:solidFill>
                <a:latin typeface="Tahoma"/>
              </a:rPr>
              <a:t>Current Ma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f25a"/>
                </a:solidFill>
                <a:latin typeface="Tahoma"/>
              </a:rPr>
              <a:t>Macro 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f25a"/>
                </a:solidFill>
                <a:latin typeface="Tahoma"/>
              </a:rPr>
              <a:t>Benchma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cc"/>
                </a:solidFill>
                <a:latin typeface="Tahoma"/>
              </a:rPr>
              <a:t>Mission Statement</a:t>
            </a:r>
            <a:endParaRPr b="0" lang="en-US" sz="5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Overall Music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-2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3-5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6-8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9-12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Where are you now?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eate curriculum maps (on computer) for what you are CURRENTLY teaching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-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-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-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-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-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1905120" y="3124080"/>
            <a:ext cx="990360" cy="2590920"/>
          </a:xfrm>
          <a:custGeom>
            <a:avLst/>
            <a:gdLst>
              <a:gd name="textAreaLeft" fmla="*/ 0 w 990360"/>
              <a:gd name="textAreaRight" fmla="*/ 357480 w 99036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00400" y="3505320"/>
            <a:ext cx="5029200" cy="1752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neral Music K-12, Band 4-12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horus 3-12, Orchestra 4-12, Strings 4-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228600" y="1676520"/>
          <a:ext cx="8610120" cy="4529520"/>
        </p:xfrm>
        <a:graphic>
          <a:graphicData uri="http://schemas.openxmlformats.org/drawingml/2006/table">
            <a:tbl>
              <a:tblPr/>
              <a:tblGrid>
                <a:gridCol w="1721880"/>
                <a:gridCol w="1722240"/>
                <a:gridCol w="1722240"/>
                <a:gridCol w="1721880"/>
                <a:gridCol w="1721880"/>
              </a:tblGrid>
              <a:tr h="94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nt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kill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ssessm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cabular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andard and P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1676520" y="838080"/>
            <a:ext cx="0" cy="1219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304920"/>
            <a:ext cx="30477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Unit/Concepts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(Nouns)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743200" y="2286000"/>
            <a:ext cx="76320" cy="1371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3733920"/>
            <a:ext cx="2666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Verb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" name=""/>
          <p:cNvSpPr/>
          <p:nvPr/>
        </p:nvSpPr>
        <p:spPr>
          <a:xfrm>
            <a:off x="4800600" y="1143000"/>
            <a:ext cx="0" cy="99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581280" y="533520"/>
            <a:ext cx="26672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Rubrics, Tests, Performanc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248520" y="2133720"/>
            <a:ext cx="0" cy="1295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800600" y="3505320"/>
            <a:ext cx="2666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erms, Word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"/>
          <p:cNvSpPr/>
          <p:nvPr/>
        </p:nvSpPr>
        <p:spPr>
          <a:xfrm>
            <a:off x="7772400" y="1143000"/>
            <a:ext cx="0" cy="1523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705720" y="533520"/>
            <a:ext cx="21333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Use Curriculum Guid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" name=""/>
          <p:cNvSpPr txBox="1"/>
          <p:nvPr/>
        </p:nvSpPr>
        <p:spPr>
          <a:xfrm rot="5400000">
            <a:off x="6400440" y="4038480"/>
            <a:ext cx="335268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Last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Tahoma"/>
              </a:rPr>
              <a:t>Let’s Put on Master Document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1371600"/>
            <a:ext cx="8001000" cy="59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Once the </a:t>
            </a:r>
            <a:r>
              <a:rPr b="0" i="1" lang="en-US" sz="3600" spc="-1" strike="noStrike">
                <a:solidFill>
                  <a:srgbClr val="ffff00"/>
                </a:solidFill>
                <a:latin typeface="Tahoma"/>
              </a:rPr>
              <a:t>Mission Statement</a:t>
            </a: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 is in hand, the existing K-12 curriculum needs to be reviewed to determine which parts of the program  address the mission statement and learning standards.  Map out the program areas that </a:t>
            </a:r>
            <a:r>
              <a:rPr b="0" i="1" lang="en-US" sz="3600" spc="-1" strike="noStrike">
                <a:solidFill>
                  <a:srgbClr val="ffff00"/>
                </a:solidFill>
                <a:latin typeface="Tahoma"/>
              </a:rPr>
              <a:t>are</a:t>
            </a: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 and </a:t>
            </a:r>
            <a:r>
              <a:rPr b="0" i="1" lang="en-US" sz="3600" spc="-1" strike="noStrike">
                <a:solidFill>
                  <a:srgbClr val="ffff00"/>
                </a:solidFill>
                <a:latin typeface="Tahoma"/>
              </a:rPr>
              <a:t>are not</a:t>
            </a: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 consistent with the miss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f25a"/>
                </a:solidFill>
                <a:latin typeface="Tahoma"/>
              </a:rPr>
              <a:t>The Gap Analysi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Once the task of </a:t>
            </a: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curriculum mapping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is completed, identify any content that is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not being taught but should be taugh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bf25a"/>
                </a:solidFill>
                <a:latin typeface="Tahoma"/>
              </a:rPr>
              <a:t>Unneeded Repetitions</a:t>
            </a:r>
            <a:endParaRPr b="0" lang="en-US" sz="5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Are there any areas where there are repetitions that are unneeded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5:50:42Z</dcterms:created>
  <dc:creator>Monica Daigler</dc:creator>
  <dc:description/>
  <dc:language>en-US</dc:language>
  <cp:lastModifiedBy>Monica Daigler</cp:lastModifiedBy>
  <dcterms:modified xsi:type="dcterms:W3CDTF">2009-03-04T14:08:54Z</dcterms:modified>
  <cp:revision>8</cp:revision>
  <dc:subject/>
  <dc:title>Starpoint Music</dc:title>
</cp:coreProperties>
</file>