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4B0-7F09-4AAC-A055-3CF40AF1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F0F0-F555-426C-8671-53B94784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CD6-0EBB-4C2E-A48E-B60F1B09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DE5-8369-4BE1-8AA0-1BD16569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CC35-DCB3-46AB-8FAE-C9E70AB2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6F33-DAAE-4F67-B7FC-348E33CE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C077-C28A-47ED-94AB-A82EB357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AB42-A02A-42C8-828F-DA1E72B6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BDCF-8A01-4E65-8EFC-20A7EDD6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767F-84EB-4B88-8CBE-F75D2FF2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9FD9-C9A1-4713-B177-76950A66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46C-B272-4052-894B-DF4BDB6B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E291-BAB0-4775-B9A3-3AE34280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5BBD-B581-4C75-9EDF-50E58AD3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6664-A4C1-4748-AFE6-002B24AC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3A20-7A6B-4BEF-A98B-61F79B31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03C6-D80F-4394-A823-9AD5AF66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E8E-3A1E-4BD9-A9B6-CBC32C97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B990-1221-49CC-BB37-A075AD5C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8CB-200D-423E-82E5-0CC1A377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3E0-DCAF-459B-BE22-A23A58D0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ED4-14F1-4C5D-A529-449E63EF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2AB-5906-4C8C-84E9-5BC8C703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0B3-1F2B-4225-A35D-5C6C53BB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6992-5A8C-4FB9-B4A5-DF1D2AAFD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1963-CD52-45AD-9B1E-97EA7E955F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tarpoint H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3520" y="327672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ame or different from last year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nual Improvement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ourse should create a STATISTICAL goal for their “high stakes” assessment and what skills/PIs they are going to attempt to improve this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Dell_Laptop</cp:lastModifiedBy>
  <dcterms:modified xsi:type="dcterms:W3CDTF">2010-09-01T12:31:33Z</dcterms:modified>
  <cp:revision>11</cp:revision>
  <dc:subject/>
  <dc:title>Starpoint PD Science</dc:title>
</cp:coreProperties>
</file>