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2E3-5BF3-487C-AB56-642B1D73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549-FB39-46CD-9DBC-75F08EBE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C975-C83A-4618-85A0-E9372A09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7AF-9C26-454E-B015-837B76CD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E2DA-C9D8-4ED6-9523-7E78B9B8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B22D-3561-4ADF-9D8E-A3C90356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31CF-FDB2-4E4C-B7D2-8F29B7CC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4B9E-328E-4434-B90C-782AC53E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8C94-65B5-4539-BC98-726911F8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2018-912F-4673-8C9E-542D385E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3E52-743B-4B4B-944E-7B1AF82E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577-C7A7-480D-8D6C-77EB2FEC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70F0-7FC3-4B2D-98BE-5AED405A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1E9B-52D1-46C2-837F-50C12222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DFB2-F3FC-45BA-98EF-A51497C1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86AB-69DA-4FF7-9789-255EFE7C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E947-F4D7-4940-A899-0DDF4A97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3FB-1A0D-4B08-A8C4-42AE2FD0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2704-473A-4F78-8A61-8A1BC898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2B0-A5AA-474C-85E6-5E95860E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9F8-D0CB-4E29-B5AA-0F71FF34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C48-0975-4562-8E55-CB191C0B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4E3-F8D5-44F6-9269-CAD3A067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76D-2F91-4CE9-820A-85902CA1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D97F-930D-4FFD-BA5D-65C69B099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3106-E657-41B5-A066-3F6E10AE7A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tarpoint H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3520" y="327672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ame or different from last year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nual Improvement Pl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ourse should create a STATISTICAL goal for their “high stakes” assessment and what skills/PIs they are going to attempt to improve this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Dell_Laptop</cp:lastModifiedBy>
  <dcterms:modified xsi:type="dcterms:W3CDTF">2010-09-01T12:31:33Z</dcterms:modified>
  <cp:revision>11</cp:revision>
  <dc:subject/>
  <dc:title>Starpoint PD Science</dc:title>
</cp:coreProperties>
</file>