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93191-4E7B-4155-9E80-FDD8CB22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524DC-A447-4FF4-B4A0-607E911B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CA1E4-ECD4-42E0-AD30-ACA20505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E7F96-2B8A-4259-AEDE-31DFE658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692D-1441-4642-962A-85971546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D1BB-C93B-440E-AA2F-3BA5D1E1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99F3-2140-4B08-BAB4-D6D91F14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0BA6-A2B3-4CE7-A8CF-8D11095E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F855-C150-4F86-8343-65032D91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77CE-4B0E-40E4-81DD-30C612D7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598A-3E44-45B6-A13B-3CBD7F7D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2561-6883-42A2-833C-E6283720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00C7-66AE-43A7-9CCD-8F5B05B2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9353-CBD2-4BA7-B708-917A061C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A6B0-CA1A-49D4-915E-055EE12D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DD61-A254-404F-9C34-CAC2DD26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EA60-E4A7-4BE6-BF55-A3D39133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5F0FD-2EBF-4768-A80F-3437D8D0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61F04-BFBB-4521-A519-30822C32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AA6B-2D89-4677-834E-A0BE904F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F4EB-CD92-46B7-8FD1-BB50E9A1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51D66-B4BA-429B-B43C-AFEBB178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9FFA9-E757-46BA-93B3-C51BCAC1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6DB4-FA45-468B-A29C-5CDCFAB6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CE47-B881-451C-93FE-F95311EAB19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B8F4-9CC1-4081-94B0-08A61467E6C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tarpoint Music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ebf25a"/>
                </a:solidFill>
                <a:latin typeface="Tahoma"/>
              </a:rPr>
              <a:t>Secure the Learning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w let’s take the concepts from the map and see where learning is introduced, developed, secured and extend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 will create benchmarks around SECURED learn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cc"/>
                </a:solidFill>
                <a:latin typeface="Tahoma"/>
              </a:rPr>
              <a:t>Introductions</a:t>
            </a:r>
            <a:endParaRPr b="0" lang="en-US" sz="7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k a pi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ribe how the picture relates to how you feel about curriculum and curriculum mapp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Your Goals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3733920"/>
            <a:ext cx="35053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 thought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Current 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Macro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Bench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cc"/>
                </a:solidFill>
                <a:latin typeface="Tahoma"/>
              </a:rPr>
              <a:t>Mission Statement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verall Musi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-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-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-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9-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ere are you now?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curriculum maps (on computer) for what you are CURRENTLY teach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124080"/>
            <a:ext cx="990360" cy="2590920"/>
          </a:xfrm>
          <a:custGeom>
            <a:avLst/>
            <a:gdLst>
              <a:gd name="textAreaLeft" fmla="*/ 0 w 990360"/>
              <a:gd name="textAreaRight" fmla="*/ 357480 w 9903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3505320"/>
            <a:ext cx="5029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l Music K-12, Band 4-12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orus 3-12, Orchestra 4-12, Strings 4-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28600" y="1676520"/>
          <a:ext cx="8610120" cy="4529520"/>
        </p:xfrm>
        <a:graphic>
          <a:graphicData uri="http://schemas.openxmlformats.org/drawingml/2006/table">
            <a:tbl>
              <a:tblPr/>
              <a:tblGrid>
                <a:gridCol w="1721880"/>
                <a:gridCol w="1722240"/>
                <a:gridCol w="1722240"/>
                <a:gridCol w="1721880"/>
                <a:gridCol w="1721880"/>
              </a:tblGrid>
              <a:tr h="94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ki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sess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abul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and 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676520" y="83808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304920"/>
            <a:ext cx="3047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nit/Concept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Nouns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43200" y="2286000"/>
            <a:ext cx="7632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37339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erb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11430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81280" y="533520"/>
            <a:ext cx="2667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ubrics, Tests, Performanc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248520" y="213372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800600" y="35053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rms, Wor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7772400" y="1143000"/>
            <a:ext cx="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705720" y="533520"/>
            <a:ext cx="2133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 Curriculum Guid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 rot="5400000">
            <a:off x="6400440" y="4038480"/>
            <a:ext cx="3352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s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Let’s Put on Master Document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71600"/>
            <a:ext cx="800100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Once the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Mission Statement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is in hand, the existing K-12 curriculum needs to be reviewed to determine which parts of the program  address the mission statement and learning standards.  Map out the program areas that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are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and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are not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consistent with the mis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25a"/>
                </a:solidFill>
                <a:latin typeface="Tahoma"/>
              </a:rPr>
              <a:t>The Gap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ce the task of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urriculum mapping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s completed, identify any content that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not being taught but should be tau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f25a"/>
                </a:solidFill>
                <a:latin typeface="Tahoma"/>
              </a:rPr>
              <a:t>Unneeded Repetitions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re there any areas where there are repetitions that are unneed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50:42Z</dcterms:created>
  <dc:creator>Monica Daigler</dc:creator>
  <dc:description/>
  <dc:language>en-US</dc:language>
  <cp:lastModifiedBy>Monica Daigler</cp:lastModifiedBy>
  <dcterms:modified xsi:type="dcterms:W3CDTF">2009-03-04T14:08:54Z</dcterms:modified>
  <cp:revision>8</cp:revision>
  <dc:subject/>
  <dc:title>Starpoint Music</dc:title>
</cp:coreProperties>
</file>