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0DE4-F480-4CD1-A08C-8048C80B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C3067-5011-401E-A760-5B9885CB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4F53-B778-40C5-BC48-8FA58F16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06CA-0089-4F05-90FD-AE1BC67A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B2D3-A5D0-4781-8562-31BE51E1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E7B4-CA2B-437E-8687-71062EB1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080D-F470-4CE3-8052-14672966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6084-95B4-46E8-9883-27F4D1F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4BD6-7181-4758-9BB0-C93F6C29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2834-F880-4AF1-8E87-5B978199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79DA-E0D8-4B44-8509-945C9D2F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C529-3574-4541-A373-93D92AB1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E977-8113-4811-9ADC-217FBDF0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045A-A96C-4A6F-AC03-DFCD4FA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DD05-949A-4E0F-87CC-0CA4F8AD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9A00-209D-4C5F-9B86-E449991C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04D8-F9C0-4FA5-BE2F-27626386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B10A-0E3B-4913-8607-E45D4F7B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7286-4C0C-48BD-A095-A5E0F9F9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A6BE-83B8-455B-9996-138D39F3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FA9F-CB1E-4C73-84EB-5A4730F9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FB3F-9F9C-4F1B-B1EB-53889BDA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32C2-2993-4697-A2B0-A7DDE53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6F91-7D69-4026-979F-55DB5DC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F0FD-6715-49C8-A1AE-CC9C420A6A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E66E-8298-4D37-95F8-14247ECAA3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tarpoint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bf25a"/>
                </a:solidFill>
                <a:latin typeface="Tahoma"/>
              </a:rPr>
              <a:t>Secure the Learning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let’s take the concepts from the map and see where learning is introduced, developed, secured and extend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will create benchmarks around SECURED lear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Tahoma"/>
              </a:rPr>
              <a:t>Introductions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a pi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how the picture relates to how you feel about curriculum and curriculum ma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Goal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733920"/>
            <a:ext cx="3505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though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urrent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Macro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cc"/>
                </a:solidFill>
                <a:latin typeface="Tahoma"/>
              </a:rPr>
              <a:t>Mission Statement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all Mus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-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are you now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rriculum maps (on computer) for what you are CURRENTLY teach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12408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505320"/>
            <a:ext cx="5029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Music K-12, Band 4-1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rus 3-12, Orchestra 4-12, Strings 4-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28600" y="1676520"/>
          <a:ext cx="8610120" cy="4529520"/>
        </p:xfrm>
        <a:graphic>
          <a:graphicData uri="http://schemas.openxmlformats.org/drawingml/2006/table">
            <a:tbl>
              <a:tblPr/>
              <a:tblGrid>
                <a:gridCol w="1721880"/>
                <a:gridCol w="1722240"/>
                <a:gridCol w="1722240"/>
                <a:gridCol w="1721880"/>
                <a:gridCol w="1721880"/>
              </a:tblGrid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abul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and 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676520" y="8380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30492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/Concep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Nouns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43200" y="228600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37339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r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143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81280" y="533520"/>
            <a:ext cx="2667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ubrics, Tests, Perform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48520" y="21337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00600" y="35053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ms,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5335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 Curriculum Gui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400440" y="40384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Let’s Put on Master Documen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001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nce the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Mission Statemen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is in hand, the existing K-12 curriculum needs to be reviewed to determine which parts of the program  address the mission statement and learning standards.  Map out the program areas tha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consistent with the mi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The Gap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the task of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iculum mapp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completed, identify any content that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 being taught but should be tau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f25a"/>
                </a:solidFill>
                <a:latin typeface="Tahoma"/>
              </a:rPr>
              <a:t>Unneeded Repetition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there any areas where there are repetitions that are unneed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0:42Z</dcterms:created>
  <dc:creator>Monica Daigler</dc:creator>
  <dc:description/>
  <dc:language>en-US</dc:language>
  <cp:lastModifiedBy>Monica Daigler</cp:lastModifiedBy>
  <dcterms:modified xsi:type="dcterms:W3CDTF">2009-03-04T14:08:54Z</dcterms:modified>
  <cp:revision>8</cp:revision>
  <dc:subject/>
  <dc:title>Starpoint Music</dc:title>
</cp:coreProperties>
</file>