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F1C6-8F86-4E8D-967F-95DD0A57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F9859-CD1C-4A62-B6C2-B6A46B33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85716-5D9B-45EC-9395-97FFF9FC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76F71-1A08-45A9-A0D2-8EE28BBD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1318-5E20-49C2-8301-AE4C1B05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C41F-E46D-478B-8DAC-37965353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F7D8-3DE2-48FF-9793-FE89CA78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E038-0469-4121-98B1-08C5DC4E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BAE0-65C8-416B-8C23-52268401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5E40-F552-4312-95DE-FF31AB3D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ED2D-1C13-4C34-B03A-E23E8E4A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F3E2-0EF9-463A-AEF5-3C1604E5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7E57-6B5A-463E-8CAA-F9F0E66F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AFA5-5E0C-4A11-9091-274B8E08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60D7-4691-4E42-8632-FEC085CE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9F78-073A-4CDE-BF5C-318D81CF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E03C-E883-473F-AA4A-95ACA60C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1C3B2-4BCF-42B0-A29B-BEC808A8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54080-68E7-4B69-90BC-BD9D2014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DC96-BA39-42E9-9010-4C00B8BD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88918-C1CA-49D9-B0EF-76A69F17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EB707-1D00-4E8B-8149-C8940B53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AFC6-50D0-4EC2-91A4-88014091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3830C-FE64-46CE-AED7-E8CF3980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83D2-095E-44D7-9CC3-A86F8762785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D01C-AEED-4740-A4F6-8131558A974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tarpoint Music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ebf25a"/>
                </a:solidFill>
                <a:latin typeface="Tahoma"/>
              </a:rPr>
              <a:t>Secure the Learning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w let’s take the concepts from the map and see where learning is introduced, developed, secured and extend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e will create benchmarks around SECURED learn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ffffcc"/>
                </a:solidFill>
                <a:latin typeface="Tahoma"/>
              </a:rPr>
              <a:t>Introductions</a:t>
            </a:r>
            <a:endParaRPr b="0" lang="en-US" sz="7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k a pi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cribe how the picture relates to how you feel about curriculum and curriculum mapp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Your Goals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3733920"/>
            <a:ext cx="35053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y thought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Current M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Macro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Benchm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cc"/>
                </a:solidFill>
                <a:latin typeface="Tahoma"/>
              </a:rPr>
              <a:t>Mission Statement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verall Musi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-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-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-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9-1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ere are you now?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curriculum maps (on computer) for what you are CURRENTLY teach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-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3124080"/>
            <a:ext cx="990360" cy="2590920"/>
          </a:xfrm>
          <a:custGeom>
            <a:avLst/>
            <a:gdLst>
              <a:gd name="textAreaLeft" fmla="*/ 0 w 990360"/>
              <a:gd name="textAreaRight" fmla="*/ 357480 w 9903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3505320"/>
            <a:ext cx="502920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ral Music K-12, Band 4-12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orus 3-12, Orchestra 4-12, Strings 4-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28600" y="1676520"/>
          <a:ext cx="8610120" cy="4529520"/>
        </p:xfrm>
        <a:graphic>
          <a:graphicData uri="http://schemas.openxmlformats.org/drawingml/2006/table">
            <a:tbl>
              <a:tblPr/>
              <a:tblGrid>
                <a:gridCol w="1721880"/>
                <a:gridCol w="1722240"/>
                <a:gridCol w="1722240"/>
                <a:gridCol w="1721880"/>
                <a:gridCol w="1721880"/>
              </a:tblGrid>
              <a:tr h="94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kil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sess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abul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 and 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676520" y="838080"/>
            <a:ext cx="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304920"/>
            <a:ext cx="3047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nit/Concept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(Nouns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743200" y="2286000"/>
            <a:ext cx="7632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373392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erb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114300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81280" y="533520"/>
            <a:ext cx="2667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ubrics, Tests, Performanc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248520" y="213372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800600" y="350532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rms, Word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7772400" y="1143000"/>
            <a:ext cx="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705720" y="533520"/>
            <a:ext cx="2133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 Curriculum Guid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 rot="5400000">
            <a:off x="6400440" y="4038480"/>
            <a:ext cx="33526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Las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Let’s Put on Master Document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371600"/>
            <a:ext cx="800100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Once the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Mission Statement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is in hand, the existing K-12 curriculum needs to be reviewed to determine which parts of the program  address the mission statement and learning standards.  Map out the program areas that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are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and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are not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consistent with the mis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25a"/>
                </a:solidFill>
                <a:latin typeface="Tahoma"/>
              </a:rPr>
              <a:t>The Gap Analy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nce the task of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urriculum mapping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s completed, identify any content that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not being taught but should be tau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f25a"/>
                </a:solidFill>
                <a:latin typeface="Tahoma"/>
              </a:rPr>
              <a:t>Unneeded Repetitions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re there any areas where there are repetitions that are unneed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50:42Z</dcterms:created>
  <dc:creator>Monica Daigler</dc:creator>
  <dc:description/>
  <dc:language>en-US</dc:language>
  <cp:lastModifiedBy>Monica Daigler</cp:lastModifiedBy>
  <dcterms:modified xsi:type="dcterms:W3CDTF">2009-03-04T14:08:54Z</dcterms:modified>
  <cp:revision>8</cp:revision>
  <dc:subject/>
  <dc:title>Starpoint Music</dc:title>
</cp:coreProperties>
</file>