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cartoon4.wav" ContentType="audio/x-wav"/>
  <Override PartName="/ppt/media/applause.wav" ContentType="audio/x-wav"/>
  <Override PartName="/ppt/media/drumroll.wav" ContentType="audio/x-wav"/>
  <Override PartName="/ppt/media/image2.png" ContentType="image/png"/>
  <Override PartName="/ppt/media/cowbell.wav" ContentType="audio/x-wav"/>
  <Override PartName="/ppt/media/kiss2.wav" ContentType="audio/x-wav"/>
  <Override PartName="/ppt/media/image3.png" ContentType="image/png"/>
  <Override PartName="/ppt/media/cashreg.wav" ContentType="audio/x-wav"/>
  <Override PartName="/ppt/media/image4.jpeg" ContentType="image/jpeg"/>
  <Override PartName="/ppt/media/image5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A2DBB0-D80C-4E4B-843D-C5014B0A9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65AE95-376C-4EA8-A612-CE3023997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CBCE12-B136-40FB-A9CA-2371470D8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DF74CD-D0B2-4BD7-8580-275C037F2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81C93-E22A-42FE-868C-AD1CB8A6B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81208-3167-42F4-9CAB-AEFC63B8D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7A04E-EF4B-456B-8590-D65AE9CAF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A703F-9DAA-404E-8961-9682C01B5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8CF99-F095-453A-B784-EF53EBCBA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C4190-346A-4530-926B-1C28F0249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7689E-B394-4FD8-B4B5-A7AA462B2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9B086A-1EEA-4744-847C-41B0031B7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3D0C7-82A2-44D6-AD0A-33885917C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7B735-697D-4D10-8390-26AE3E95D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268C9-CD16-40DD-B8DB-9678396E0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8C5EE-5175-42CD-8681-61B41E419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6D53A-FF1F-44F8-8261-AADD57CD2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E4CD32-249B-410F-B849-F6A2768D4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D1BD98-7469-4E23-84E1-5698D2823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7B5B3C-7FBE-47D3-AD51-469EA1AD2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369BAB-C3FE-4F7D-8CC5-919C941BC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43E069-971C-4B80-92FA-B5B43A6B1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7663E4-4259-46F4-ACE8-A09DC43FF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A3555F-35F3-48FE-B0BF-68ACDBC13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4e617d"/>
                </a:gs>
                <a:gs pos="100000">
                  <a:srgbClr val="4458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2c3a4e"/>
                </a:gs>
                <a:gs pos="100000">
                  <a:srgbClr val="6e87a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2c3a4e"/>
                </a:gs>
                <a:gs pos="100000">
                  <a:srgbClr val="6e87a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6e87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e87ac"/>
                </a:gs>
                <a:gs pos="100000">
                  <a:srgbClr val="2c3a4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e87ac"/>
                </a:gs>
                <a:gs pos="100000">
                  <a:srgbClr val="2c3a4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2c3a4e"/>
                </a:gs>
                <a:gs pos="50000">
                  <a:srgbClr val="253041"/>
                </a:gs>
                <a:gs pos="100000">
                  <a:srgbClr val="2c3a4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2c3a4e"/>
                </a:gs>
                <a:gs pos="100000">
                  <a:srgbClr val="222d3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e87ac"/>
                </a:gs>
                <a:gs pos="100000">
                  <a:srgbClr val="2c3a4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2c3a4e"/>
                </a:gs>
                <a:gs pos="100000">
                  <a:srgbClr val="6e87a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2c3a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2c3a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2c3a4e"/>
                </a:gs>
                <a:gs pos="50000">
                  <a:srgbClr val="2a374b"/>
                </a:gs>
                <a:gs pos="100000">
                  <a:srgbClr val="2c3a4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445876"/>
                </a:gs>
                <a:gs pos="100000">
                  <a:srgbClr val="2c3a4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2c3a4e"/>
                </a:gs>
                <a:gs pos="50000">
                  <a:srgbClr val="6e87ac"/>
                </a:gs>
                <a:gs pos="100000">
                  <a:srgbClr val="2c3a4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2c3a4e"/>
                </a:gs>
                <a:gs pos="100000">
                  <a:srgbClr val="6e87a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2c3a4e"/>
                </a:gs>
                <a:gs pos="50000">
                  <a:srgbClr val="2a374b"/>
                </a:gs>
                <a:gs pos="100000">
                  <a:srgbClr val="2c3a4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e87ac"/>
                </a:gs>
                <a:gs pos="100000">
                  <a:srgbClr val="2c3a4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2c3a4e"/>
                </a:gs>
                <a:gs pos="100000">
                  <a:srgbClr val="6e87a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44587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445876"/>
                </a:gs>
                <a:gs pos="50000">
                  <a:srgbClr val="495c79"/>
                </a:gs>
                <a:gs pos="100000">
                  <a:srgbClr val="4458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50487-5B58-4D40-95AF-AD5D6D4C1ACC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4e617d"/>
                </a:gs>
                <a:gs pos="100000">
                  <a:srgbClr val="4458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2c3a4e"/>
                </a:gs>
                <a:gs pos="100000">
                  <a:srgbClr val="6e87a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2c3a4e"/>
                </a:gs>
                <a:gs pos="100000">
                  <a:srgbClr val="6e87a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6e87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e87ac"/>
                </a:gs>
                <a:gs pos="100000">
                  <a:srgbClr val="2c3a4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e87ac"/>
                </a:gs>
                <a:gs pos="100000">
                  <a:srgbClr val="2c3a4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2c3a4e"/>
                </a:gs>
                <a:gs pos="50000">
                  <a:srgbClr val="253041"/>
                </a:gs>
                <a:gs pos="100000">
                  <a:srgbClr val="2c3a4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2c3a4e"/>
                </a:gs>
                <a:gs pos="100000">
                  <a:srgbClr val="222d3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e87ac"/>
                </a:gs>
                <a:gs pos="100000">
                  <a:srgbClr val="2c3a4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2c3a4e"/>
                </a:gs>
                <a:gs pos="100000">
                  <a:srgbClr val="6e87a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2c3a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2c3a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2c3a4e"/>
                </a:gs>
                <a:gs pos="50000">
                  <a:srgbClr val="2a374b"/>
                </a:gs>
                <a:gs pos="100000">
                  <a:srgbClr val="2c3a4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445876"/>
                </a:gs>
                <a:gs pos="100000">
                  <a:srgbClr val="2c3a4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2c3a4e"/>
                </a:gs>
                <a:gs pos="50000">
                  <a:srgbClr val="6e87ac"/>
                </a:gs>
                <a:gs pos="100000">
                  <a:srgbClr val="2c3a4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2c3a4e"/>
                </a:gs>
                <a:gs pos="100000">
                  <a:srgbClr val="6e87a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2c3a4e"/>
                </a:gs>
                <a:gs pos="50000">
                  <a:srgbClr val="2a374b"/>
                </a:gs>
                <a:gs pos="100000">
                  <a:srgbClr val="2c3a4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e87ac"/>
                </a:gs>
                <a:gs pos="100000">
                  <a:srgbClr val="2c3a4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2c3a4e"/>
                </a:gs>
                <a:gs pos="100000">
                  <a:srgbClr val="6e87a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44587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445876"/>
                </a:gs>
                <a:gs pos="50000">
                  <a:srgbClr val="495c79"/>
                </a:gs>
                <a:gs pos="100000">
                  <a:srgbClr val="4458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7EECB-FF54-4B0B-A31A-42560FB13C8F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www.tooter4kids.com/Frogs/lifecycle.jpg&amp;imgrefurl=http://www.tooter4kids.com/Frogs/life_cycle_of_frogs.htm&amp;h=312&amp;w=315&amp;sz=16&amp;tbnid=QWbVE-q8XCAJ::&amp;tbnh=116&amp;tbnw=117&amp;prev=/images%3Fq%3Dlife%2Bcycle%2Bimage&amp;hl=en&amp;usg=__XMMSFG9c_iCubGx3B9vxq_gG5Xg=&amp;sa=X&amp;oi=image_result&amp;resnum=4&amp;ct=image&amp;cd=1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audio" Target="../media/kiss2.wav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audio" Target="../media/cowbell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kiss2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rtoon4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33160" y="990360"/>
            <a:ext cx="792468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Guess the Covered Word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veloped by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nica Burgio Daigl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ulie Loruss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33520" y="1828800"/>
            <a:ext cx="777240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600" spc="-1" strike="noStrike">
                <a:solidFill>
                  <a:srgbClr val="ffffff"/>
                </a:solidFill>
                <a:latin typeface="Times New Roman"/>
              </a:rPr>
              <a:t>Tadpole</a:t>
            </a:r>
            <a:endParaRPr b="0" lang="en-US" sz="15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609480" y="1295280"/>
            <a:ext cx="7696440" cy="32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800" spc="-1" strike="noStrike">
                <a:solidFill>
                  <a:srgbClr val="ffffff"/>
                </a:solidFill>
                <a:latin typeface="Arial"/>
              </a:rPr>
              <a:t>Seed</a:t>
            </a:r>
            <a:endParaRPr b="0" lang="en-US" sz="20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609480" y="1143000"/>
            <a:ext cx="7696440" cy="32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800" spc="-1" strike="noStrike">
                <a:solidFill>
                  <a:srgbClr val="ffffff"/>
                </a:solidFill>
                <a:latin typeface="Arial"/>
              </a:rPr>
              <a:t>Pupa</a:t>
            </a:r>
            <a:endParaRPr b="0" lang="en-US" sz="20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ffffff"/>
                </a:solidFill>
                <a:latin typeface="Arial"/>
              </a:rPr>
              <a:t>Turn and Talk</a:t>
            </a:r>
            <a:br>
              <a:rPr sz="5600"/>
            </a:br>
            <a:br>
              <a:rPr sz="5600"/>
            </a:br>
            <a:br>
              <a:rPr sz="5600"/>
            </a:br>
            <a:r>
              <a:rPr b="0" lang="en-US" sz="5600" spc="-1" strike="noStrike">
                <a:solidFill>
                  <a:srgbClr val="ffffff"/>
                </a:solidFill>
                <a:latin typeface="Arial"/>
              </a:rPr>
              <a:t>Explain this diagram to your partner</a:t>
            </a:r>
            <a:endParaRPr b="0" lang="en-US" sz="5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609480" y="1905120"/>
            <a:ext cx="769644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9" name="" descr="http://www.tooter4kids.com/Frogs/life_cycle_of_frogs.htm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438280" y="1219320"/>
            <a:ext cx="449604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533520" y="762120"/>
            <a:ext cx="7696080" cy="34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Arial"/>
              </a:rPr>
              <a:t>Characteristic</a:t>
            </a:r>
            <a:endParaRPr b="0" lang="en-US" sz="8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7724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500" spc="-1" strike="noStrike">
                <a:solidFill>
                  <a:srgbClr val="006666"/>
                </a:solidFill>
                <a:latin typeface="Arial"/>
              </a:rPr>
              <a:t>GREAT JOB!</a:t>
            </a:r>
            <a:endParaRPr b="0" lang="en-US" sz="10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3809880" y="3352680"/>
            <a:ext cx="166716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kiss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5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5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600" spc="-1" strike="noStrike">
                <a:solidFill>
                  <a:srgbClr val="ffffff"/>
                </a:solidFill>
                <a:latin typeface="Arial"/>
              </a:rPr>
              <a:t>Say It!</a:t>
            </a:r>
            <a:endParaRPr b="0" lang="en-US" sz="7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79246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>
              <a:spcBef>
                <a:spcPts val="134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tadpole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r">
              <a:spcBef>
                <a:spcPts val="134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seed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r">
              <a:spcBef>
                <a:spcPts val="134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life cycle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r">
              <a:spcBef>
                <a:spcPts val="134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characteristic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r">
              <a:spcBef>
                <a:spcPts val="134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pupa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990720" y="1828800"/>
            <a:ext cx="2057400" cy="609480"/>
          </a:xfrm>
          <a:prstGeom prst="rightArrow">
            <a:avLst>
              <a:gd name="adj1" fmla="val 50000"/>
              <a:gd name="adj2" fmla="val 84392"/>
            </a:avLst>
          </a:prstGeom>
          <a:solidFill>
            <a:srgbClr val="376ea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914400" y="2819520"/>
            <a:ext cx="2057400" cy="609480"/>
          </a:xfrm>
          <a:prstGeom prst="rightArrow">
            <a:avLst>
              <a:gd name="adj1" fmla="val 50000"/>
              <a:gd name="adj2" fmla="val 84392"/>
            </a:avLst>
          </a:prstGeom>
          <a:solidFill>
            <a:srgbClr val="376ea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914400" y="3809880"/>
            <a:ext cx="2057400" cy="609840"/>
          </a:xfrm>
          <a:prstGeom prst="rightArrow">
            <a:avLst>
              <a:gd name="adj1" fmla="val 50000"/>
              <a:gd name="adj2" fmla="val 84342"/>
            </a:avLst>
          </a:prstGeom>
          <a:solidFill>
            <a:srgbClr val="376ea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914400" y="4724280"/>
            <a:ext cx="2057400" cy="609840"/>
          </a:xfrm>
          <a:prstGeom prst="rightArrow">
            <a:avLst>
              <a:gd name="adj1" fmla="val 50000"/>
              <a:gd name="adj2" fmla="val 84342"/>
            </a:avLst>
          </a:prstGeom>
          <a:solidFill>
            <a:srgbClr val="376ea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914400" y="5638680"/>
            <a:ext cx="2057400" cy="609840"/>
          </a:xfrm>
          <a:prstGeom prst="rightArrow">
            <a:avLst>
              <a:gd name="adj1" fmla="val 50000"/>
              <a:gd name="adj2" fmla="val 84342"/>
            </a:avLst>
          </a:prstGeom>
          <a:solidFill>
            <a:srgbClr val="376ea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457200" y="533520"/>
            <a:ext cx="8229600" cy="561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All living things go through these stages, from birth to death.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3124080" y="3581280"/>
            <a:ext cx="2540160" cy="254016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3352680" y="396252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ife Cycl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324480" y="2895480"/>
            <a:ext cx="2540160" cy="25401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990720" y="533520"/>
            <a:ext cx="4952880" cy="495288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400800" y="2889360"/>
            <a:ext cx="23652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pupa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7" dur="50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owbe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52280" y="457200"/>
            <a:ext cx="8229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Part of the plant that stores food.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962520" y="2743200"/>
            <a:ext cx="2539800" cy="254016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4267080" y="2835360"/>
            <a:ext cx="167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seed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8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kiss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457200" y="533520"/>
            <a:ext cx="8229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A feature or trait of an organism.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6324480" y="2895480"/>
            <a:ext cx="2540160" cy="25401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324480" y="2971800"/>
            <a:ext cx="266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aracteristi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2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06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533520" y="1371600"/>
            <a:ext cx="82296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6324480" y="2895480"/>
            <a:ext cx="2540160" cy="254016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914400" y="609480"/>
            <a:ext cx="4648320" cy="457200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6477120" y="3200400"/>
            <a:ext cx="228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adpol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0" dur="2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457200" y="533520"/>
            <a:ext cx="82296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Talk with a partner about how you could use this game in your classroom.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4648320" y="3809880"/>
            <a:ext cx="253980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toon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685800" y="457200"/>
            <a:ext cx="80773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Arial"/>
              </a:rPr>
              <a:t>Copy each word and draw a picture for it.</a:t>
            </a:r>
            <a:endParaRPr b="0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2T21:29:26Z</dcterms:created>
  <dc:creator>Piedmont Elementary</dc:creator>
  <dc:description/>
  <dc:language>en-US</dc:language>
  <cp:lastModifiedBy>Staff-D620</cp:lastModifiedBy>
  <dcterms:modified xsi:type="dcterms:W3CDTF">2008-10-24T18:12:04Z</dcterms:modified>
  <cp:revision>5</cp:revision>
  <dc:subject/>
  <dc:title>Guess the Covered Word</dc:title>
</cp:coreProperties>
</file>