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drumroll.wav" ContentType="audio/x-wav"/>
  <Override PartName="/ppt/media/image2.png" ContentType="image/png"/>
  <Override PartName="/ppt/media/cowbell.wav" ContentType="audio/x-wav"/>
  <Override PartName="/ppt/media/kiss2.wav" ContentType="audio/x-wav"/>
  <Override PartName="/ppt/media/image3.png" ContentType="image/png"/>
  <Override PartName="/ppt/media/cashreg.wav" ContentType="audio/x-wav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71A6-BE8C-40D7-94E4-A11ACD43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6D77-53EA-4619-BCB8-7E10CD66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D975-DA2A-43B9-A848-6199429B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F4D8-A538-4360-B4E4-79A6F7C1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6416-BAF3-43DB-A73C-2C340268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F886-9A1C-43FA-9F21-BC762804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9FE4-F9F0-4B33-BEE8-CE97D0C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7D90-EABB-4871-8E4A-B5A877E5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0A3F-C2AB-4BEB-8AF5-5ACFE19E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3A1D-CF92-4F7B-A576-E4C433BE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FC63-2468-4D1C-8A75-1FC3BFF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1BB4-04FA-4D8B-A81E-9102948A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BDC5-148B-4713-88EF-3D989E3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5888-E5FE-49FD-A3E7-E6AB5AD3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C086-7237-4E51-A014-FA751968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DCCD-A825-4326-B09A-F86AF1B1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485C-523A-4636-8D56-5B56D4BC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DCF1-4CCA-4215-8084-A748232F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29AF-AA49-4981-8770-0122A1B5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F316-EF5D-4176-8B11-17BB9EA2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329D-8D9E-47BD-8FE5-13E7C6E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94EC-35D8-4456-B338-F606916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5D8C-C1D8-48ED-AAA0-41B47BA7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8EA7-FD0E-44FA-A5A5-E27E425F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42B7-EA3A-475E-851F-20B63F078A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CC4D-D7CF-4BF3-AE44-8C04764C6D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oter4kids.com/Frogs/lifecycle.jpg&amp;imgrefurl=http://www.tooter4kids.com/Frogs/life_cycle_of_frogs.htm&amp;h=312&amp;w=315&amp;sz=16&amp;tbnid=QWbVE-q8XCAJ::&amp;tbnh=116&amp;tbnw=117&amp;prev=/images%3Fq%3Dlife%2Bcycle%2Bimage&amp;hl=en&amp;usg=__XMMSFG9c_iCubGx3B9vxq_gG5Xg=&amp;sa=X&amp;oi=image_result&amp;resnum=4&amp;ct=image&amp;cd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owbell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ca Burgio Daig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Loru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82880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ffff"/>
                </a:solidFill>
                <a:latin typeface="Times New Roman"/>
              </a:rPr>
              <a:t>Tadpole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29528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1143000"/>
            <a:ext cx="769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Turn and Talk</a:t>
            </a:r>
            <a:br>
              <a:rPr sz="5600"/>
            </a:br>
            <a:br>
              <a:rPr sz="5600"/>
            </a:b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Explain this diagram to your partner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905120"/>
            <a:ext cx="7696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http://www.tooter4kids.com/Frogs/life_cycle_of_frog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l living things go through these stages, from birth to death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52680" y="39625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2889360"/>
            <a:ext cx="236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up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of the plant that stores foo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7080" y="283536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533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feature or trait of an organis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324480" y="2971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3716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77120" y="32004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alk with a partner about how you could use this game in your classroo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5720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opy each word and draw a picture for it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Staff-D620</cp:lastModifiedBy>
  <dcterms:modified xsi:type="dcterms:W3CDTF">2008-10-24T18:12:04Z</dcterms:modified>
  <cp:revision>5</cp:revision>
  <dc:subject/>
  <dc:title>Guess the Covered Word</dc:title>
</cp:coreProperties>
</file>