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drumroll.wav" ContentType="audio/x-wav"/>
  <Override PartName="/ppt/media/image2.png" ContentType="image/png"/>
  <Override PartName="/ppt/media/cowbell.wav" ContentType="audio/x-wav"/>
  <Override PartName="/ppt/media/kiss2.wav" ContentType="audio/x-wav"/>
  <Override PartName="/ppt/media/image3.png" ContentType="image/png"/>
  <Override PartName="/ppt/media/cashreg.wav" ContentType="audio/x-wav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7E97-751C-4EC6-86E1-DAA0E499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E23D-E59B-4398-9467-66B4A099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55DB-9EA8-48B8-A804-3D4762C9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2832-FF1D-40E9-AD8E-B62D232B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C62-C673-4A94-B7A6-BED2C1CF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6264-281D-4457-A596-963CF676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1801-F269-4A8D-8909-DF1DA3F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BD3E-D170-437F-9FF7-AFF2FB3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6DED-11D6-4C4D-8DB3-4652EF7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ADA9-A0FB-4733-AE19-AF6705A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A3C6-AD98-471C-92BE-6460A88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D42A-CB20-4D38-B651-7A1E884B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AC6-E36A-4D6E-BBBE-900A961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03EF-D660-410B-BD3E-FFCEFCC8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1F6A-58E1-44EC-B9F1-1240A3AA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B49C-73E8-4335-ACAA-29402C28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34B0-71B0-41CB-B7B2-74045115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4D52-4210-4618-9C11-DF0A656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47DD-0E63-40FB-9997-8753A9A2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A27D-5864-4EF5-894D-8177044B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6FD4-AA75-4A42-8527-C33F004E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3DA9-DEF0-4878-9474-C15B548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0672-258F-46DB-A9B2-916F9E0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FA0E-5C90-4A52-B62A-D32C926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C42-BEE6-40E4-AEAA-7F52361A9B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EC36-AA83-4A1C-90AF-23F26009A3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oter4kids.com/Frogs/lifecycle.jpg&amp;imgrefurl=http://www.tooter4kids.com/Frogs/life_cycle_of_frogs.htm&amp;h=312&amp;w=315&amp;sz=16&amp;tbnid=QWbVE-q8XCAJ::&amp;tbnh=116&amp;tbnw=117&amp;prev=/images%3Fq%3Dlife%2Bcycle%2Bimage&amp;hl=en&amp;usg=__XMMSFG9c_iCubGx3B9vxq_gG5Xg=&amp;sa=X&amp;oi=image_result&amp;resnum=4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wbe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ca Burgio Daig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Lor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8288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29528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14300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Turn and Talk</a:t>
            </a: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xplain this diagram to your partn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696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http://www.tooter4kids.com/Frogs/life_cycle_of_frog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living things go through these stages, from birth to death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39625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288936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of the plant that stores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8353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533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eature or trait of an organis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244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3716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alk with a partner about how you could use this game in your classroo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py each word and draw a picture for i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Staff-D620</cp:lastModifiedBy>
  <dcterms:modified xsi:type="dcterms:W3CDTF">2008-10-24T18:12:04Z</dcterms:modified>
  <cp:revision>5</cp:revision>
  <dc:subject/>
  <dc:title>Guess the Covered Word</dc:title>
</cp:coreProperties>
</file>