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BACB-ADCF-4240-803B-8818431EB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– It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4CE-A15C-477A-BFAB-2508920C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28CF-704F-4641-B385-921ED499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A06-E622-437B-B2A2-F224D0A3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9A9-31A8-496A-9576-B584961B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650C-1163-40B5-A067-17574191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1AE-20E3-43AD-A0FA-A889B2CB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D9A-81A6-4009-8356-E24375A6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4E7-1F02-42F6-A77F-624040F7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840A-5C18-4FA6-9911-1B25ED02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7E13-C971-4A3C-8D71-79045BF4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681A-091D-4392-8B76-79DF94C8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0B1-C163-439E-920B-2422BFE8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090F-7405-466F-8C15-8488F3FC5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Men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y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p at Parking Lot on Way Ou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 paper 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i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es of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tents (grade lev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289400" cy="6019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934320" y="914400"/>
            <a:ext cx="1038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Ha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4648320"/>
            <a:ext cx="10670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Sca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91004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Fa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4648320"/>
            <a:ext cx="2210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Saxapho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438800" cy="4421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Carro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51055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Brea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Science Men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ed at 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rade da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ized we had gaps when looking at district curric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eded to align with the state (matri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ine Matrix as a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 crazy matri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NYS Core Curriculum is arranged K-4…not by grad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ooked at the trends (how many times each major understanding was asked) – it’s in descending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ed at the GI gaps (highlighted in yel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ed what was taught, used gaps to develop recommendations for additions/del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urriculum mapp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curriculum mapping help the classroom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curriculum mapping help our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: Post-It notes (cars)—questions, comments,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Aligned Curriculum--Carous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Look at the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maps with their grade level and grade level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21:15:17Z</dcterms:created>
  <dc:creator>julie gajewski</dc:creator>
  <dc:description/>
  <dc:language>en-US</dc:language>
  <cp:lastModifiedBy>julie gajewski</cp:lastModifiedBy>
  <dcterms:modified xsi:type="dcterms:W3CDTF">2009-03-04T22:18:47Z</dcterms:modified>
  <cp:revision>2</cp:revision>
  <dc:subject/>
  <dc:title>Science Mentor</dc:title>
</cp:coreProperties>
</file>