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D5D9-15D7-44C4-A926-BDF452258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– It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55E-DA82-49D2-952C-7738F0C5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C17F-2500-4436-A795-31256244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0E3-C4BC-40EB-9707-7021F35B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588A-5018-455D-840A-30A97EE3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8BA1-4A49-4981-847E-85BA2933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F59A-D847-47AA-A527-AB04EBFC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5137-21AE-4450-AAB6-F64695D2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0822-E292-4813-A0C8-BB1E1ECA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FBE7-A13E-4195-9A8C-C51F22AA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090-33F8-4E70-8127-13C2634C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DA0-A02C-47D1-8439-EDE78079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D20-0D55-4B14-A908-A2A155C5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45D5-3A64-4FF6-88DE-B3729E16E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Men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y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p at Parking Lot on Way Ou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 paper –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it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es of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tents (grade lev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289400" cy="6019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934320" y="914400"/>
            <a:ext cx="1038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Ha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4648320"/>
            <a:ext cx="10670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Sca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91004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7010280" y="7621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Fa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4648320"/>
            <a:ext cx="2210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Saxapho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438800" cy="4421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7010280" y="7621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Carro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51055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Brea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Science Men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ed at 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rade da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lized we had gaps when looking at district curric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eded to align with the state (matri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ine Matrix as a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 crazy matri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 NYS Core Curriculum is arranged K-4…not by grad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ooked at the trends (how many times each major understanding was asked) – it’s in descending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ed at the GI gaps (highlighted in yel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ed what was taught, used gaps to develop recommendations for additions/del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urriculum mapp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curriculum mapping help the classroom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curriculum mapping help our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: Post-It notes (cars)—questions, comments,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Aligned Curriculum--Carous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Look at the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maps with their grade level and grade level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own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21:15:17Z</dcterms:created>
  <dc:creator>julie gajewski</dc:creator>
  <dc:description/>
  <dc:language>en-US</dc:language>
  <cp:lastModifiedBy>julie gajewski</cp:lastModifiedBy>
  <dcterms:modified xsi:type="dcterms:W3CDTF">2009-03-04T22:18:47Z</dcterms:modified>
  <cp:revision>2</cp:revision>
  <dc:subject/>
  <dc:title>Science Mentor</dc:title>
</cp:coreProperties>
</file>