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3568-46E3-4FF6-9411-CC7A2C1E6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– It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B5D-DEC6-450C-9072-068DD418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C29-B4AB-4163-98F7-AA6E6396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808-F886-420C-BE8B-19814990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D50-F3BD-495A-9384-10E08E7C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4BE-93D8-497A-91F1-B662DDB7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0E7-0883-4602-8CFA-AA411823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979-F0A9-4D77-A3FF-A7DBB139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BFE-602E-4AD8-A322-45ED9564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EE8-3068-49EC-997C-E2344FC4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325-1029-4766-B177-BF7AEEF7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BFE-1689-466A-9C84-699B61A2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D02-7B68-4BE0-A104-68F4E4A7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1153-C546-41F4-BEFD-17AB95CD1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Men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at Parking Lot on Way O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 paper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i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es of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tents (grade lev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289400" cy="6019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934320" y="914400"/>
            <a:ext cx="103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H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4648320"/>
            <a:ext cx="10670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Sc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91004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Fa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46483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Saxaph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438800" cy="4421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Carro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51055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Brea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Science Men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ed at 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rade da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ized we had gaps when looking at district curric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eded to align with the state (matri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ine Matrix as a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crazy matri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NYS Core Curriculum is arranged K-4…not by grad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ooked at the trends (how many times each major understanding was asked) – it’s in descending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ed at the GI gaps (highlighted in yel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what was taught, used gaps to develop recommendations for additions/del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urriculum map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curriculum mapping help the classroom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curriculum mapping help our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: Post-It notes (cars)—questions, comments,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Aligned Curriculum--Carou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Look at th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maps with their grade level and grade level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1:15:17Z</dcterms:created>
  <dc:creator>julie gajewski</dc:creator>
  <dc:description/>
  <dc:language>en-US</dc:language>
  <cp:lastModifiedBy>julie gajewski</cp:lastModifiedBy>
  <dcterms:modified xsi:type="dcterms:W3CDTF">2009-03-04T22:18:47Z</dcterms:modified>
  <cp:revision>2</cp:revision>
  <dc:subject/>
  <dc:title>Science Mentor</dc:title>
</cp:coreProperties>
</file>