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2D88-DACA-465E-8B9A-E81361F92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– It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DCC7-AC9D-48A5-B6F0-004E98F7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3F9B-D1EC-4EEA-BDBB-012558C1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C3CE-D190-4F7C-AA0E-E8CD417D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BA05-82ED-49B5-A199-3F1DCD7C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6676-F897-497B-960D-3014BCA8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87FE-FBC9-42CB-BC83-A4D3905A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E9EE-A862-4BE9-9F85-C387FC4B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69E3-FA20-4254-A66E-56DFA5FC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3D04-75EF-4C74-8C80-8444D788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A73D-8DF5-4FD2-88FA-8B89D77A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B7EA-8B7A-4358-B916-470F07C5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F5C3-37A4-4E9B-A59F-FA0D1AF0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992D-FF62-49C8-80A0-A595FB164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Men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y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p at Parking Lot on Way Ou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r paper –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it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es of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tents (grade lev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289400" cy="6019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934320" y="914400"/>
            <a:ext cx="1038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Ha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4648320"/>
            <a:ext cx="10670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 Scar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4910040" cy="5715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7010280" y="7621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Fa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4648320"/>
            <a:ext cx="2210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Saxaphon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438800" cy="4421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7010280" y="7621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Carro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51055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 Brea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Science Men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ed at 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rade dat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lized we had gaps when looking at district curricul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eded to align with the state (matri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ine Matrix as a 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 crazy matri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 NYS Core Curriculum is arranged K-4…not by grad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looked at the trends (how many times each major understanding was asked) – it’s in descending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ed at the GI gaps (highlighted in yel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ed what was taught, used gaps to develop recommendations for additions/del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urriculum mapp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curriculum mapping help the classroom teac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curriculum mapping help our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: Post-It notes (cars)—questions, comments,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 of Aligned Curriculum--Carous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Look at the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maps with their grade level and grade level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down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21:15:17Z</dcterms:created>
  <dc:creator>julie gajewski</dc:creator>
  <dc:description/>
  <dc:language>en-US</dc:language>
  <cp:lastModifiedBy>julie gajewski</cp:lastModifiedBy>
  <dcterms:modified xsi:type="dcterms:W3CDTF">2009-03-04T22:18:47Z</dcterms:modified>
  <cp:revision>2</cp:revision>
  <dc:subject/>
  <dc:title>Science Mentor</dc:title>
</cp:coreProperties>
</file>