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B7D-6854-48B5-A463-68BAD85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6D6-FC1A-4DD7-9313-FA00F37A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1C0-AF42-4674-8411-591B8A1B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741-CF75-44F6-A40F-09BB5083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0F6A-A991-4A34-A091-D5FE9D7B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0E9-439D-4DE3-AA62-7279EE54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F3C-ADA5-44F4-BAE5-00ABF12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37A-A6E1-41A7-8A55-F6D16B9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E2B0-6938-4BF9-8337-DC1F12D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782-12F5-480E-ACBD-84362A95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C1B-797A-487B-A14F-5F27B3F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6A6-2959-4AD1-B0E6-C49961D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4B15-67C1-48F3-924B-559178A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383-3B26-4D66-A0D1-009067F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685-1147-4177-AE01-E6E83E4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D03C-AF3D-4DED-94E3-937AA369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905D-DC0F-45EB-A539-ADB1F6ED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500-D68F-49FF-BE94-E6608066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293-6757-4ED4-A08C-A94C5DAD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474-3387-4EEB-958C-B9D90153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AE-8F6F-4895-9D55-E780274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90B-E303-4070-92E9-085BE93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877-2A78-4984-9C1C-F2C98D46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839-C6B5-447F-880F-C1AA403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43B-2C41-4FDB-9B70-FE7EA76224D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BBD-F6A8-432D-8D28-3428916C894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Monica Daigler</cp:lastModifiedBy>
  <dcterms:modified xsi:type="dcterms:W3CDTF">2009-07-22T12:08:05Z</dcterms:modified>
  <cp:revision>10</cp:revision>
  <dc:subject/>
  <dc:title>Introductions</dc:title>
</cp:coreProperties>
</file>