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4EC-C0FA-4430-883C-9C505051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414-0C11-4F97-BAE6-706F40E8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151-C264-40F3-B70E-F3D1E4F1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154-EE09-4509-8FE0-1F639EC7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E2CF-63CD-4ADC-AF95-D2ADCCAD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DECB-2B76-453F-A3B9-2112ADB0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707C-6169-413D-AE76-3C8A8213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4A6-78F6-499C-88B8-70D11B15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A4C-C254-4260-A129-014AED68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B1E6-62C5-4326-82B6-0C14E84B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0CD4-3B10-47A0-B087-EDED822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70C-388C-4F03-95CD-0FD8E841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388-39D5-4CAB-A3B4-A3A77B7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06C1-4E39-40AE-A076-DB7ED8A7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111-9126-46E5-9F1C-212D4FE1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7A91-C458-472D-BBA3-60FF2929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2E3B-1811-4AB2-AA6A-75159B50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F3F-244E-4B58-9444-FCA1441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DDD-2B54-49F5-9899-1BF2431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64B-EA1F-4E05-9C7E-041AB197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309-7008-43B4-878C-3DB0CDB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E60-3384-43E3-8BC4-CA6F55A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D5E-364F-4350-B034-16A1897A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417-23EF-47F3-82CD-E09C7D9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1C94-CE97-4846-BDBC-F698D222F8F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5C41-0126-45DA-A5B9-C258C7842F6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Monica Daigler</cp:lastModifiedBy>
  <dcterms:modified xsi:type="dcterms:W3CDTF">2009-07-22T12:08:05Z</dcterms:modified>
  <cp:revision>10</cp:revision>
  <dc:subject/>
  <dc:title>Introductions</dc:title>
</cp:coreProperties>
</file>